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9543-D40A-4405-BD58-389C72AE3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AB6D-A7AC-4ACF-A118-431A51667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7C36-D705-4545-A939-CE622F6F5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151F-95DF-4327-A810-8C2A46F5D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766D-48CF-4198-9E8D-4EAE36DA4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3C43-2341-4334-B4EE-A346EE109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6234-F9F3-4634-A285-FBC907F17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C708-A6E7-4B85-8AB2-B37312F35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831C-02C6-4E51-8462-87E415741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F0AA-7409-4BFD-B6F4-8E78A4B7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7D7E-6DB0-4557-B6AA-3BD962DF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529B-10A4-4BA2-9D30-EB8EF298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59B19-E45D-4B0E-B350-6C9723263F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tributed DBMS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361960"/>
            <a:ext cx="6858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vered top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arencies in DDB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chitecture of DDB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gmentation, replication, 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s and role of frag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s and role of re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cation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of sche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ptual schema: the description of the modeled world (a pseudo code is shown he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LATION EMPLOYEE [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KEY = {EMPLOYEE_NUMBER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TTRIBUTES =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MPLOYEE_NUMBER: CHARACTER(9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MPLOYEE_NAME: CHARACTER(15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ITLE: CHARACTER(10) }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LATION TITLE_SALARY [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KEY = {TITLE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TTRIBUTES =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ITLE: CHARACTER(10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ALARY: NUMERIC(6) } 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of sche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822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 view: description of physical re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ERNAL_REL EMP [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DEX ON E# CALL EMNIX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ELD =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#: BYTE(9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_NAME: BYTE(15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IT: BYTE(10) }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 view: a portion of the database in the form that conforms the user’s needs (SQL-like notation shown he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VIEW PAYROLL (ENO, ENAME, SAL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 SELECT EMPLOYEE.EMPLOYEE_NUMBER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MPLOYEE.EMPLOYEE_NAM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ITLE_SALARY.SALA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MPLOYEE, TITLE_SALAR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MPLOYEE.TITLE=TITLE_SALARY.TIT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rchitectural models for Distributed DBM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BMS implementation alterna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276720" y="3276720"/>
            <a:ext cx="358128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05120" y="4267080"/>
            <a:ext cx="358128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905120" y="3276360"/>
            <a:ext cx="137160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905120" y="4572000"/>
            <a:ext cx="13716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5486400" y="4572000"/>
            <a:ext cx="13716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486400" y="3276360"/>
            <a:ext cx="137160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657600" y="4572000"/>
            <a:ext cx="13716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657600" y="3276360"/>
            <a:ext cx="137160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57600" y="42670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29200" y="32767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276720" y="2514240"/>
            <a:ext cx="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76720" y="4572000"/>
            <a:ext cx="4724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1066320" y="4572000"/>
            <a:ext cx="221004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85040" y="2590920"/>
            <a:ext cx="123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29400" y="4253040"/>
            <a:ext cx="109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utonom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31840" y="6157800"/>
            <a:ext cx="139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terogene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86200" y="1523880"/>
            <a:ext cx="2743200" cy="337320"/>
          </a:xfrm>
          <a:prstGeom prst="borderCallout2">
            <a:avLst>
              <a:gd name="adj1" fmla="val 18750"/>
              <a:gd name="adj2" fmla="val -8333"/>
              <a:gd name="adj3" fmla="val 33027"/>
              <a:gd name="adj4" fmla="val -12560"/>
              <a:gd name="adj5" fmla="val 525157"/>
              <a:gd name="adj6" fmla="val -2267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tr. homogeneous DB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81480" y="1981080"/>
            <a:ext cx="2878200" cy="337320"/>
          </a:xfrm>
          <a:prstGeom prst="borderCallout2">
            <a:avLst>
              <a:gd name="adj1" fmla="val 18750"/>
              <a:gd name="adj2" fmla="val -8333"/>
              <a:gd name="adj3" fmla="val 33027"/>
              <a:gd name="adj4" fmla="val -4523"/>
              <a:gd name="adj5" fmla="val 373023"/>
              <a:gd name="adj6" fmla="val -655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tr. federated DB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2438280"/>
            <a:ext cx="2514600" cy="337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655" y="7134"/>
                </a:moveTo>
                <a:lnTo>
                  <a:pt x="-682" y="7134"/>
                </a:lnTo>
                <a:lnTo>
                  <a:pt x="-682" y="37255"/>
                </a:lnTo>
                <a:lnTo>
                  <a:pt x="6938" y="50062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tr. multidatabase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800360"/>
            <a:ext cx="1676520" cy="824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982" y="2957"/>
                </a:moveTo>
                <a:lnTo>
                  <a:pt x="-3436" y="2957"/>
                </a:lnTo>
                <a:lnTo>
                  <a:pt x="-3436" y="33509"/>
                </a:lnTo>
                <a:lnTo>
                  <a:pt x="33072" y="72261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mogeneous multiple DBMS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composit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53080" y="5638680"/>
            <a:ext cx="2084400" cy="580680"/>
          </a:xfrm>
          <a:prstGeom prst="borderCallout1">
            <a:avLst>
              <a:gd name="adj1" fmla="val 18750"/>
              <a:gd name="adj2" fmla="val -8333"/>
              <a:gd name="adj3" fmla="val -12574"/>
              <a:gd name="adj4" fmla="val -52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terogeneous multidatabase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6019920"/>
            <a:ext cx="2361960" cy="580680"/>
          </a:xfrm>
          <a:prstGeom prst="borderCallout2">
            <a:avLst>
              <a:gd name="adj1" fmla="val 18750"/>
              <a:gd name="adj2" fmla="val -8333"/>
              <a:gd name="adj3" fmla="val 19356"/>
              <a:gd name="adj4" fmla="val -10212"/>
              <a:gd name="adj5" fmla="val -77814"/>
              <a:gd name="adj6" fmla="val -1241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ngle site heterogeneous federated DB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3962520"/>
            <a:ext cx="1447920" cy="824040"/>
          </a:xfrm>
          <a:prstGeom prst="borderCallout2">
            <a:avLst>
              <a:gd name="adj1" fmla="val 18750"/>
              <a:gd name="adj2" fmla="val -8333"/>
              <a:gd name="adj3" fmla="val 13689"/>
              <a:gd name="adj4" fmla="val 105263"/>
              <a:gd name="adj5" fmla="val 35981"/>
              <a:gd name="adj6" fmla="val 11764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tr. heterogeneous DB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utonom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ion of control (and not data) - the degree of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ocal operations of the individual DBMSs are not affected by their participation in the multidatabas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nner in which individual DBMSs process queries and optimize them should not be affected by the execution of global qu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consistency should not be compromised when individual DBMSs join or leave the multidatabase system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Gilgor and Popescu-Zeletin’s definition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sib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ght integration: a single-image of the entire DB is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iautonomous (federative) systems: operate independently but participates in a federation, i.e. part of the DB is sha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is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tributed DBMSs (tight integratio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data organizational point of 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physical data organization requires different local internal sch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B is fragmented and replicated - each site represents a part of the modeled world - the conceptual schemas at each site are diffe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: the users access the DB by different external schemas defined above the global conceptual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means there is a low level of autonomy - individual DBs are in tight integ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tributed DBMS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organizational 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14400" y="541008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ternal Schema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4114800"/>
            <a:ext cx="23623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ceptual Schema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1676520"/>
            <a:ext cx="19051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 Schema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05320" y="2895480"/>
            <a:ext cx="25905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Conceptual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4297320"/>
            <a:ext cx="1067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C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267080" y="5592600"/>
            <a:ext cx="1067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1859040"/>
            <a:ext cx="1067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248520" y="1859040"/>
            <a:ext cx="1066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48520" y="4297320"/>
            <a:ext cx="1066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CS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5592600"/>
            <a:ext cx="1066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81080" y="4952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800600" y="47239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6781680" y="47239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981080" y="3733920"/>
            <a:ext cx="22860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800600" y="37335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5333760" y="3733560"/>
            <a:ext cx="14475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2057400" y="2514600"/>
            <a:ext cx="22096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5257800" y="2361960"/>
            <a:ext cx="14479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800600" y="23619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5181480"/>
            <a:ext cx="1447920" cy="609840"/>
          </a:xfrm>
          <a:prstGeom prst="cloudCallout">
            <a:avLst>
              <a:gd name="adj1" fmla="val -51097"/>
              <a:gd name="adj2" fmla="val 7864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terogene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467480" y="3581280"/>
            <a:ext cx="1447920" cy="838440"/>
          </a:xfrm>
          <a:prstGeom prst="cloudCallout">
            <a:avLst>
              <a:gd name="adj1" fmla="val -53949"/>
              <a:gd name="adj2" fmla="val 7954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plication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a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ansparency in DDBMS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independence: it is an extension of ANSI/SPARC that supports data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tion and replication transparencies: definition of local and global conceptual schemas and mapping between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 transparency: definition of global conceptual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5029200" y="1905120"/>
            <a:ext cx="36576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905120"/>
            <a:ext cx="426744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other view: component based architecture model for distributed DBM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45720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2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762120" y="2133720"/>
            <a:ext cx="1920600" cy="3200400"/>
            <a:chOff x="762120" y="2133720"/>
            <a:chExt cx="1920600" cy="3200400"/>
          </a:xfrm>
        </p:grpSpPr>
        <p:grpSp>
          <p:nvGrpSpPr>
            <p:cNvPr id="141" name=""/>
            <p:cNvGrpSpPr/>
            <p:nvPr/>
          </p:nvGrpSpPr>
          <p:grpSpPr>
            <a:xfrm>
              <a:off x="1036440" y="2133720"/>
              <a:ext cx="1599480" cy="685800"/>
              <a:chOff x="1036440" y="2133720"/>
              <a:chExt cx="1599480" cy="685800"/>
            </a:xfrm>
          </p:grpSpPr>
          <p:sp>
            <p:nvSpPr>
              <p:cNvPr id="142" name=""/>
              <p:cNvSpPr/>
              <p:nvPr/>
            </p:nvSpPr>
            <p:spPr>
              <a:xfrm>
                <a:off x="1036440" y="2133720"/>
                <a:ext cx="1523880" cy="685800"/>
              </a:xfrm>
              <a:prstGeom prst="roundRect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096560" y="2195640"/>
                <a:ext cx="15393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User Interface Handl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1036440" y="2971800"/>
              <a:ext cx="1599480" cy="685800"/>
              <a:chOff x="1036440" y="2971800"/>
              <a:chExt cx="1599480" cy="685800"/>
            </a:xfrm>
          </p:grpSpPr>
          <p:sp>
            <p:nvSpPr>
              <p:cNvPr id="145" name=""/>
              <p:cNvSpPr/>
              <p:nvPr/>
            </p:nvSpPr>
            <p:spPr>
              <a:xfrm>
                <a:off x="1036440" y="2971800"/>
                <a:ext cx="1523520" cy="685800"/>
              </a:xfrm>
              <a:prstGeom prst="roundRect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096560" y="3033720"/>
                <a:ext cx="15393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Semantic Dat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Controll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1036440" y="3810240"/>
              <a:ext cx="1599480" cy="685800"/>
              <a:chOff x="1036440" y="3810240"/>
              <a:chExt cx="1599480" cy="685800"/>
            </a:xfrm>
          </p:grpSpPr>
          <p:sp>
            <p:nvSpPr>
              <p:cNvPr id="148" name=""/>
              <p:cNvSpPr/>
              <p:nvPr/>
            </p:nvSpPr>
            <p:spPr>
              <a:xfrm>
                <a:off x="1036440" y="3810240"/>
                <a:ext cx="1523520" cy="685800"/>
              </a:xfrm>
              <a:prstGeom prst="roundRect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096200" y="3872160"/>
                <a:ext cx="15397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Global Quer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Optimiz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990720" y="4648320"/>
              <a:ext cx="1692000" cy="685800"/>
              <a:chOff x="990720" y="4648320"/>
              <a:chExt cx="1692000" cy="685800"/>
            </a:xfrm>
          </p:grpSpPr>
          <p:sp>
            <p:nvSpPr>
              <p:cNvPr id="151" name=""/>
              <p:cNvSpPr/>
              <p:nvPr/>
            </p:nvSpPr>
            <p:spPr>
              <a:xfrm>
                <a:off x="1082520" y="4648320"/>
                <a:ext cx="1523520" cy="685800"/>
              </a:xfrm>
              <a:prstGeom prst="roundRect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990720" y="4710240"/>
                <a:ext cx="16920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Global Execution Monito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53" name=""/>
            <p:cNvCxnSpPr>
              <a:stCxn id="142" idx="1"/>
              <a:endCxn id="146" idx="1"/>
            </p:cNvCxnSpPr>
            <p:nvPr/>
          </p:nvCxnSpPr>
          <p:spPr>
            <a:xfrm flipH="1" flipV="1" rot="10800000">
              <a:off x="1036080" y="2476440"/>
              <a:ext cx="60480" cy="848160"/>
            </a:xfrm>
            <a:prstGeom prst="curvedConnector5">
              <a:avLst>
                <a:gd name="adj1" fmla="val -378443"/>
                <a:gd name="adj2" fmla="val 49978"/>
                <a:gd name="adj3" fmla="val -37844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" name=""/>
            <p:cNvCxnSpPr>
              <a:stCxn id="146" idx="1"/>
              <a:endCxn id="149" idx="1"/>
            </p:cNvCxnSpPr>
            <p:nvPr/>
          </p:nvCxnSpPr>
          <p:spPr>
            <a:xfrm flipH="1" flipV="1" rot="10800000">
              <a:off x="1096200" y="3323160"/>
              <a:ext cx="2160" cy="839160"/>
            </a:xfrm>
            <a:prstGeom prst="curvedConnector5">
              <a:avLst>
                <a:gd name="adj1" fmla="val -14400000"/>
                <a:gd name="adj2" fmla="val 50000"/>
                <a:gd name="adj3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5" name=""/>
            <p:cNvCxnSpPr>
              <a:stCxn id="149" idx="1"/>
              <a:endCxn id="152" idx="1"/>
            </p:cNvCxnSpPr>
            <p:nvPr/>
          </p:nvCxnSpPr>
          <p:spPr>
            <a:xfrm flipV="1" rot="10800000">
              <a:off x="990000" y="4162320"/>
              <a:ext cx="106560" cy="838800"/>
            </a:xfrm>
            <a:prstGeom prst="curvedConnector5">
              <a:avLst>
                <a:gd name="adj1" fmla="val 314915"/>
                <a:gd name="adj2" fmla="val 49978"/>
                <a:gd name="adj3" fmla="val 31491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56" name=""/>
          <p:cNvGrpSpPr/>
          <p:nvPr/>
        </p:nvGrpSpPr>
        <p:grpSpPr>
          <a:xfrm>
            <a:off x="5104800" y="2362320"/>
            <a:ext cx="1921320" cy="2361600"/>
            <a:chOff x="5104800" y="2362320"/>
            <a:chExt cx="1921320" cy="2361600"/>
          </a:xfrm>
        </p:grpSpPr>
        <p:grpSp>
          <p:nvGrpSpPr>
            <p:cNvPr id="157" name=""/>
            <p:cNvGrpSpPr/>
            <p:nvPr/>
          </p:nvGrpSpPr>
          <p:grpSpPr>
            <a:xfrm>
              <a:off x="5379840" y="2362320"/>
              <a:ext cx="1599480" cy="685440"/>
              <a:chOff x="5379840" y="2362320"/>
              <a:chExt cx="1599480" cy="685440"/>
            </a:xfrm>
          </p:grpSpPr>
          <p:sp>
            <p:nvSpPr>
              <p:cNvPr id="158" name=""/>
              <p:cNvSpPr/>
              <p:nvPr/>
            </p:nvSpPr>
            <p:spPr>
              <a:xfrm>
                <a:off x="5379840" y="2362320"/>
                <a:ext cx="1523520" cy="685440"/>
              </a:xfrm>
              <a:prstGeom prst="roundRect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439960" y="2423880"/>
                <a:ext cx="15393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Local Quer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Processo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5379840" y="3200400"/>
              <a:ext cx="1599480" cy="685440"/>
              <a:chOff x="5379840" y="3200400"/>
              <a:chExt cx="1599480" cy="685440"/>
            </a:xfrm>
          </p:grpSpPr>
          <p:sp>
            <p:nvSpPr>
              <p:cNvPr id="161" name=""/>
              <p:cNvSpPr/>
              <p:nvPr/>
            </p:nvSpPr>
            <p:spPr>
              <a:xfrm>
                <a:off x="5379840" y="3200400"/>
                <a:ext cx="1523520" cy="685440"/>
              </a:xfrm>
              <a:prstGeom prst="roundRect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439600" y="3261960"/>
                <a:ext cx="15397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Local Recovery Manag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5334120" y="4038480"/>
              <a:ext cx="1692000" cy="685440"/>
              <a:chOff x="5334120" y="4038480"/>
              <a:chExt cx="1692000" cy="685440"/>
            </a:xfrm>
          </p:grpSpPr>
          <p:sp>
            <p:nvSpPr>
              <p:cNvPr id="164" name=""/>
              <p:cNvSpPr/>
              <p:nvPr/>
            </p:nvSpPr>
            <p:spPr>
              <a:xfrm>
                <a:off x="5425920" y="4038480"/>
                <a:ext cx="1523520" cy="685440"/>
              </a:xfrm>
              <a:prstGeom prst="roundRect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334120" y="4100040"/>
                <a:ext cx="16920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untime Support Processo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66" name=""/>
            <p:cNvCxnSpPr>
              <a:stCxn id="158" idx="1"/>
              <a:endCxn id="161" idx="1"/>
            </p:cNvCxnSpPr>
            <p:nvPr/>
          </p:nvCxnSpPr>
          <p:spPr>
            <a:xfrm flipH="1" flipV="1" rot="10800000">
              <a:off x="5379480" y="2703960"/>
              <a:ext cx="2160" cy="838440"/>
            </a:xfrm>
            <a:prstGeom prst="curvedConnector5">
              <a:avLst>
                <a:gd name="adj1" fmla="val -14400000"/>
                <a:gd name="adj2" fmla="val 50000"/>
                <a:gd name="adj3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61" idx="1"/>
              <a:endCxn id="165" idx="1"/>
            </p:cNvCxnSpPr>
            <p:nvPr/>
          </p:nvCxnSpPr>
          <p:spPr>
            <a:xfrm flipV="1" rot="10800000">
              <a:off x="5333400" y="3542760"/>
              <a:ext cx="46440" cy="848160"/>
            </a:xfrm>
            <a:prstGeom prst="curvedConnector5">
              <a:avLst>
                <a:gd name="adj1" fmla="val 596093"/>
                <a:gd name="adj2" fmla="val 49978"/>
                <a:gd name="adj3" fmla="val 59609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68" name=""/>
          <p:cNvGrpSpPr/>
          <p:nvPr/>
        </p:nvGrpSpPr>
        <p:grpSpPr>
          <a:xfrm>
            <a:off x="7353360" y="2286000"/>
            <a:ext cx="1143000" cy="2576880"/>
            <a:chOff x="7353360" y="2286000"/>
            <a:chExt cx="1143000" cy="2576880"/>
          </a:xfrm>
        </p:grpSpPr>
        <p:sp>
          <p:nvSpPr>
            <p:cNvPr id="169" name=""/>
            <p:cNvSpPr/>
            <p:nvPr/>
          </p:nvSpPr>
          <p:spPr>
            <a:xfrm>
              <a:off x="7353360" y="2286000"/>
              <a:ext cx="1143000" cy="82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ocal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ceptual Schem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353360" y="4038840"/>
              <a:ext cx="1143000" cy="82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ocal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rnal Schem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7620120" y="3200400"/>
              <a:ext cx="609480" cy="762120"/>
              <a:chOff x="7620120" y="3200400"/>
              <a:chExt cx="609480" cy="762120"/>
            </a:xfrm>
          </p:grpSpPr>
          <p:sp>
            <p:nvSpPr>
              <p:cNvPr id="172" name=""/>
              <p:cNvSpPr/>
              <p:nvPr/>
            </p:nvSpPr>
            <p:spPr>
              <a:xfrm>
                <a:off x="7620120" y="3200400"/>
                <a:ext cx="533160" cy="76212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620120" y="3429000"/>
                <a:ext cx="609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Lo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4" name=""/>
          <p:cNvGrpSpPr/>
          <p:nvPr/>
        </p:nvGrpSpPr>
        <p:grpSpPr>
          <a:xfrm>
            <a:off x="3124080" y="2286000"/>
            <a:ext cx="1143000" cy="2821680"/>
            <a:chOff x="3124080" y="2286000"/>
            <a:chExt cx="1143000" cy="2821680"/>
          </a:xfrm>
        </p:grpSpPr>
        <p:sp>
          <p:nvSpPr>
            <p:cNvPr id="175" name=""/>
            <p:cNvSpPr/>
            <p:nvPr/>
          </p:nvSpPr>
          <p:spPr>
            <a:xfrm>
              <a:off x="3124080" y="2286000"/>
              <a:ext cx="1143000" cy="58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xternal Schem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124080" y="3200400"/>
              <a:ext cx="1143000" cy="82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Global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ceptual Schem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3238200" y="4495680"/>
              <a:ext cx="914400" cy="612000"/>
              <a:chOff x="3238200" y="4495680"/>
              <a:chExt cx="914400" cy="612000"/>
            </a:xfrm>
          </p:grpSpPr>
          <p:sp>
            <p:nvSpPr>
              <p:cNvPr id="178" name=""/>
              <p:cNvSpPr/>
              <p:nvPr/>
            </p:nvSpPr>
            <p:spPr>
              <a:xfrm>
                <a:off x="3238200" y="4495680"/>
                <a:ext cx="838080" cy="60984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390480" y="4800600"/>
                <a:ext cx="762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D/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180" name=""/>
          <p:cNvCxnSpPr>
            <a:stCxn id="175" idx="1"/>
            <a:endCxn id="143" idx="3"/>
          </p:cNvCxnSpPr>
          <p:nvPr/>
        </p:nvCxnSpPr>
        <p:spPr>
          <a:xfrm flipH="1" flipV="1">
            <a:off x="2636280" y="2485800"/>
            <a:ext cx="487800" cy="9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5" idx="1"/>
            <a:endCxn id="146" idx="3"/>
          </p:cNvCxnSpPr>
          <p:nvPr/>
        </p:nvCxnSpPr>
        <p:spPr>
          <a:xfrm flipH="1">
            <a:off x="2636280" y="2581200"/>
            <a:ext cx="487800" cy="743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76" idx="1"/>
            <a:endCxn id="146" idx="3"/>
          </p:cNvCxnSpPr>
          <p:nvPr/>
        </p:nvCxnSpPr>
        <p:spPr>
          <a:xfrm flipH="1" flipV="1">
            <a:off x="2636280" y="3323880"/>
            <a:ext cx="487800" cy="294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6" idx="1"/>
            <a:endCxn id="149" idx="3"/>
          </p:cNvCxnSpPr>
          <p:nvPr/>
        </p:nvCxnSpPr>
        <p:spPr>
          <a:xfrm flipH="1">
            <a:off x="2636280" y="3618000"/>
            <a:ext cx="487800" cy="54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49" idx="3"/>
          </p:cNvCxnSpPr>
          <p:nvPr/>
        </p:nvCxnSpPr>
        <p:spPr>
          <a:xfrm flipH="1" flipV="1">
            <a:off x="2636280" y="4161600"/>
            <a:ext cx="811800" cy="6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5" name=""/>
          <p:cNvCxnSpPr>
            <a:stCxn id="162" idx="3"/>
            <a:endCxn id="173" idx="1"/>
          </p:cNvCxnSpPr>
          <p:nvPr/>
        </p:nvCxnSpPr>
        <p:spPr>
          <a:xfrm>
            <a:off x="6980040" y="3552480"/>
            <a:ext cx="640440" cy="2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6" name=""/>
          <p:cNvCxnSpPr>
            <a:stCxn id="170" idx="1"/>
            <a:endCxn id="165" idx="3"/>
          </p:cNvCxnSpPr>
          <p:nvPr/>
        </p:nvCxnSpPr>
        <p:spPr>
          <a:xfrm flipH="1" flipV="1">
            <a:off x="7025400" y="4390560"/>
            <a:ext cx="327960" cy="6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stCxn id="169" idx="1"/>
            <a:endCxn id="159" idx="3"/>
          </p:cNvCxnSpPr>
          <p:nvPr/>
        </p:nvCxnSpPr>
        <p:spPr>
          <a:xfrm flipH="1">
            <a:off x="6980040" y="2703240"/>
            <a:ext cx="373680" cy="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" name=""/>
          <p:cNvCxnSpPr>
            <a:stCxn id="165" idx="2"/>
            <a:endCxn id="151" idx="2"/>
          </p:cNvCxnSpPr>
          <p:nvPr/>
        </p:nvCxnSpPr>
        <p:spPr>
          <a:xfrm rot="5400000">
            <a:off x="3685320" y="2839680"/>
            <a:ext cx="653400" cy="4336200"/>
          </a:xfrm>
          <a:prstGeom prst="curvedConnector5">
            <a:avLst>
              <a:gd name="adj1" fmla="val 135005"/>
              <a:gd name="adj2" fmla="val 50000"/>
              <a:gd name="adj3" fmla="val 13500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"/>
          <p:cNvCxnSpPr>
            <a:stCxn id="152" idx="2"/>
            <a:endCxn id="142" idx="1"/>
          </p:cNvCxnSpPr>
          <p:nvPr/>
        </p:nvCxnSpPr>
        <p:spPr>
          <a:xfrm flipV="1" rot="16200000">
            <a:off x="28800" y="3483000"/>
            <a:ext cx="2815560" cy="800640"/>
          </a:xfrm>
          <a:prstGeom prst="curvedConnector5">
            <a:avLst>
              <a:gd name="adj1" fmla="val -8120"/>
              <a:gd name="adj2" fmla="val 83625"/>
              <a:gd name="adj3" fmla="val -812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0" name=""/>
          <p:cNvSpPr/>
          <p:nvPr/>
        </p:nvSpPr>
        <p:spPr>
          <a:xfrm>
            <a:off x="597600" y="5624640"/>
            <a:ext cx="139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er 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93280" y="5624640"/>
            <a:ext cx="139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96160" y="158580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934320" y="6019920"/>
            <a:ext cx="457200" cy="68580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" name=""/>
          <p:cNvCxnSpPr>
            <a:stCxn id="164" idx="2"/>
            <a:endCxn id="193" idx="1"/>
          </p:cNvCxnSpPr>
          <p:nvPr/>
        </p:nvCxnSpPr>
        <p:spPr>
          <a:xfrm>
            <a:off x="6188040" y="4723920"/>
            <a:ext cx="975600" cy="129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5" name=""/>
          <p:cNvCxnSpPr>
            <a:stCxn id="142" idx="0"/>
            <a:endCxn id="192" idx="3"/>
          </p:cNvCxnSpPr>
          <p:nvPr/>
        </p:nvCxnSpPr>
        <p:spPr>
          <a:xfrm flipV="1" rot="16200000">
            <a:off x="1290240" y="1625040"/>
            <a:ext cx="380160" cy="637200"/>
          </a:xfrm>
          <a:prstGeom prst="curvedConnector2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onents of the DDBMS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process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interface: interprets commands and formats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antic data controller: checks integrity constraints and authorizations (def. in GCS) to check if the query can be proce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query optimizer and decomposer: controls execution strategy, translates global queries into local ones (GCS and L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ed execution monitor (distributed transaction manager): coordinates the distributed execution of the query (via possible communication with other monito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onents of the DDBMS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process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query optimizer (access path selector): controls the way how data is accessed (access path means data structures + algorithms to access data, e.g. index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recovery manager: ensures local consist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-time support processor: physically accesses the data storage according to the commands, interfaces the 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: separation of higher-level semantics from lover-level implementation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e the implementation from users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indepen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transpar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ication transpar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gmentation transpar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parency can be provided at different levels of the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lti-DBMS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 between distributed multi-DBMSs and distributed tightly integrated DBMSs: auton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damental difference in architecture: the global conceptual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DDBMSs it represents the conceptual view of the entire database, while in MDBMSs it represents some of the local 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DB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global conceptual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global conceptual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lti-DBMS using global conceptual sche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66680" y="5568840"/>
            <a:ext cx="22100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ternal Schema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90720" y="4273560"/>
            <a:ext cx="23619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ceptual Schema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9880" y="2438280"/>
            <a:ext cx="25909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Conceptual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1325520"/>
            <a:ext cx="1066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00800" y="1325520"/>
            <a:ext cx="1066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0" y="4456080"/>
            <a:ext cx="1066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CS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0" y="5751360"/>
            <a:ext cx="1066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133720" y="51116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7391520" y="48826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609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3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" y="2903400"/>
            <a:ext cx="21337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External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553080" y="3114720"/>
            <a:ext cx="1067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14600" y="3086280"/>
            <a:ext cx="1066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772400" y="3114720"/>
            <a:ext cx="1066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81080" y="1143000"/>
            <a:ext cx="21337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External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8" name=""/>
          <p:cNvCxnSpPr>
            <a:stCxn id="204" idx="0"/>
            <a:endCxn id="213" idx="2"/>
          </p:cNvCxnSpPr>
          <p:nvPr/>
        </p:nvCxnSpPr>
        <p:spPr>
          <a:xfrm flipH="1" flipV="1">
            <a:off x="1294560" y="3734640"/>
            <a:ext cx="877320" cy="538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9" name=""/>
          <p:cNvCxnSpPr>
            <a:stCxn id="204" idx="0"/>
            <a:endCxn id="215" idx="2"/>
          </p:cNvCxnSpPr>
          <p:nvPr/>
        </p:nvCxnSpPr>
        <p:spPr>
          <a:xfrm flipV="1">
            <a:off x="2171880" y="3552480"/>
            <a:ext cx="87696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0" name=""/>
          <p:cNvCxnSpPr>
            <a:stCxn id="208" idx="0"/>
            <a:endCxn id="214" idx="2"/>
          </p:cNvCxnSpPr>
          <p:nvPr/>
        </p:nvCxnSpPr>
        <p:spPr>
          <a:xfrm flipH="1" flipV="1">
            <a:off x="7085880" y="3580920"/>
            <a:ext cx="305640" cy="87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1" name=""/>
          <p:cNvCxnSpPr>
            <a:stCxn id="208" idx="0"/>
            <a:endCxn id="216" idx="2"/>
          </p:cNvCxnSpPr>
          <p:nvPr/>
        </p:nvCxnSpPr>
        <p:spPr>
          <a:xfrm flipV="1">
            <a:off x="7391520" y="3580920"/>
            <a:ext cx="915120" cy="87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2" name=""/>
          <p:cNvCxnSpPr>
            <a:stCxn id="205" idx="0"/>
            <a:endCxn id="217" idx="2"/>
          </p:cNvCxnSpPr>
          <p:nvPr/>
        </p:nvCxnSpPr>
        <p:spPr>
          <a:xfrm flipH="1" flipV="1">
            <a:off x="3047760" y="1974240"/>
            <a:ext cx="2057760" cy="464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3" name=""/>
          <p:cNvCxnSpPr>
            <a:stCxn id="205" idx="0"/>
            <a:endCxn id="206" idx="2"/>
          </p:cNvCxnSpPr>
          <p:nvPr/>
        </p:nvCxnSpPr>
        <p:spPr>
          <a:xfrm flipV="1">
            <a:off x="5105160" y="1792080"/>
            <a:ext cx="76680" cy="646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4" name=""/>
          <p:cNvCxnSpPr>
            <a:stCxn id="205" idx="0"/>
            <a:endCxn id="207" idx="2"/>
          </p:cNvCxnSpPr>
          <p:nvPr/>
        </p:nvCxnSpPr>
        <p:spPr>
          <a:xfrm flipV="1">
            <a:off x="5105520" y="1792080"/>
            <a:ext cx="1829520" cy="646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5" name=""/>
          <p:cNvCxnSpPr>
            <a:stCxn id="204" idx="0"/>
            <a:endCxn id="205" idx="2"/>
          </p:cNvCxnSpPr>
          <p:nvPr/>
        </p:nvCxnSpPr>
        <p:spPr>
          <a:xfrm flipV="1">
            <a:off x="2171520" y="3269880"/>
            <a:ext cx="2934360" cy="1003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6" name=""/>
          <p:cNvCxnSpPr>
            <a:stCxn id="208" idx="0"/>
            <a:endCxn id="205" idx="2"/>
          </p:cNvCxnSpPr>
          <p:nvPr/>
        </p:nvCxnSpPr>
        <p:spPr>
          <a:xfrm flipH="1" flipV="1">
            <a:off x="5105160" y="3269880"/>
            <a:ext cx="2286720" cy="1186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lti-DBMS using global conceptual schema (semiautonomous, federate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CS is defined by ei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integrating local external schemas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integrating parts of the local conceptual sch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difference between the GC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ed DDBMS: mapping from global to local conceptual sch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DBMS: mapping from local to global conceptual sch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presence of heterogene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lingual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lingual approaches are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lti-DBMS without a global conceptual sche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447920" y="5257800"/>
            <a:ext cx="22096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ternal Schema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71600" y="3962520"/>
            <a:ext cx="23623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ceptual Schema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600200" y="1758960"/>
            <a:ext cx="19051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 Schema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00600" y="4145040"/>
            <a:ext cx="1066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C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800600" y="5440320"/>
            <a:ext cx="1066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800600" y="1941480"/>
            <a:ext cx="1066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781680" y="1941480"/>
            <a:ext cx="1067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781680" y="4145040"/>
            <a:ext cx="1067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CS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781680" y="5440320"/>
            <a:ext cx="1067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514600" y="4800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5334120" y="45720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7315200" y="45720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38080" y="32004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0880" y="259092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ultidatabase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880" y="320040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cal system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6" name=""/>
          <p:cNvCxnSpPr>
            <a:stCxn id="232" idx="0"/>
            <a:endCxn id="233" idx="2"/>
          </p:cNvCxnSpPr>
          <p:nvPr/>
        </p:nvCxnSpPr>
        <p:spPr>
          <a:xfrm flipV="1">
            <a:off x="2552400" y="2590560"/>
            <a:ext cx="10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7" name=""/>
          <p:cNvCxnSpPr>
            <a:stCxn id="232" idx="0"/>
            <a:endCxn id="236" idx="2"/>
          </p:cNvCxnSpPr>
          <p:nvPr/>
        </p:nvCxnSpPr>
        <p:spPr>
          <a:xfrm flipV="1">
            <a:off x="2552760" y="2407680"/>
            <a:ext cx="2782080" cy="1554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8" name=""/>
          <p:cNvCxnSpPr>
            <a:stCxn id="234" idx="0"/>
            <a:endCxn id="236" idx="2"/>
          </p:cNvCxnSpPr>
          <p:nvPr/>
        </p:nvCxnSpPr>
        <p:spPr>
          <a:xfrm flipV="1">
            <a:off x="5333760" y="2408040"/>
            <a:ext cx="1080" cy="1737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9" name=""/>
          <p:cNvCxnSpPr>
            <a:stCxn id="234" idx="0"/>
            <a:endCxn id="237" idx="2"/>
          </p:cNvCxnSpPr>
          <p:nvPr/>
        </p:nvCxnSpPr>
        <p:spPr>
          <a:xfrm flipV="1">
            <a:off x="5333760" y="2408040"/>
            <a:ext cx="1981800" cy="1737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0" name=""/>
          <p:cNvCxnSpPr>
            <a:stCxn id="238" idx="0"/>
            <a:endCxn id="237" idx="2"/>
          </p:cNvCxnSpPr>
          <p:nvPr/>
        </p:nvCxnSpPr>
        <p:spPr>
          <a:xfrm flipV="1">
            <a:off x="7314840" y="2408040"/>
            <a:ext cx="1080" cy="1737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1" name=""/>
          <p:cNvCxnSpPr>
            <a:stCxn id="232" idx="0"/>
            <a:endCxn id="237" idx="2"/>
          </p:cNvCxnSpPr>
          <p:nvPr/>
        </p:nvCxnSpPr>
        <p:spPr>
          <a:xfrm flipV="1">
            <a:off x="2552400" y="2407680"/>
            <a:ext cx="4763160" cy="1554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lti-DBMS without a global conceptual sche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definitions claim the essence of multidatabase management is the lack of global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derated DB architectures sometimes do not use a global schema, inst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ort schema for sharing data with 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 schema for accessing the global database (global external view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lti-DB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deration: the content (or parts of the content) of different DBs are put together logic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may use different physical implementation (L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may use different data representation (L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CS, the Import and Export Schemas serve as a bridge between the different D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no way to generate these schemas automat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are created and tailored to each application individu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els presented here are idealized and usually do not appear in this clean form in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lobal direct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1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global directory is an extension of the ANSI/SPARC dictionary that describes the location and the properties of frag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 a meta-database that contains information about the database, e.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on of fragment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of fragment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625920" y="3892680"/>
            <a:ext cx="2913120" cy="91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509920" y="4594320"/>
            <a:ext cx="2913120" cy="91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2509920" y="3892320"/>
            <a:ext cx="1116000" cy="70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5423040" y="4809960"/>
            <a:ext cx="1116000" cy="70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5423040" y="3892320"/>
            <a:ext cx="1116000" cy="70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3625920" y="3352680"/>
            <a:ext cx="0" cy="145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625920" y="4809960"/>
            <a:ext cx="3841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1828800" y="4809960"/>
            <a:ext cx="1797120" cy="113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289600" y="3429000"/>
            <a:ext cx="131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global/loc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712920" y="4191120"/>
            <a:ext cx="1986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ca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(central/distribut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130400" y="615780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057400" y="2971800"/>
            <a:ext cx="2878200" cy="337320"/>
          </a:xfrm>
          <a:prstGeom prst="borderCallout2">
            <a:avLst>
              <a:gd name="adj1" fmla="val 18750"/>
              <a:gd name="adj2" fmla="val -8333"/>
              <a:gd name="adj3" fmla="val 33027"/>
              <a:gd name="adj4" fmla="val 109046"/>
              <a:gd name="adj5" fmla="val 478356"/>
              <a:gd name="adj6" fmla="val 11593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cal, distributed, replic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172200" y="3048120"/>
            <a:ext cx="2514600" cy="580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655" y="4181"/>
                </a:moveTo>
                <a:lnTo>
                  <a:pt x="-1991" y="4181"/>
                </a:lnTo>
                <a:lnTo>
                  <a:pt x="-1991" y="24039"/>
                </a:lnTo>
                <a:lnTo>
                  <a:pt x="3055" y="32186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cal, distributed, nonreplic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553080" y="5638680"/>
            <a:ext cx="2084400" cy="580680"/>
          </a:xfrm>
          <a:prstGeom prst="borderCallout1">
            <a:avLst>
              <a:gd name="adj1" fmla="val 18750"/>
              <a:gd name="adj2" fmla="val -8333"/>
              <a:gd name="adj3" fmla="val -12574"/>
              <a:gd name="adj4" fmla="val -52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lobal, distributed, replic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" y="3733920"/>
            <a:ext cx="1447920" cy="580680"/>
          </a:xfrm>
          <a:prstGeom prst="borderCallout2">
            <a:avLst>
              <a:gd name="adj1" fmla="val 18750"/>
              <a:gd name="adj2" fmla="val -8333"/>
              <a:gd name="adj3" fmla="val 13689"/>
              <a:gd name="adj4" fmla="val 105263"/>
              <a:gd name="adj5" fmla="val 179800"/>
              <a:gd name="adj6" fmla="val 2298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lobal, central, nonreplic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ragmentation, replication, allo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 between parallel and distributed D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istributed DB is fragmented because data is fragmented by n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ographically distributed sites of different architectures, systems, different concepts are put together logi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gmentation is usually given and it is not a fundamental design iss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location of DBs are also given, the allocation is addressed if replication is appl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arallel DB can be fragmented to gain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gmentation is a crucial design iss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cation is also up to the desig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have a fundamental impact on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arallel DB is essentially a single DB and administrators have a greater freedom to tune th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role of fragm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gmentation: decomposition of re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 not aimed at data distribution! Rath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elation is not a proper unit for distribution, a more appropriate unit can be obtained by partitio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s view only a subset of relations - locality can be optim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necessary replication and high volume of remote memory accesses can be avoi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actions can be executed concurrently: intraquery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flicting requirements may prevent decomposition into mutually exclusive fragments that can lead to performance degrad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mantic data control: checking for dependencies may be diffic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ragmentation alterna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380880" y="1752480"/>
          <a:ext cx="3743280" cy="1257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752480"/>
                    <a:ext cx="374328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80" name=""/>
          <p:cNvGrpSpPr/>
          <p:nvPr/>
        </p:nvGrpSpPr>
        <p:grpSpPr>
          <a:xfrm>
            <a:off x="4495680" y="4114800"/>
            <a:ext cx="4357800" cy="1257480"/>
            <a:chOff x="4495680" y="4114800"/>
            <a:chExt cx="4357800" cy="1257480"/>
          </a:xfrm>
        </p:grpSpPr>
        <p:graphicFrame>
          <p:nvGraphicFramePr>
            <p:cNvPr id="281" name=""/>
            <p:cNvGraphicFramePr/>
            <p:nvPr/>
          </p:nvGraphicFramePr>
          <p:xfrm>
            <a:off x="4495680" y="4114800"/>
            <a:ext cx="1914480" cy="125748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28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495680" y="4114800"/>
                      <a:ext cx="1914480" cy="12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3" name=""/>
            <p:cNvGraphicFramePr/>
            <p:nvPr/>
          </p:nvGraphicFramePr>
          <p:xfrm>
            <a:off x="6553080" y="4114800"/>
            <a:ext cx="2300400" cy="125748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28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553080" y="4114800"/>
                      <a:ext cx="2300400" cy="12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85" name=""/>
          <p:cNvGrpSpPr/>
          <p:nvPr/>
        </p:nvGrpSpPr>
        <p:grpSpPr>
          <a:xfrm>
            <a:off x="380880" y="4114800"/>
            <a:ext cx="3743280" cy="1762200"/>
            <a:chOff x="380880" y="4114800"/>
            <a:chExt cx="3743280" cy="1762200"/>
          </a:xfrm>
        </p:grpSpPr>
        <p:graphicFrame>
          <p:nvGraphicFramePr>
            <p:cNvPr id="286" name=""/>
            <p:cNvGraphicFramePr/>
            <p:nvPr/>
          </p:nvGraphicFramePr>
          <p:xfrm>
            <a:off x="380880" y="4114800"/>
            <a:ext cx="3743280" cy="771480"/>
          </p:xfrm>
          <a:graphic>
            <a:graphicData uri="http://schemas.openxmlformats.org/presentationml/2006/ole">
              <p:oleObj progId="Excel.Sheet.12" r:id="rId7" spid="">
                <p:embed/>
                <p:pic>
                  <p:nvPicPr>
                    <p:cNvPr id="28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80880" y="4114800"/>
                      <a:ext cx="3743280" cy="771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8" name=""/>
            <p:cNvGraphicFramePr/>
            <p:nvPr/>
          </p:nvGraphicFramePr>
          <p:xfrm>
            <a:off x="380880" y="5105520"/>
            <a:ext cx="3743280" cy="771480"/>
          </p:xfrm>
          <a:graphic>
            <a:graphicData uri="http://schemas.openxmlformats.org/presentationml/2006/ole">
              <p:oleObj progId="Excel.Sheet.12" r:id="rId9" spid="">
                <p:embed/>
                <p:pic>
                  <p:nvPicPr>
                    <p:cNvPr id="28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80880" y="5105520"/>
                      <a:ext cx="3743280" cy="771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cxnSp>
        <p:nvCxnSpPr>
          <p:cNvPr id="290" name=""/>
          <p:cNvCxnSpPr/>
          <p:nvPr/>
        </p:nvCxnSpPr>
        <p:spPr>
          <a:xfrm>
            <a:off x="2252160" y="3009600"/>
            <a:ext cx="1080" cy="110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1" name=""/>
          <p:cNvCxnSpPr/>
          <p:nvPr/>
        </p:nvCxnSpPr>
        <p:spPr>
          <a:xfrm>
            <a:off x="2252520" y="3009600"/>
            <a:ext cx="3201120" cy="110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-3600" y="3200400"/>
            <a:ext cx="224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izo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istr. + parall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01200" y="3200400"/>
            <a:ext cx="266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tical partition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arall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cal data independence: user applications are not affected by changes in the logical structure of the DB (schema defini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data independence: hiding the details of the storage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nly form that is important in centralized DBMSs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 (distribution) transpar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 transparency: an operation on data is independent of both the location and the system where it is execu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ing transparency: unique name is provided for each object in the DB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gree of fragm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xtent to which the database is fragmen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fragmented at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gmented to individual tuples (h) or attributes (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deci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pplication should be characterized according to a number of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the result, the fragmentation can be desig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essential in parallel DB and less important in distributed 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chapter ‘Database Design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rrectness rules of fragm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Vertical) fragmentation is similar to normalization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s to avoid semantic changes at fragment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ness (lossless decomposition): no attributes or tuples may be eliminated at frag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nstruction: there must be a relational operator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that can reconstruct the original relation, i.e. R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br>
              <a:rPr sz="2400"/>
            </a:b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y be different for different alternatives of fragmentation (horizontal or ver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jointness: horizontal fragments must be disjoint, i.e. if data item d is in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n it is not in any other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pl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gments of relations are placed across the sites multiple t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reases reliability - if some sites fail, the data is still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reases locality - the data can be retrieved from the closest or local 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reases performance - a certain fragment may be accessed by less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the ques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mutual consist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currency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parency must be addres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B can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tioned (no replic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ic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lly replicated - the whole DB is copied to each 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ally replic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problem of allo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the DB has been partitioned, fragments must be allocated to various sites in the network or processing elements of a parallel machine - possibly multiple times when replic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set of fragments F={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and sites S={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on which a set of applications Q={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os r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imal cost. Minimize the cost of storing each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t sit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querying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t sit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updating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t all sites where it is stored and the cost of commun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ance. Maintain a performance according to a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ponse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rough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 a very simple formulation of the optimization is proven to be NP-complete - heuristics for suboptimal solutions. For a general model see ‘Database Design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lication transpar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is replicated for reliability and performance consider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ser should not be aware of the existence of cop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gmentation transpar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 relations are divided into smaller fragments for performance and availability rea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lobal queries should be translated to fragment qu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question of query process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origin of transparen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 layer: transparency features are built into user language which is translated into the requested operations (little transparency is provided from DBMS and 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ically: language transpar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MS: acts as an integrated OS and DBMS, makes all the necessary translation between OS and user interf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sential when security and fault tolerance is critical and the OS cannot provide such serv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ically: data, replication and fragmentation transpar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: transparent access to resources provided by OS (e.g. device drivers, etc.) can be extended to distributed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ically: network transpar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chitecture of a system defines its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foregoing parts the ‘architecture’ is a referenc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 an idealized 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 world systems may be diffe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et it shows the essential components and it is a reasonable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ent the issues that need to be addressed at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ent a framework within which the design and implementation issues can be discus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ogon: the ISO/OSI 7-layered reference model for computer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BMS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eference model can be describ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on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and their interrelations are def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Functions that the system will perform are def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Different types of data and functional units (within an architectural framework), that will realize or use data, are defin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there is an interplay among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SI/SPARC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entralized model from the 70s but generated interest and it is the basis of Distributed DBM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on data organ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 view (user) - highest level, users’ view of a portion of the DB and relationships among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ual view (enterprise) - abstract definition of the DB, the ‘real world’ view. Represents data without considering the application or the storage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 view (system) - lowest level, physical definition, storage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SI/SPARC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21120" y="5486400"/>
            <a:ext cx="12952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2819520"/>
            <a:ext cx="15238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692520" y="4114800"/>
            <a:ext cx="17524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ual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43600" y="1828800"/>
            <a:ext cx="990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organizational 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315200" y="1828800"/>
            <a:ext cx="990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0" y="1828800"/>
            <a:ext cx="990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828800"/>
            <a:ext cx="990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073400" y="1828800"/>
            <a:ext cx="990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553080" y="2819520"/>
            <a:ext cx="15242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7000" y="2819520"/>
            <a:ext cx="15238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4572000" y="4952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4572000" y="3657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1980720" y="3657600"/>
            <a:ext cx="2590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572000" y="3657600"/>
            <a:ext cx="2743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990360" y="2286000"/>
            <a:ext cx="9903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981080" y="2286000"/>
            <a:ext cx="8384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4572000" y="22860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477120" y="228600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7315200" y="22860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1T08:38:04Z</dcterms:created>
  <dc:creator>LPDS</dc:creator>
  <dc:description/>
  <dc:language>en-US</dc:language>
  <cp:lastModifiedBy>LPDS</cp:lastModifiedBy>
  <dcterms:modified xsi:type="dcterms:W3CDTF">1999-09-08T10:22:10Z</dcterms:modified>
  <cp:revision>39</cp:revision>
  <dc:subject/>
  <dc:title>Distributed DBMS architecture</dc:title>
</cp:coreProperties>
</file>