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7C5B-DDAD-4FC3-A8B6-79D537B4A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E77C-449B-4273-9DFB-2B9C0B36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2C43-8527-49B9-8CD9-551B57309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6614-CEAF-4CC5-B37F-D50F0B838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4CC9-D154-440B-B766-02AE463F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7F5E-8827-483B-BEA2-E28898BF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9B64-9B1D-46C6-A00E-A154A50D0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FC41-E68E-463D-A1AB-88987B71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944D-89E1-4907-9693-3FBB9447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90B3-48BA-4479-BA5A-BD7EF7DB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8B4E-953F-474B-905C-3E28AE7D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4D42-1FB2-4102-B86F-427B85F8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16C5-B871-4967-AE42-83BB4199D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ransaction Models of DDBMS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Zsolt N</a:t>
            </a: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éme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52480" y="28191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pics cove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zation of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ization of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ializability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urrency contro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Dur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ce a transaction commits, its results are permanent and cannot be erased even if system failure occ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tabase re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ermination of trans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ransaction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always termin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task is successful: comm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task is incomplete (for some reasons): ab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ither due to system failure or unsatisfied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ollback: undone the actions and return the DB to its state before 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oint of no 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a transaction is com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ts results are permanently stored in the DB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dur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ts results can be made visible to other transactions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consistency, iso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Example of termi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EGIN_TRANSACTION RESER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PUT(flight_no, date, customer_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XEC SQL SELECT STSOLD, C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O temp1, tem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ROM F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HERE FNO = flight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ND DATE = d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F temp1 = temp2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OUTPUT(„no free seats“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B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LSE 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XEC SQL UPDATE F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ET STSOLD = STSOLD +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HERE FNO = flight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ND DATE = d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XEC SQL INS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O FC(FNO, DATE, CNAME, SPE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LUES(flight_no, date, customer_name, nul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OUTPUT(„reservation completed“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Formalization of the transaction conce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rac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items that a given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ads: Read Set (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rites: Write Set (W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y are not necessarily mutually exclu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ase Set (BS): BS = RS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sertion and deletion are omitted, the discussion is restricted to static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Formalization of the transaction conce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x): some atomic operation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f transaction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at operates on DB entity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{read, write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i.e. all operations in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{abort, commit}, the termination condition for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nsaction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partial ordering over its operations and the termination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Formalization of the transaction conce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tial order P = {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}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th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T Extra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an irreflexive and transitive 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nsition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 partial order {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} 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O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any two operations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if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R(x) and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W(x) for any data item x then either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r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, i.e. ´there must be an order between conflicting operations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, i.e. áll operations must precede the termination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ordering relation </a:t>
            </a:r>
            <a:r>
              <a:rPr b="0" lang="en-GB" sz="28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application 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Formalization of the transaction conce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ad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ad(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x = x +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rite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{R(x), R(y), W(x), C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T Extra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{(R(x), W(x)), (R(y), W(x)), (W(x), C), (R(x), C), (R(y), C)}  where (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means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tial order: the ordering is not specified for every pair of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45560" y="205740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(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45560" y="30160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(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41200" y="251460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64000" y="2514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76920" y="2286000"/>
            <a:ext cx="7617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876920" y="2743200"/>
            <a:ext cx="7617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2666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haracterization of trans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cording to application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gular or distrib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ens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terogene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cording to d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-line (short life) or batch (long lif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cording to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lat, nested or work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ccording to the order of read and write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wo-step: all read ops before any write 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tricted: a data item must be read before wri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tricted two-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tion: restricted where each read-write pair is ato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tructural types of trans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l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sequence of primitive operations between begin and end ma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transaction may include other transactions with their own commit poi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re concurrency introdu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covery is possible independently for each sub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subtransaction can be a nested one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ubtransactions begin after their parents and finish before t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mmitment is conditional upon the commitment of the pa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lo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ubtransactions can execute and commit independen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mpensation may be necess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Architecture revisi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52280" y="1905120"/>
            <a:ext cx="3338640" cy="3504960"/>
            <a:chOff x="152280" y="1905120"/>
            <a:chExt cx="3338640" cy="3504960"/>
          </a:xfrm>
        </p:grpSpPr>
        <p:sp>
          <p:nvSpPr>
            <p:cNvPr id="97" name=""/>
            <p:cNvSpPr/>
            <p:nvPr/>
          </p:nvSpPr>
          <p:spPr>
            <a:xfrm>
              <a:off x="152280" y="2130480"/>
              <a:ext cx="3338640" cy="316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665280" y="2309760"/>
              <a:ext cx="1250640" cy="536760"/>
              <a:chOff x="665280" y="2309760"/>
              <a:chExt cx="1250640" cy="536760"/>
            </a:xfrm>
          </p:grpSpPr>
          <p:sp>
            <p:nvSpPr>
              <p:cNvPr id="99" name=""/>
              <p:cNvSpPr/>
              <p:nvPr/>
            </p:nvSpPr>
            <p:spPr>
              <a:xfrm>
                <a:off x="665280" y="2309760"/>
                <a:ext cx="1192680" cy="536760"/>
              </a:xfrm>
              <a:prstGeom prst="roundRect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13520" y="2355480"/>
                <a:ext cx="120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User Interface Handl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665280" y="2965320"/>
              <a:ext cx="1250640" cy="536760"/>
              <a:chOff x="665280" y="2965320"/>
              <a:chExt cx="1250640" cy="536760"/>
            </a:xfrm>
          </p:grpSpPr>
          <p:sp>
            <p:nvSpPr>
              <p:cNvPr id="102" name=""/>
              <p:cNvSpPr/>
              <p:nvPr/>
            </p:nvSpPr>
            <p:spPr>
              <a:xfrm>
                <a:off x="665280" y="2965320"/>
                <a:ext cx="1192320" cy="536760"/>
              </a:xfrm>
              <a:prstGeom prst="roundRect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13520" y="3011040"/>
                <a:ext cx="120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emantic 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ontroll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665280" y="3621240"/>
              <a:ext cx="1250640" cy="536400"/>
              <a:chOff x="665280" y="3621240"/>
              <a:chExt cx="1250640" cy="536400"/>
            </a:xfrm>
          </p:grpSpPr>
          <p:sp>
            <p:nvSpPr>
              <p:cNvPr id="105" name=""/>
              <p:cNvSpPr/>
              <p:nvPr/>
            </p:nvSpPr>
            <p:spPr>
              <a:xfrm>
                <a:off x="665280" y="3621240"/>
                <a:ext cx="1192680" cy="536400"/>
              </a:xfrm>
              <a:prstGeom prst="roundRect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13520" y="3667320"/>
                <a:ext cx="120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Global Que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ptimiz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01640" y="4276800"/>
              <a:ext cx="1192320" cy="536400"/>
            </a:xfrm>
            <a:prstGeom prst="roundRect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8560" y="4325760"/>
              <a:ext cx="1325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lobal Execution Moni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9" name=""/>
            <p:cNvCxnSpPr>
              <a:stCxn id="99" idx="1"/>
              <a:endCxn id="103" idx="1"/>
            </p:cNvCxnSpPr>
            <p:nvPr/>
          </p:nvCxnSpPr>
          <p:spPr>
            <a:xfrm flipH="1" flipV="1" rot="10800000">
              <a:off x="664920" y="2577600"/>
              <a:ext cx="48240" cy="664560"/>
            </a:xfrm>
            <a:prstGeom prst="curvedConnector5">
              <a:avLst>
                <a:gd name="adj1" fmla="val -378947"/>
                <a:gd name="adj2" fmla="val 49972"/>
                <a:gd name="adj3" fmla="val -37894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0" name=""/>
            <p:cNvCxnSpPr>
              <a:stCxn id="103" idx="1"/>
              <a:endCxn id="106" idx="1"/>
            </p:cNvCxnSpPr>
            <p:nvPr/>
          </p:nvCxnSpPr>
          <p:spPr>
            <a:xfrm flipH="1" flipV="1" rot="10800000">
              <a:off x="712440" y="3240720"/>
              <a:ext cx="2160" cy="65628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6" idx="1"/>
              <a:endCxn id="108" idx="1"/>
            </p:cNvCxnSpPr>
            <p:nvPr/>
          </p:nvCxnSpPr>
          <p:spPr>
            <a:xfrm flipV="1" rot="10800000">
              <a:off x="627840" y="3896280"/>
              <a:ext cx="84960" cy="656280"/>
            </a:xfrm>
            <a:prstGeom prst="curvedConnector5">
              <a:avLst>
                <a:gd name="adj1" fmla="val 314893"/>
                <a:gd name="adj2" fmla="val 50000"/>
                <a:gd name="adj3" fmla="val 31489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12" name=""/>
            <p:cNvGrpSpPr/>
            <p:nvPr/>
          </p:nvGrpSpPr>
          <p:grpSpPr>
            <a:xfrm>
              <a:off x="2298600" y="2428920"/>
              <a:ext cx="893880" cy="2246400"/>
              <a:chOff x="2298600" y="2428920"/>
              <a:chExt cx="893880" cy="2246400"/>
            </a:xfrm>
          </p:grpSpPr>
          <p:sp>
            <p:nvSpPr>
              <p:cNvPr id="113" name=""/>
              <p:cNvSpPr/>
              <p:nvPr/>
            </p:nvSpPr>
            <p:spPr>
              <a:xfrm>
                <a:off x="2298600" y="2428920"/>
                <a:ext cx="89388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ernal Schem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98600" y="3144240"/>
                <a:ext cx="893880" cy="641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Global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onceptual Schem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" name=""/>
              <p:cNvGrpSpPr/>
              <p:nvPr/>
            </p:nvGrpSpPr>
            <p:grpSpPr>
              <a:xfrm>
                <a:off x="2387520" y="4158000"/>
                <a:ext cx="716040" cy="517320"/>
                <a:chOff x="2387520" y="4158000"/>
                <a:chExt cx="716040" cy="51732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2387520" y="4158000"/>
                  <a:ext cx="655560" cy="47700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507760" y="4398840"/>
                  <a:ext cx="5958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GD/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118" name=""/>
            <p:cNvCxnSpPr>
              <a:stCxn id="113" idx="1"/>
              <a:endCxn id="100" idx="3"/>
            </p:cNvCxnSpPr>
            <p:nvPr/>
          </p:nvCxnSpPr>
          <p:spPr>
            <a:xfrm flipH="1" flipV="1">
              <a:off x="1917360" y="2585520"/>
              <a:ext cx="381600" cy="75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9" name=""/>
            <p:cNvCxnSpPr>
              <a:stCxn id="113" idx="1"/>
              <a:endCxn id="103" idx="3"/>
            </p:cNvCxnSpPr>
            <p:nvPr/>
          </p:nvCxnSpPr>
          <p:spPr>
            <a:xfrm flipH="1">
              <a:off x="1917360" y="2660760"/>
              <a:ext cx="381600" cy="58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0" name=""/>
            <p:cNvCxnSpPr>
              <a:stCxn id="114" idx="1"/>
              <a:endCxn id="103" idx="3"/>
            </p:cNvCxnSpPr>
            <p:nvPr/>
          </p:nvCxnSpPr>
          <p:spPr>
            <a:xfrm flipH="1" flipV="1">
              <a:off x="1917360" y="3241080"/>
              <a:ext cx="381600" cy="230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1" name=""/>
            <p:cNvCxnSpPr>
              <a:stCxn id="114" idx="1"/>
              <a:endCxn id="106" idx="3"/>
            </p:cNvCxnSpPr>
            <p:nvPr/>
          </p:nvCxnSpPr>
          <p:spPr>
            <a:xfrm flipH="1">
              <a:off x="1917360" y="3471840"/>
              <a:ext cx="3816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2" name=""/>
            <p:cNvCxnSpPr>
              <a:stCxn id="116" idx="1"/>
              <a:endCxn id="106" idx="3"/>
            </p:cNvCxnSpPr>
            <p:nvPr/>
          </p:nvCxnSpPr>
          <p:spPr>
            <a:xfrm flipH="1" flipV="1">
              <a:off x="1917360" y="3896640"/>
              <a:ext cx="635760" cy="500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3" name=""/>
            <p:cNvCxnSpPr>
              <a:stCxn id="108" idx="2"/>
              <a:endCxn id="99" idx="1"/>
            </p:cNvCxnSpPr>
            <p:nvPr/>
          </p:nvCxnSpPr>
          <p:spPr>
            <a:xfrm flipV="1" rot="16200000">
              <a:off x="-123840" y="3365640"/>
              <a:ext cx="2202840" cy="626040"/>
            </a:xfrm>
            <a:prstGeom prst="curvedConnector5">
              <a:avLst>
                <a:gd name="adj1" fmla="val -8107"/>
                <a:gd name="adj2" fmla="val 84119"/>
                <a:gd name="adj3" fmla="val -810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4" name=""/>
            <p:cNvSpPr/>
            <p:nvPr/>
          </p:nvSpPr>
          <p:spPr>
            <a:xfrm>
              <a:off x="320040" y="5064120"/>
              <a:ext cx="124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ser process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22200" y="190512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6" name=""/>
            <p:cNvCxnSpPr>
              <a:stCxn id="99" idx="0"/>
              <a:endCxn id="125" idx="3"/>
            </p:cNvCxnSpPr>
            <p:nvPr/>
          </p:nvCxnSpPr>
          <p:spPr>
            <a:xfrm flipV="1" rot="16200000">
              <a:off x="864000" y="1911600"/>
              <a:ext cx="297360" cy="499320"/>
            </a:xfrm>
            <a:prstGeom prst="curvedConnector2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27" name=""/>
            <p:cNvSpPr/>
            <p:nvPr/>
          </p:nvSpPr>
          <p:spPr>
            <a:xfrm>
              <a:off x="1285920" y="4813200"/>
              <a:ext cx="58680" cy="59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572000" y="1955520"/>
            <a:ext cx="3124080" cy="3429360"/>
            <a:chOff x="4572000" y="1955520"/>
            <a:chExt cx="3124080" cy="3429360"/>
          </a:xfrm>
        </p:grpSpPr>
        <p:sp>
          <p:nvSpPr>
            <p:cNvPr id="129" name=""/>
            <p:cNvSpPr/>
            <p:nvPr/>
          </p:nvSpPr>
          <p:spPr>
            <a:xfrm>
              <a:off x="4800600" y="2260800"/>
              <a:ext cx="2743200" cy="2895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58320" y="4206960"/>
              <a:ext cx="142596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Scheduler (S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77400" y="3124440"/>
              <a:ext cx="1389240" cy="580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Manager (T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2" name=""/>
            <p:cNvCxnSpPr>
              <a:stCxn id="130" idx="0"/>
              <a:endCxn id="131" idx="2"/>
            </p:cNvCxnSpPr>
            <p:nvPr/>
          </p:nvCxnSpPr>
          <p:spPr>
            <a:xfrm flipV="1">
              <a:off x="6171840" y="3707640"/>
              <a:ext cx="1080" cy="49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33" name=""/>
            <p:cNvSpPr/>
            <p:nvPr/>
          </p:nvSpPr>
          <p:spPr>
            <a:xfrm>
              <a:off x="5715000" y="195588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6629400" y="19555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72200" y="454680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858000" y="3098520"/>
              <a:ext cx="838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858000" y="3556080"/>
              <a:ext cx="8380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572000" y="439416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4343400" y="5856120"/>
            <a:ext cx="3048120" cy="580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40" y="2957"/>
                </a:moveTo>
                <a:lnTo>
                  <a:pt x="-1811" y="2957"/>
                </a:lnTo>
                <a:lnTo>
                  <a:pt x="-1811" y="-14783"/>
                </a:lnTo>
                <a:lnTo>
                  <a:pt x="3283" y="-3885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Global Execution Monitor (Distributed Execution Monit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44720" y="121932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egin_transaction,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Read, Write,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ommit, Ab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00800" y="167652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07920" y="5384880"/>
            <a:ext cx="152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o data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85120" y="4013280"/>
            <a:ext cx="95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With other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19040" y="2641680"/>
            <a:ext cx="95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With other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2360" y="3860640"/>
            <a:ext cx="128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With other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data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oncept of transaction is a unit of consistent and reliable comp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nsaction management: keeping the DB in consistent state even when concurrent accesses and failures occ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447920" y="2438280"/>
            <a:ext cx="6306840" cy="2010600"/>
            <a:chOff x="1447920" y="2438280"/>
            <a:chExt cx="6306840" cy="2010600"/>
          </a:xfrm>
        </p:grpSpPr>
        <p:sp>
          <p:nvSpPr>
            <p:cNvPr id="46" name=""/>
            <p:cNvSpPr/>
            <p:nvPr/>
          </p:nvSpPr>
          <p:spPr>
            <a:xfrm>
              <a:off x="2286000" y="32353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553080" y="32353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1080" y="3657600"/>
              <a:ext cx="4876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51520" y="4111560"/>
              <a:ext cx="160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Begin trans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870880" y="4111560"/>
              <a:ext cx="145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End trans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4040" y="4111560"/>
              <a:ext cx="216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Execution of trans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47920" y="2511360"/>
              <a:ext cx="1585800" cy="58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1038" y="4181"/>
                  </a:moveTo>
                  <a:lnTo>
                    <a:pt x="-5470" y="4181"/>
                  </a:lnTo>
                  <a:lnTo>
                    <a:pt x="-5470" y="26071"/>
                  </a:lnTo>
                  <a:lnTo>
                    <a:pt x="11241" y="4068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atabase in a consist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168960" y="2511360"/>
              <a:ext cx="1585800" cy="58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638" y="4181"/>
                  </a:moveTo>
                  <a:lnTo>
                    <a:pt x="24778" y="4181"/>
                  </a:lnTo>
                  <a:lnTo>
                    <a:pt x="24778" y="24097"/>
                  </a:lnTo>
                  <a:lnTo>
                    <a:pt x="5599" y="4151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Database in a consist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191120" y="2438280"/>
              <a:ext cx="1787400" cy="824040"/>
            </a:xfrm>
            <a:prstGeom prst="borderCallout2">
              <a:avLst>
                <a:gd name="adj1" fmla="val 18750"/>
                <a:gd name="adj2" fmla="val -8333"/>
                <a:gd name="adj3" fmla="val 13689"/>
                <a:gd name="adj4" fmla="val -15986"/>
                <a:gd name="adj5" fmla="val 144148"/>
                <a:gd name="adj6" fmla="val -2823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Database may be temporarily in an inconsist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erializability the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hedule (history) S: specifies an interleaved execution order over a set of transactions T={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...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lete schedule 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is a partial order 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{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} over a set of transactions T={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...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} that defines the execution order of all operations in its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any two conflicting operations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k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either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k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r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k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600200" y="4267080"/>
                <a:ext cx="15764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Sup>
                      <m:e/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600200" y="4800600"/>
                <a:ext cx="159876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⊇</m:t>
                    </m:r>
                    <m:sSubSup>
                      <m:e>
                        <m:r>
                          <m:t xml:space="preserve">∪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/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Serializability the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chedule (example): a possible complete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1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ad(x)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ad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x = x + 1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x = x +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rite(x)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rite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= {R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x), W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x), 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},    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= {R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x), W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x), 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= {R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x), W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x), 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x), W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x), 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MT Extra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= {(R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, (R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, (R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, (R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, (R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, (R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, (R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, (R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, (R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, (W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, (W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, (W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, (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, (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, (W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6428160" y="5105520"/>
            <a:ext cx="1413000" cy="1405800"/>
            <a:chOff x="6428160" y="5105520"/>
            <a:chExt cx="1413000" cy="1405800"/>
          </a:xfrm>
        </p:grpSpPr>
        <p:sp>
          <p:nvSpPr>
            <p:cNvPr id="153" name=""/>
            <p:cNvSpPr/>
            <p:nvPr/>
          </p:nvSpPr>
          <p:spPr>
            <a:xfrm>
              <a:off x="6456600" y="5105520"/>
              <a:ext cx="375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37600" y="5105520"/>
              <a:ext cx="375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28160" y="5638680"/>
              <a:ext cx="432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09160" y="5638680"/>
              <a:ext cx="432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56600" y="6140520"/>
              <a:ext cx="375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37600" y="6140520"/>
              <a:ext cx="375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de-DE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716520" y="52578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716520" y="57913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6424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55496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564240" y="59436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554960" y="59436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erializability the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efix: P´ = {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´, </a:t>
            </a:r>
            <a:r>
              <a:rPr b="0" lang="en-GB" sz="28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´} is a prefix of partial order P = {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} 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´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´, 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´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ff 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´, if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then e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ly the conflicting operations are relevant at scheduling - redefine schedu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hedule (incomplete) S: is a prefix of complete schedule 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erializability the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complete schedule (examp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1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2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ad(x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rite(x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ad(x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rite(x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rite(y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ad(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ad(z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ad(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lete schedul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tial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artial schedule is a prefix of complete schedule and equivalent to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764640" y="4113360"/>
            <a:ext cx="3497400" cy="2593080"/>
            <a:chOff x="764640" y="4113360"/>
            <a:chExt cx="3497400" cy="2593080"/>
          </a:xfrm>
        </p:grpSpPr>
        <p:sp>
          <p:nvSpPr>
            <p:cNvPr id="170" name=""/>
            <p:cNvSpPr/>
            <p:nvPr/>
          </p:nvSpPr>
          <p:spPr>
            <a:xfrm>
              <a:off x="792360" y="411336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R1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167920" y="411480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W2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05400" y="411480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R3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4640" y="485460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W1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67920" y="485604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W2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07200" y="485604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R3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10800" y="561168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01400" y="561168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R2(z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12600" y="561168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R3(z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12640" y="636912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23840" y="636912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817720" y="431172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1370160" y="43117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41560" y="43876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41560" y="51498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13160" y="43876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13160" y="51498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13160" y="591192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84760" y="43876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84760" y="51498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84760" y="591192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17720" y="50734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41760" y="57592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107320" y="4113360"/>
            <a:ext cx="3469320" cy="1835640"/>
            <a:chOff x="5107320" y="4113360"/>
            <a:chExt cx="3469320" cy="1835640"/>
          </a:xfrm>
        </p:grpSpPr>
        <p:sp>
          <p:nvSpPr>
            <p:cNvPr id="194" name=""/>
            <p:cNvSpPr/>
            <p:nvPr/>
          </p:nvSpPr>
          <p:spPr>
            <a:xfrm>
              <a:off x="5107320" y="411336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R1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482520" y="411444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W2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920360" y="411444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R3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82520" y="485604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W2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1800" y="485604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R3(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516000" y="561168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R2(z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927200" y="561168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R3(z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32680" y="431136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5684400" y="431136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27760" y="438768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27760" y="5149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199360" y="438768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199360" y="5149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32680" y="50734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56360" y="57592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Serializability the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erial schedul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serial history): if in a schedule S the operations of various transactions are not interleaved, the schedule is s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= {W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x), W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y), 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z),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x), 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x),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x), 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y), 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z), C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wo schedules 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f for each pair of conflicting operations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k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i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) whenever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k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then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MT Extra"/>
                <a:ea typeface="MT Extra"/>
              </a:rPr>
              <a:t>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kl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 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conflict equivalenc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hedule S i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erializabl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f it is conflict equivalent to a serial schedule 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conflict-based serializabili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erializability the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actions execute concurrently but the overall effect of the resulted history upon the database is equivalent to some serial schedu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 goal of concurrency control: generate a serializable schedule for the pending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histories must be taken into accou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chedule (at each s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ched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erializability the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DB is partitioned, if each local schedule is serializable then the global schedule is serializ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DB is replicated, the global schedule is serializable (one-copy serializable) 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chedules are serializ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conflicting operations are in the same relative order in each local schedule where they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eplica control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istency in presence of replication: one-copy serializability must be provi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currency control 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plica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sume data item x (logical data) is replicated as x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... x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physical data ite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ch read(x) is mapped to one of the physical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ch write(x) is mapped to a subset of the physical data cop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read(x) is mapped to one and write(x) is mapped to all physical copies, it is a read-once/write-all (ROWA)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Concurrency control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essimi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-Phase Locking based (2P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entral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imary c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strib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mestamp Ordering (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ulti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serv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mestamp o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cks ensure that data shared by conflicting operations are accessed by one operation at a time - a simple way of ser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lock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t by a transaction before the lock unit is acce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set at the end of the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the lock is set already, the lock unit cannot be acce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ck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ad lock (shared lo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rite lock (exclusive lo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cks are controlled by the Lock Manager (LM) which is a part of the Scheduler (see architecture revisi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962520" y="3703680"/>
            <a:ext cx="472428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Definition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of a trans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ransaction makes transformations of system states preserving consis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ransaction is a sequence of read and write operations together with computation steps, assuming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ransaction may be executed concurrently with others: concurrency transparency must be provi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ilures may occur during execution: failure transparency must be provi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wo-phase locking (2PL): no transaction should request a lock after it releases one of its 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nsactions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owing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ck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rinking ph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orem: any schedule that obeys 2PL rule is serializable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Eswaran et al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fficult to implement Transaction Manager (among others due to cascading abort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038480" y="2133720"/>
            <a:ext cx="4403880" cy="2532600"/>
            <a:chOff x="4038480" y="2133720"/>
            <a:chExt cx="4403880" cy="2532600"/>
          </a:xfrm>
        </p:grpSpPr>
        <p:sp>
          <p:nvSpPr>
            <p:cNvPr id="225" name=""/>
            <p:cNvSpPr/>
            <p:nvPr/>
          </p:nvSpPr>
          <p:spPr>
            <a:xfrm>
              <a:off x="4038480" y="213372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38480" y="4267080"/>
              <a:ext cx="434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4572000" y="3962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72000" y="3962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4876920" y="3657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876920" y="3657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5334120" y="3352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34120" y="3352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5486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86400" y="30481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5715000" y="2742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15000" y="2743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72200" y="27432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72200" y="30481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7712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477120" y="33526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781680" y="33526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781680" y="36576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62920" y="36576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3962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20120" y="3962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72200" y="251460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15000" y="2133720"/>
              <a:ext cx="107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Lock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252680" y="4329000"/>
              <a:ext cx="66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Beg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38960" y="432900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19720" y="2328840"/>
              <a:ext cx="761760" cy="58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2160" y="4181"/>
                  </a:moveTo>
                  <a:lnTo>
                    <a:pt x="-4455" y="4181"/>
                  </a:lnTo>
                  <a:lnTo>
                    <a:pt x="-4455" y="27639"/>
                  </a:lnTo>
                  <a:lnTo>
                    <a:pt x="25957" y="4582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Obtain 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27960" y="2317680"/>
              <a:ext cx="914400" cy="580680"/>
            </a:xfrm>
            <a:prstGeom prst="borderCallout2">
              <a:avLst>
                <a:gd name="adj1" fmla="val 18750"/>
                <a:gd name="adj2" fmla="val -8333"/>
                <a:gd name="adj3" fmla="val 19356"/>
                <a:gd name="adj4" fmla="val -44273"/>
                <a:gd name="adj5" fmla="val 201236"/>
                <a:gd name="adj6" fmla="val -8157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Release 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Loc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ict two-phase locking (S2PL): locks are released if the operation is a commit or an ab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286000" y="2971800"/>
            <a:ext cx="4800600" cy="2532960"/>
            <a:chOff x="2286000" y="2971800"/>
            <a:chExt cx="4800600" cy="2532960"/>
          </a:xfrm>
        </p:grpSpPr>
        <p:sp>
          <p:nvSpPr>
            <p:cNvPr id="255" name=""/>
            <p:cNvSpPr/>
            <p:nvPr/>
          </p:nvSpPr>
          <p:spPr>
            <a:xfrm>
              <a:off x="2286000" y="297180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86000" y="5105520"/>
              <a:ext cx="434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2819160" y="48002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819160" y="48006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3124080" y="44960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24080" y="4496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3581280" y="41907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581280" y="41911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3733560" y="38858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3560" y="3886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962160" y="35816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962160" y="358164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638680" y="358164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500200" y="5167440"/>
              <a:ext cx="66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Beg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95680" y="516744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666880" y="3167280"/>
              <a:ext cx="762120" cy="58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2160" y="4181"/>
                  </a:moveTo>
                  <a:lnTo>
                    <a:pt x="-4455" y="4181"/>
                  </a:lnTo>
                  <a:lnTo>
                    <a:pt x="-4455" y="27639"/>
                  </a:lnTo>
                  <a:lnTo>
                    <a:pt x="25965" y="4582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Obtain 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172200" y="3581640"/>
              <a:ext cx="914400" cy="580680"/>
            </a:xfrm>
            <a:prstGeom prst="borderCallout2">
              <a:avLst>
                <a:gd name="adj1" fmla="val 18750"/>
                <a:gd name="adj2" fmla="val -8333"/>
                <a:gd name="adj3" fmla="val 19356"/>
                <a:gd name="adj4" fmla="val -32120"/>
                <a:gd name="adj5" fmla="val 59351"/>
                <a:gd name="adj6" fmla="val -5674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Release loc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78160" y="3186360"/>
              <a:ext cx="109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Data in u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962160" y="3429000"/>
              <a:ext cx="0" cy="1676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Locks in distributed DBSs: Centralized 2P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 is only one 2PL scheduler (lock manager) in the distributed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lock requests are addressed t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mportant: TM must implement the replica control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601280" y="2666880"/>
            <a:ext cx="5566680" cy="2667240"/>
            <a:chOff x="1601280" y="2666880"/>
            <a:chExt cx="5566680" cy="2667240"/>
          </a:xfrm>
        </p:grpSpPr>
        <p:sp>
          <p:nvSpPr>
            <p:cNvPr id="277" name=""/>
            <p:cNvSpPr/>
            <p:nvPr/>
          </p:nvSpPr>
          <p:spPr>
            <a:xfrm>
              <a:off x="1601280" y="266688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Data process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495960" y="2666880"/>
              <a:ext cx="178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Coordinating T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28880" y="2666880"/>
              <a:ext cx="163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Centralized L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54480" y="3081240"/>
              <a:ext cx="199872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4254480" y="3562200"/>
              <a:ext cx="199872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2254320" y="3908520"/>
              <a:ext cx="186192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54320" y="4459320"/>
              <a:ext cx="186192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54480" y="4803840"/>
              <a:ext cx="199872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486600">
              <a:off x="4393440" y="3159000"/>
              <a:ext cx="138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1 Lock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20986200">
              <a:off x="4671720" y="3687840"/>
              <a:ext cx="145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2 Lock Gran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21111600">
              <a:off x="2674440" y="3762360"/>
              <a:ext cx="114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3 Ope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622200">
              <a:off x="2322720" y="4613400"/>
              <a:ext cx="174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4 End of Ope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572400">
              <a:off x="4665240" y="4746240"/>
              <a:ext cx="143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5 Release 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09680" y="3124080"/>
              <a:ext cx="0" cy="2210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48520" y="3124080"/>
              <a:ext cx="0" cy="2210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91120" y="3124080"/>
              <a:ext cx="0" cy="2210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Locks in distributed DBSs: Primary copy 2P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entralized 2PL scheduler may form a bottlen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PC2PL lock managers are implemented at a number of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y are responsible for a given set of lock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Ms send lock and unlock requests to the scheduler that is responsible for the given lock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e copy of the data item is treated as a primary 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location of the primary copy must be determined prior to sending lock and unlock requests - a directory design iss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Locks in distributed DBSs: Distributed 2P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Ms are available at each site in D2P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DB is not replicated, it is the same as PC2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replicated, it implements the ROWA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erations are passed via LMs - there is no lock granted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057760" y="3581280"/>
            <a:ext cx="5718600" cy="2667240"/>
            <a:chOff x="2057760" y="3581280"/>
            <a:chExt cx="5718600" cy="2667240"/>
          </a:xfrm>
        </p:grpSpPr>
        <p:sp>
          <p:nvSpPr>
            <p:cNvPr id="298" name=""/>
            <p:cNvSpPr/>
            <p:nvPr/>
          </p:nvSpPr>
          <p:spPr>
            <a:xfrm>
              <a:off x="5986440" y="3581280"/>
              <a:ext cx="178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articipating D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057760" y="3581280"/>
              <a:ext cx="178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Coordinating T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52440" y="3581280"/>
              <a:ext cx="184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Participating L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66880" y="4038480"/>
              <a:ext cx="19807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742840" y="5105520"/>
              <a:ext cx="3885840" cy="57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42840" y="5867280"/>
              <a:ext cx="186192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24280" y="4343400"/>
              <a:ext cx="199836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486600">
              <a:off x="2805840" y="4116240"/>
              <a:ext cx="138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1 Lock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592200">
              <a:off x="5107680" y="4495320"/>
              <a:ext cx="114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2 Ope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21115200">
              <a:off x="3812400" y="5105520"/>
              <a:ext cx="174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3 End of Ope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572400">
              <a:off x="2973960" y="5714640"/>
              <a:ext cx="143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4 Release 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66880" y="4038480"/>
              <a:ext cx="0" cy="2210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05360" y="4038480"/>
              <a:ext cx="0" cy="2210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647960" y="4038480"/>
              <a:ext cx="0" cy="2210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Example of a trans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ample DB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LIGHT(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FNO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DAT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, SRC, DEST, STSOLD, C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CUST(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CNAM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, ADDR, B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C(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FNO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DAT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CNAM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, SPEC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BEGIN_TRANSACTION RE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NPUT(flight_no, date, customer_nam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EXEC SQL UPDATE F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ET STSOLD = STSOLD +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HERE FNO = flight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ND DATE = d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EXEC SQL INS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NTO FC(FNO, DATE, CNAME, SPE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ALUES(flight_no, date, customer_name, nul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Properties of transa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m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 or no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sis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ps one consistent DB state to an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´correctness´of a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ch transaction sees a consistent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results of a transaction must survive system fail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member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CI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tomic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eated as a unit of 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ither all the actions of a transaction are completed or none of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pon failure the DBMS can decide whether to terminate by completing the pending actions or terminate by undoing the actions that have been exec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intainig atomicity requires recovery from fail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nsaction failures: data errors, deadlocks, etc.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ransaction 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stem failures: media, processor failures, communication breakages, etc.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rash re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lassification of consistency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(by Gray et al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rty data: data values that have been written by a transaction prior to its commi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gree 0 (Transaction T sees degree 0 consistency i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 does not overwrite dirty data of other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gree 1: Degree 0 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 does not commit any writes before end of trans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gree 2: Degree 1 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 does not read dirty data from other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gree 3: Degree 2 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 transactions do not dirty any data read by T before T compl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Isolation (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ssible execution schemes of T1 and T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1: Read(x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1: Read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1: x = x + 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1: x = x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1: Write(x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2: Read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1: Commi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1: Write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2: Read(x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1: 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2: x = x + 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2: x = x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2: Write(x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2: Write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2: Commi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2: Co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st update: incomplete results can be seen by other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scading aborts: if T1 decides to abort, all transactions that have seen T1´s incomplete results must be ab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905120"/>
            <a:ext cx="1066680" cy="916920"/>
          </a:xfrm>
          <a:prstGeom prst="borderCallout2">
            <a:avLst>
              <a:gd name="adj1" fmla="val 18750"/>
              <a:gd name="adj2" fmla="val -8333"/>
              <a:gd name="adj3" fmla="val 12351"/>
              <a:gd name="adj4" fmla="val -36013"/>
              <a:gd name="adj5" fmla="val 54000"/>
              <a:gd name="adj6" fmla="val -6605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ads 50 when x is 5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executing transaction cannot reveal it results to other concurrent transactions before its commi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olation is related to serializability: if several transactions are executed concurrently, the results must be the same as if they were executed serially in some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 is a strong relationship between isolation and degrees of consistenc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ree 0: low level of isolation, yet solves the problem of lost up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ree 2: solves both lost updates and cascading ab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gree 3: full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4:52:09Z</dcterms:created>
  <dc:creator>ITEC</dc:creator>
  <dc:description/>
  <dc:language>en-US</dc:language>
  <cp:lastModifiedBy>zsnemeth</cp:lastModifiedBy>
  <dcterms:modified xsi:type="dcterms:W3CDTF">1999-10-13T17:08:50Z</dcterms:modified>
  <cp:revision>88</cp:revision>
  <dc:subject/>
  <dc:title>Transaction Models of DDBMS</dc:title>
</cp:coreProperties>
</file>