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902825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CE51-4DC1-4A3F-8E81-FB41F7A8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BEB-E2D5-46C2-AF20-17746C29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7894-7E6A-4660-BBF7-0D05CAC1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664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1240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664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1240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93B-C698-4E5F-9902-A202EBCF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ABFA-20E7-41FB-BFBB-F1762E63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5293-EE3C-4974-A1AE-BD6BF34C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BCD7-49AB-4356-A852-F6E88526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EC22-88F1-4502-8347-ADCAA87E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CE00D-CE86-4D6D-9A56-73C4A86D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DDBB-A5F4-40EC-9B84-59604B55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2671-EF74-440B-9B3E-D519F81A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20AC-0BE5-4049-B029-81A8ED9F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6022-D367-4CFC-9857-4CE12BAF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51EC-ADED-45FE-BE5E-2C71F9FA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2781-09AB-4DC2-8A22-93765AE4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CEE6-BFDC-42FF-BA7F-3D2A5F0E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4664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1240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4664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1240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BAE1-B0F7-4553-8C9E-A9CF8037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613-85E0-468C-A231-F993CF67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EC50-CC5B-4FFC-8AC6-D9DE868C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488-B302-4410-A12C-E9329C5B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219-C66A-46BE-87CA-472C1081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7C8-B3CC-4D8C-BC3F-0063203E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2EB-1621-4EDA-849F-223DD91F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020-5681-4CCE-B3C8-0198376E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825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57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088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088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088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248160"/>
            <a:ext cx="3479760" cy="431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lvl="3" marL="1393920" indent="0">
              <a:lnSpc>
                <a:spcPct val="100000"/>
              </a:lnSpc>
              <a:buNone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3" marL="1393920" indent="0">
              <a:lnSpc>
                <a:spcPct val="100000"/>
              </a:lnSpc>
              <a:buNone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MPUS S_JEP-12495-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9040" indent="0">
              <a:lnSpc>
                <a:spcPct val="100000"/>
              </a:lnSpc>
              <a:buNone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248520"/>
            <a:ext cx="243540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838080"/>
            <a:ext cx="906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bd14539_" descr=""/>
          <p:cNvPicPr/>
          <p:nvPr/>
        </p:nvPicPr>
        <p:blipFill>
          <a:blip r:embed="rId4"/>
          <a:stretch/>
        </p:blipFill>
        <p:spPr>
          <a:xfrm>
            <a:off x="380880" y="801720"/>
            <a:ext cx="9068040" cy="150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296280" y="152280"/>
            <a:ext cx="6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F25C-3742-41A3-BFDA-75D604D085EB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42680" y="6248160"/>
            <a:ext cx="2609640" cy="431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MPUS S_JEP-12495-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18924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724800" y="6248520"/>
            <a:ext cx="243504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 indent="0" algn="ctr">
              <a:spcBef>
                <a:spcPts val="726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algn="ctr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39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90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br>
              <a:rPr sz="10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MPUS S_JEP-12495-97</a:t>
            </a: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22856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Developing of Network Computing Appl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ponent Based System Developm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jos Fic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Information Technology, University of Misko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5278-A748-41D5-95A6-FBCCC801367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erfaces of a Component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direct (object)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vided by objects that are made available by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direction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ethod dispatc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object's class determines the implementation of the object's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 runtime, a method invocation is resolved by retrieving the target object's class and directing the call to the nethod implementation in tha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870-2A8D-4616-AE1E-1650CDC6455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direct interface: an example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91040" y="990360"/>
            <a:ext cx="468648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mmar checker knows about the medi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mmar checker registers itself - the mediator knows only the abstract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d processor knows about the medi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d processor acquires a reference to the current checker from the mediator (the word processor knows only the abstract checker interface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219320"/>
            <a:ext cx="1981440" cy="1295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191120"/>
            <a:ext cx="4114800" cy="1295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1219320"/>
            <a:ext cx="2057400" cy="1295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752480"/>
            <a:ext cx="16761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5560" y="129528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processing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828800"/>
            <a:ext cx="131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d 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1752480"/>
            <a:ext cx="16765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50040" y="129528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mmar checking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182880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mmar che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8800" y="518148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services mediator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495680"/>
            <a:ext cx="14479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495680"/>
            <a:ext cx="1447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828800" y="2362320"/>
            <a:ext cx="137160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733560" y="2362320"/>
            <a:ext cx="685800" cy="220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2362320"/>
            <a:ext cx="167616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362320"/>
            <a:ext cx="38088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27432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3048120"/>
            <a:ext cx="30456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0" y="31240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8640" y="26668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000" y="281952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720" y="487692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1080" y="35053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6200" y="304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828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9360" y="441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2743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D64-2F37-47C1-AC16-F22DAE7547E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erfaces as contrac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terface specification: contract betwee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client and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 constructor of the client and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contract states what the client needs to do to use the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 theory, the contract could be refined at run time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196-C9FA-48DF-A6A9-AF8406AF59C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ent of a Contrac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r every oper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onditions: the client has to establish i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he oper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ostconditions: the component has to establish before returning to the cli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artially correctness: the operation terminates with the correct postconditions or does not terminates at al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otal correctness: the operation should eventually termin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Non-functional requirements (performance, availability, data safety capacity etc.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1BE-3966-4F5E-BAD1-81064ACFD4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Explicit context dependenci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rt of the definiti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specified interfaces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icit context dependen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00"/>
              </a:spcBef>
              <a:buSzPct val="121168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he deployment environment will need to provide, such that the component can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601"/>
              </a:spcBef>
              <a:buSzPct val="124304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interfaces of the other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601"/>
              </a:spcBef>
              <a:buSzPct val="124304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ust include also the specification of the component world (component model and its version). (For example CORBA x.x, Java x.x, COM/DCOM x.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>
              <a:spcBef>
                <a:spcPts val="601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4AAB-3D1E-439E-A178-BC54AE1E195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mponent model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9068040" cy="1752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ach component model use a specific distributed object model as a middlewar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three major component models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3124080"/>
          <a:ext cx="8534520" cy="2700360"/>
        </p:xfrm>
        <a:graphic>
          <a:graphicData uri="http://schemas.openxmlformats.org/drawingml/2006/table">
            <a:tbl>
              <a:tblPr/>
              <a:tblGrid>
                <a:gridCol w="3048120"/>
                <a:gridCol w="1752480"/>
                <a:gridCol w="1981440"/>
                <a:gridCol w="17524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dlew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t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Beans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erprise Java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 R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so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BA 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583-AF5F-4D7F-8AF1-D2EE5B0E411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he JavaBean Component Model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Topi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hat is a Bean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DK as a component framework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main aspects of the Bean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sign-time and run-time 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sign patter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reating a Bea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How does it work?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C07-4016-4DED-BBB2-99B5B1C221D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a Bean?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specification a Java component architecture for Java component developers and component assembl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Bean a black-box component. It may be visible or invisi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Bean consists in a ZIP-format archive fi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ava class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set of serialized object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ptional HTML help file, localization information, icon and other resour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n optional manifest file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91EC-971C-4CC4-9959-6665254031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a Bean?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JavaBeans are (mainly) presentation tier compon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y tipically represent GUI elem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y share the address space with their cli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ir clients are containers that provide all the resour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y send events to their contain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AE74-1C30-4BC6-A097-D2948B6F8F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rogrammer's View of a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895480"/>
            <a:ext cx="1981080" cy="1905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3809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505320" y="18288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73392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42670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1219320"/>
            <a:ext cx="175284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2880" y="14479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962160" y="1676520"/>
            <a:ext cx="1904760" cy="1447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75680" y="12193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394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46000" y="44197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29520" y="3124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965-26A4-4A7F-B8CB-7885BE1C3F3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hy Software Components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concept of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oftware compon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componen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Enterprise JavaBeans component model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DCOM Distributed Objec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BF2-58E1-4774-AF39-41674EE5D5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he JDK as a Component Framework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ithin the JDK the developer ca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reate new Beans from scratc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reate new Beans from existing be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ustomize existing Be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reate applications from customized Beans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BB1-AE4E-4118-8DA4-1AF27A3E83E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JDK Framework View of JavaBea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219320"/>
            <a:ext cx="8991720" cy="259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809880"/>
            <a:ext cx="2666880" cy="228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572000"/>
            <a:ext cx="2133360" cy="990720"/>
          </a:xfrm>
          <a:prstGeom prst="leftRightArrow">
            <a:avLst>
              <a:gd name="adj1" fmla="val 50000"/>
              <a:gd name="adj2" fmla="val 428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129564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1600200"/>
            <a:ext cx="10666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1600200"/>
            <a:ext cx="12952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1600200"/>
            <a:ext cx="16002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sp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1600200"/>
            <a:ext cx="12952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24680" y="1600200"/>
            <a:ext cx="129564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396252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11480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267080"/>
            <a:ext cx="1371600" cy="1524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441972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457200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724280"/>
            <a:ext cx="1371600" cy="1524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83400" y="49528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wn B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A13-ED80-42A2-A2FA-7620F8E4E6E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Visual Present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s the visual layout of compon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Let components visually interact with each oth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se are provided b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ava Foundation Classes (JF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W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-D graphic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wing compon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D2C-1CAB-469E-AFF1-DD3CC189191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event model: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event-delegation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s the same one JDK 1.1 introduced for AWT but every Beans can use 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vents are objec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component can post an event (event source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ther components can subscribe to the event sour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ll the subscribed component (listeners) will be notified if the event "fires"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0CE7-B388-4166-8AA2-6466F6DDC0B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have properties: named attribut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programmer can read and modify these properties using a property editor within a visual too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t run time getter and setter methods are availa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roperty changes can trigger ev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roperties can be constraite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E3A-09CE-4A22-9555-0617A81FB5E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rospec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component can make its services to the outside worl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visual tool use this facility to discover the Bean's incoming and outgoing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velopers can define for their Beans an explicit BeanInfo class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9FC-4703-4B66-B069-11304CA7577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ersistence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use the JDK serialization servi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Visual tools require component that support some form of persisten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 a simple form of version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ans never load state written by their older vers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ans never store state in a format that is consistent with older vers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can be packaged and distributed using JAR fil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562-B4E2-47BB-9FAC-855420D6795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ustomiz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 the toolability of Java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propriety editor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classes provide the first level of support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an designer can visually edit a particular part of property, for example font, colo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Propriety sheets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are visual interfaces that group all the propriety edito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customizers provide dialogs that let the designer edit a bean as a who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414-5AFD-4A5A-B3A9-A3F26A1B180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ORB servic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RBA ORB let the programmer invoke methods across languages, operating systems and network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RMI can also use for Java-to-Java bean commun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7C59-7B58-49E5-96A5-760B65B30F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esign-Time and Run-Time Bea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9068040" cy="1752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6000"/>
          </a:bodyPr>
          <a:p>
            <a:pPr marL="333720" indent="-33372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Bean has to works inside a builder as well as in a running applic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3720" indent="-33372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o be toolable a beans must support a lot of extra func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2971800"/>
            <a:ext cx="2895840" cy="3124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n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Edito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Info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Descripto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specto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R + (.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2971800"/>
            <a:ext cx="2133720" cy="1066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n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R + (.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124080"/>
            <a:ext cx="1143000" cy="609840"/>
          </a:xfrm>
          <a:prstGeom prst="rightArrow">
            <a:avLst>
              <a:gd name="adj1" fmla="val 50000"/>
              <a:gd name="adj2" fmla="val 4685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" y="378468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94880" y="419112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041C-2741-431E-AD2A-DFD09022412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y Software Components?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ulti-tier architecture separates at least the presentation - application - data management layers, but these tiers usually remain complex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ditional separation of the tiers is poss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mand of the market for the sorter development proces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mponents help in reu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asiest way to develop scalable system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7C00-2324-4B2B-BCF6-FA917EEE7A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esing Patter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architecture specifies standard name and type conventions for methods that a Bean uses to expose its properties, events and method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introspector uses this convention to discover the Bean's faciliti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programmer can alter this convention by providing an own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BeanInfo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class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25F1-9A57-42E6-875A-8C5D90984D7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reating a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riting a Bean class the naming conventions are compulso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f a Bean is a visual component it must derive from one of the AWT class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container  must be created and the bean must be added to i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f the Bean is a listener it must register to the event source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D8F-1703-44A3-A4C3-8D389C93601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How does it work?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vent source beans generates event objects and pass them as arguments to the event handling methods of listen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ll registered  listener get the event objec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very delivery normally is multicas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s it possible to create an event adapter to demultiplexing of event sources onto a single liste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07C-6669-4FE6-BA78-A61DB019A0E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nterprise JavaBeans Component Mod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Topi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Goals for Enterprise JavaBeans (EJB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nterprise JavaBeans  typ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lavors of the Enterprise Java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asks of the EJB contai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haracteristics of the Session 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haracteristics of the Entity 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DBE-EA65-42C7-A24A-E79F4BBD00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JavaBeans component model helps to developing the client side ti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business logic tier needs a server-oriented componen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veloping the business logic tier the support of transactions is essentia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large business application has several different clients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6C4E-12BF-4677-B42F-4D5F0BAFA69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oals for Enterprise JavaBeans (EJB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rovide the standard architecture for developing distributed, component-based appl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ool interoperatibi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Hide all the "technical" details such as handling transactions, security, distribution etc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ddress development, deployment, and runtime aspects of enterprise application life cycle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BC23-3574-4547-A93F-889E6F8ABC9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Enterprise Beans  Typ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ree different typ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04920" y="2057400"/>
          <a:ext cx="9296280" cy="3657600"/>
        </p:xfrm>
        <a:graphic>
          <a:graphicData uri="http://schemas.openxmlformats.org/drawingml/2006/table">
            <a:tbl>
              <a:tblPr/>
              <a:tblGrid>
                <a:gridCol w="3684600"/>
                <a:gridCol w="5611680"/>
              </a:tblGrid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B Typ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pos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ssion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orms a task for a client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ity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s a business entity object that exists in persistent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rage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ssage-Driven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s as a listener for the Java Message Service API, processing messages asynchronously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825-7785-4BF2-B4EA-BA40556038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lavors of the Enterprise JavaBea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tipically provide server-side functiona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run in their own address sp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are integrated into a container that hides all system detail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anage components and notify components about events such as activation, passivation, transac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vide component access to services such as transactions, security, persiste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elp to register and deploy compon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BC0A-2B7D-4C7D-8E14-5427A04E2CA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asks of the EJB Contain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1371600"/>
            <a:ext cx="5410080" cy="2362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3733920"/>
            <a:ext cx="22096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447920"/>
            <a:ext cx="1447920" cy="441936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6765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TS/J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6765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16765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30481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44197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1676520"/>
            <a:ext cx="83844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267080"/>
            <a:ext cx="1447920" cy="14479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19720"/>
            <a:ext cx="1447560" cy="14475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572000"/>
            <a:ext cx="1447920" cy="14479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724280"/>
            <a:ext cx="1447920" cy="14479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4360" y="5181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600200"/>
            <a:ext cx="609840" cy="6858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2819520"/>
            <a:ext cx="685800" cy="838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4114800"/>
            <a:ext cx="685800" cy="838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3240" y="2286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4640" y="5029200"/>
            <a:ext cx="12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3733920"/>
            <a:ext cx="123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if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2440" y="190512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2240" y="4876920"/>
            <a:ext cx="18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198108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952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743200"/>
            <a:ext cx="144756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2743200"/>
            <a:ext cx="1600200" cy="190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495320" y="2742840"/>
            <a:ext cx="121932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266688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2743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771-7D13-42E8-8E5C-4EAA84AC12F2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haracteristics of the Session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t is trans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xecutes on behalf of a single client - the instance is an extension of the client that creates 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an be transaction-awar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Updates data in an underlying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ts lifetime is tipically that of its cl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s destroyed when the EJS server crashes. The client has to re-establish a new session objec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5FD-B536-49A9-8D92-E73C75A9B1C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a Component i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Characteristic properties of compon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component is a unit of independent deploym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is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ell separated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from its environment and from other compon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will never be deployed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artiall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 encapsulates its constituent featur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user of a component cannot be expected to have access to the construction detail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65F-B8FE-4E03-BA97-3AEA42D6DC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the Session Bean (cont'd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oes not represent data that should be stores in a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ipically reads and updates data in the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re intended to be private resources used only the client that creates the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nonymous - it hides its identity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72A-A7B1-4E6F-83AF-49B1F604308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haracteristics of the Entity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s shared access from multiple us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rticipates in transac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Represents data in the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an be long-live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rvives crashes of the EJB server. The crash is transparent to the clien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Has a persistent object reference. The object reference is encapsulated the Object Id for this Bean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6B0-D6CC-4020-9423-A8D5987A6E4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609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2590920"/>
            <a:ext cx="2057400" cy="1371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2057400"/>
            <a:ext cx="2667240" cy="30481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05720" y="2362320"/>
            <a:ext cx="1828800" cy="19047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8640" y="30481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82760" y="4572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3352680"/>
            <a:ext cx="185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's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2040" y="37339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4520" y="30481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2514600"/>
            <a:ext cx="1523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43800" y="29718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71800" y="32767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5181480"/>
            <a:ext cx="175248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09160" y="52578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-ja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8403-0B91-49DA-8CB3-29DBAFA3F06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92966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ntract between client and contai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prise Bean has a unique ident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interface: Remote interface provided by bean. Client locates home using JNDI. Primary key server as identification within a home. Bean and container cooperate to implement create, find, home and rem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interface: provided by Bean. Implementation of business logic in Bean class. Container delegates incoming call to this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: serializable classes for storing references persist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MetaData: Run-time access to component functional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1B31-1F9C-4240-8B0A-288AD260796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ponent contract between Bean and contai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stance view of life cyc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tityContext/SessionContext/MessageDriveContext Are passed to Bean instance at creation tim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vironment tha a container makes available to a Bean insta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ist of services provided by the contain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CB0-3D90-4B20-87ED-6AB02F45310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jb-jar fi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XML based Deployment Description for configuration and deploy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ava class files for Enterprise Be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Key class (Entity Beans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 object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036-B9AA-43BB-8CAF-B98EC2180D2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he DCOM Distributed Object Model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8000"/>
          </a:bodyPr>
          <a:p>
            <a:pPr marL="3405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Topi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What is DCO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objec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serv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architectural solu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Local/Remote Transparenc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COM Client/Serv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COM Object Cre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9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ActiveX Contol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534-FAA0-4D7D-864E-4E5C9917757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What is DCOM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DCOM: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Distributed Component Objec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istributed object model of Microsof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Binary interoperability standard and its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PI level servi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No high-level language bindings, but Microsoft Visual J++ provides Java bind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Based on DCE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F50-1D97-46E1-BBFB-B061A82783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bjec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object a component supports one or more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t is identified by a 128-bit CLSID (Class ID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t is not an object in the classical OO sen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re is no object I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DCOM objects does not maintain state between connec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 client cannot reconnect to exactly the same objec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A594-C078-4E03-AC22-F89A8AD970A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nterface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Collection of related func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eparates the interface from the implementation (uses DCE-based IDL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efines as a low-level binary API based on a table of pointers (</a:t>
            </a:r>
            <a:r>
              <a:rPr b="0" i="1" lang="en-GB" sz="3300" spc="-1" strike="noStrike">
                <a:solidFill>
                  <a:srgbClr val="000000"/>
                </a:solidFill>
                <a:latin typeface="Times New Roman"/>
              </a:rPr>
              <a:t>vtable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n interface has a symbolic name, but at run time is identified by a 128-bit unique IID (</a:t>
            </a:r>
            <a:r>
              <a:rPr b="0" i="1" lang="en-GB" sz="3300" spc="-1" strike="noStrike">
                <a:solidFill>
                  <a:srgbClr val="000000"/>
                </a:solidFill>
                <a:latin typeface="Times New Roman"/>
              </a:rPr>
              <a:t>Interface Identifier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C101-24B6-4679-85DB-CC7226A87F2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a Component i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component is a unit of third-party composi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needs to be sufficiently self-containe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needs to come with clear specific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interacts with its environment through a well-defined interfa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>
              <a:spcBef>
                <a:spcPts val="726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FE1-B6F2-4FFD-8CFE-EFB9B71A1F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nterface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2438280"/>
            <a:ext cx="1467000" cy="1390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6440" y="2705040"/>
            <a:ext cx="4362480" cy="3048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781360" y="2685960"/>
            <a:ext cx="1276200" cy="3048120"/>
            <a:chOff x="2781360" y="2685960"/>
            <a:chExt cx="1276200" cy="3048120"/>
          </a:xfrm>
        </p:grpSpPr>
        <p:sp>
          <p:nvSpPr>
            <p:cNvPr id="292" name=""/>
            <p:cNvSpPr/>
            <p:nvPr/>
          </p:nvSpPr>
          <p:spPr>
            <a:xfrm>
              <a:off x="2781360" y="2685960"/>
              <a:ext cx="1238040" cy="3048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81360" y="31053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160" y="352440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19160" y="394344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81360" y="43815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00440" y="481968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160" y="527688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67360" y="2705040"/>
            <a:ext cx="1276200" cy="3048120"/>
            <a:chOff x="5067360" y="2705040"/>
            <a:chExt cx="1276200" cy="3048120"/>
          </a:xfrm>
        </p:grpSpPr>
        <p:sp>
          <p:nvSpPr>
            <p:cNvPr id="300" name=""/>
            <p:cNvSpPr/>
            <p:nvPr/>
          </p:nvSpPr>
          <p:spPr>
            <a:xfrm>
              <a:off x="5067360" y="2705040"/>
              <a:ext cx="1238040" cy="3048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67360" y="312444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05160" y="354348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05160" y="396252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67360" y="440064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86440" y="48387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05160" y="529596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74920" y="251784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2895480"/>
            <a:ext cx="89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29160" y="1285920"/>
            <a:ext cx="156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82320" y="1305000"/>
            <a:ext cx="261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f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86320" y="374328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95272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33148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76640" y="373392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57560" y="417204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57560" y="45910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76640" y="50482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76640" y="55054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E118-4D56-4643-A8F9-B7C07143D4E2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nterface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5140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726"/>
              </a:spcBef>
              <a:buSzPct val="117023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Every DCOM objects must implement the </a:t>
            </a:r>
            <a:r>
              <a:rPr b="1" lang="en-GB" sz="2900" spc="-1" strike="noStrike">
                <a:solidFill>
                  <a:srgbClr val="0099cc"/>
                </a:solidFill>
                <a:latin typeface="Times New Roman"/>
              </a:rPr>
              <a:t>IUnknow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clients can use it f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00"/>
              </a:spcBef>
              <a:buSzPct val="106564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 the lifetime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00"/>
              </a:spcBef>
              <a:buSzPct val="106564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cover the interfaces the object sup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295800"/>
            <a:ext cx="2610000" cy="24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11760" y="3971880"/>
            <a:ext cx="130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D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134200" y="26096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6134040" y="3790440"/>
            <a:ext cx="7430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6095880" y="4628880"/>
            <a:ext cx="7430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6095880" y="5372280"/>
            <a:ext cx="743040" cy="1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64080" y="19144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 CE"/>
              </a:rPr>
              <a:t>I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39200" y="4067280"/>
            <a:ext cx="1886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Times New Roman CE"/>
              </a:rPr>
              <a:t>Interfac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20840" y="3228840"/>
            <a:ext cx="1905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Times New Roman CE"/>
              </a:rPr>
              <a:t>Interfac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8640" y="482904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Times New Roman CE"/>
              </a:rPr>
              <a:t>Interface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C029-F33D-42DA-8D25-651D76A72D6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 server contains one or more object classes identified its own CLSI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client asks for an object of a given CLSI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server creates a new object by a </a:t>
            </a:r>
            <a:r>
              <a:rPr b="0" i="1" lang="en-GB" sz="3300" spc="-1" strike="noStrike">
                <a:solidFill>
                  <a:srgbClr val="000000"/>
                </a:solidFill>
                <a:latin typeface="Times New Roman"/>
              </a:rPr>
              <a:t>class facto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pointer of the primary interface of the new object is returned to the cl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server not an object, it is an EXE or DLL (or Java class)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1A9-4A91-462E-BCAD-6045BE0DDFF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Structure of a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315040" y="2552760"/>
            <a:ext cx="2971800" cy="3371760"/>
            <a:chOff x="5315040" y="2552760"/>
            <a:chExt cx="2971800" cy="3371760"/>
          </a:xfrm>
        </p:grpSpPr>
        <p:sp>
          <p:nvSpPr>
            <p:cNvPr id="335" name=""/>
            <p:cNvSpPr/>
            <p:nvPr/>
          </p:nvSpPr>
          <p:spPr>
            <a:xfrm>
              <a:off x="5315040" y="2552760"/>
              <a:ext cx="2971800" cy="337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91320" y="2838240"/>
              <a:ext cx="1942920" cy="10094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10400" y="4209840"/>
              <a:ext cx="1923840" cy="1066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82920" y="2866680"/>
              <a:ext cx="130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DCO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Obje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62760" y="4257360"/>
              <a:ext cx="1364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a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Fact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50120" y="5362200"/>
              <a:ext cx="239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DCOM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5741280" y="587700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EXE or D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705720" y="1752120"/>
            <a:ext cx="0" cy="80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64120" y="15717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095720" y="3181320"/>
            <a:ext cx="16574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095720" y="3581280"/>
            <a:ext cx="16574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133880" y="4743360"/>
            <a:ext cx="16574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14360" y="2943360"/>
            <a:ext cx="17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32440" y="4124160"/>
            <a:ext cx="249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Class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ClassFactory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607-08C4-43D1-A1B3-BC4D1B47CB46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Functions of a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mplement a class factory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for each CLSI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 class can support licensing (IClassFactory2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Register the classes it suppor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registry entry for every CLSID with the pathname to the EXE or DLL of the implement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nitialise the DCOM libra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CoInitializ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PI cal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 DCOM library provides run-time services and AP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0F55-079C-4901-AD51-7D2EDB4B489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Functions of a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Verify that the library is a compatible vers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10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CoBuildVersio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PI cal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Provide an unloading mechanis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o terminate the objects without active cli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Uninitialise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the DCOM libra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f there are no objects with active cli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F4C-256F-4436-AD02-F4D5CA6521A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Architectural Solu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58560" y="1220760"/>
            <a:ext cx="9542880" cy="4942080"/>
            <a:chOff x="358560" y="1220760"/>
            <a:chExt cx="9542880" cy="4942080"/>
          </a:xfrm>
        </p:grpSpPr>
        <p:grpSp>
          <p:nvGrpSpPr>
            <p:cNvPr id="355" name=""/>
            <p:cNvGrpSpPr/>
            <p:nvPr/>
          </p:nvGrpSpPr>
          <p:grpSpPr>
            <a:xfrm>
              <a:off x="430200" y="1524240"/>
              <a:ext cx="2228760" cy="1009440"/>
              <a:chOff x="430200" y="1524240"/>
              <a:chExt cx="2228760" cy="1009440"/>
            </a:xfrm>
          </p:grpSpPr>
          <p:sp>
            <p:nvSpPr>
              <p:cNvPr id="356" name=""/>
              <p:cNvSpPr/>
              <p:nvPr/>
            </p:nvSpPr>
            <p:spPr>
              <a:xfrm>
                <a:off x="430200" y="1524240"/>
                <a:ext cx="222876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30200" y="2000520"/>
                <a:ext cx="222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430200" y="3124440"/>
              <a:ext cx="2628360" cy="1009440"/>
              <a:chOff x="430200" y="3124440"/>
              <a:chExt cx="2628360" cy="1009440"/>
            </a:xfrm>
          </p:grpSpPr>
          <p:sp>
            <p:nvSpPr>
              <p:cNvPr id="359" name=""/>
              <p:cNvSpPr/>
              <p:nvPr/>
            </p:nvSpPr>
            <p:spPr>
              <a:xfrm>
                <a:off x="430200" y="3124440"/>
                <a:ext cx="262836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30200" y="3600720"/>
                <a:ext cx="262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449280" y="4838760"/>
              <a:ext cx="2971440" cy="1009440"/>
              <a:chOff x="449280" y="4838760"/>
              <a:chExt cx="2971440" cy="1009440"/>
            </a:xfrm>
          </p:grpSpPr>
          <p:sp>
            <p:nvSpPr>
              <p:cNvPr id="362" name=""/>
              <p:cNvSpPr/>
              <p:nvPr/>
            </p:nvSpPr>
            <p:spPr>
              <a:xfrm>
                <a:off x="449280" y="4838760"/>
                <a:ext cx="297144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49280" y="5315040"/>
                <a:ext cx="297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4163760" y="3124440"/>
              <a:ext cx="2609640" cy="1009440"/>
              <a:chOff x="4163760" y="3124440"/>
              <a:chExt cx="2609640" cy="1009440"/>
            </a:xfrm>
          </p:grpSpPr>
          <p:sp>
            <p:nvSpPr>
              <p:cNvPr id="365" name=""/>
              <p:cNvSpPr/>
              <p:nvPr/>
            </p:nvSpPr>
            <p:spPr>
              <a:xfrm>
                <a:off x="4163760" y="3124440"/>
                <a:ext cx="260964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63760" y="3600720"/>
                <a:ext cx="260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6964200" y="4534200"/>
              <a:ext cx="2361960" cy="1618920"/>
              <a:chOff x="6964200" y="4534200"/>
              <a:chExt cx="2361960" cy="1618920"/>
            </a:xfrm>
          </p:grpSpPr>
          <p:sp>
            <p:nvSpPr>
              <p:cNvPr id="368" name=""/>
              <p:cNvSpPr/>
              <p:nvPr/>
            </p:nvSpPr>
            <p:spPr>
              <a:xfrm>
                <a:off x="6964200" y="4534200"/>
                <a:ext cx="2361960" cy="16189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964200" y="5297760"/>
                <a:ext cx="236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964200" y="1600200"/>
              <a:ext cx="2228760" cy="1009440"/>
              <a:chOff x="6964200" y="1600200"/>
              <a:chExt cx="2228760" cy="1009440"/>
            </a:xfrm>
          </p:grpSpPr>
          <p:sp>
            <p:nvSpPr>
              <p:cNvPr id="371" name=""/>
              <p:cNvSpPr/>
              <p:nvPr/>
            </p:nvSpPr>
            <p:spPr>
              <a:xfrm>
                <a:off x="6964200" y="1600200"/>
                <a:ext cx="222876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964200" y="2076480"/>
                <a:ext cx="222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873360" y="1533600"/>
              <a:ext cx="110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6120" y="3133800"/>
              <a:ext cx="13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Fact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30240" y="4867560"/>
              <a:ext cx="118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84360" y="3133800"/>
              <a:ext cx="195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ompon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22600" y="1590840"/>
              <a:ext cx="180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IUnknow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78040" y="4448160"/>
              <a:ext cx="168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Exten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Interface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 CE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5000" y="20415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all_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8560" y="3641760"/>
              <a:ext cx="27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reate_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000" y="5356440"/>
              <a:ext cx="293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Initialize/Uninitial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11560" y="3641760"/>
              <a:ext cx="27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reate_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23960" y="213696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Query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85800" y="5337360"/>
              <a:ext cx="219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Query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ervice_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58960" y="1752840"/>
              <a:ext cx="430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39880" y="2229120"/>
              <a:ext cx="36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78400" y="2229120"/>
              <a:ext cx="1467000" cy="23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7897320" y="2628720"/>
              <a:ext cx="19080" cy="192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39840" y="35434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611000" y="2552760"/>
              <a:ext cx="19080" cy="62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48440" y="4152960"/>
              <a:ext cx="19080" cy="5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611160" y="4114800"/>
              <a:ext cx="1847880" cy="120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125760" y="4305600"/>
              <a:ext cx="857160" cy="10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40520" y="3316320"/>
              <a:ext cx="196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&lt;extends&gt;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76240" y="1220760"/>
              <a:ext cx="477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sk for a reference to an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1480" y="2192400"/>
              <a:ext cx="41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all a service on an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35720" y="5077080"/>
              <a:ext cx="56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1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06360" y="3076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01680" y="3133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15720" y="2733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96640" y="2448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31160" y="2611440"/>
              <a:ext cx="224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reateIn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84360" y="358308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46760" y="4687920"/>
              <a:ext cx="17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mpl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580-2184-46F0-AADA-12565CB27FB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Local/Remote Transparency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ree kind of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in-process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 process space of the server and client is the same (DLL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local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server is in a separate process on the same machine (EX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remote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separate process on a remote machnin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7843-F620-440E-B98C-E0E5C29F09F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Client/S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39840" y="1123920"/>
            <a:ext cx="9563040" cy="5073120"/>
            <a:chOff x="339840" y="1123920"/>
            <a:chExt cx="9563040" cy="5073120"/>
          </a:xfrm>
        </p:grpSpPr>
        <p:sp>
          <p:nvSpPr>
            <p:cNvPr id="409" name=""/>
            <p:cNvSpPr/>
            <p:nvPr/>
          </p:nvSpPr>
          <p:spPr>
            <a:xfrm>
              <a:off x="5394600" y="3989520"/>
              <a:ext cx="4309920" cy="193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16760" y="3448080"/>
              <a:ext cx="4533840" cy="262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92600" y="2533680"/>
              <a:ext cx="1981080" cy="3600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73520" y="1123920"/>
              <a:ext cx="1962000" cy="1295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2120" y="2838600"/>
              <a:ext cx="1581120" cy="1257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4840" y="3000600"/>
              <a:ext cx="110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App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044880" y="2543400"/>
              <a:ext cx="1695600" cy="1373760"/>
              <a:chOff x="3044880" y="2543400"/>
              <a:chExt cx="1695600" cy="1373760"/>
            </a:xfrm>
          </p:grpSpPr>
          <p:sp>
            <p:nvSpPr>
              <p:cNvPr id="416" name=""/>
              <p:cNvSpPr/>
              <p:nvPr/>
            </p:nvSpPr>
            <p:spPr>
              <a:xfrm>
                <a:off x="3044880" y="2629080"/>
                <a:ext cx="1695600" cy="12567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314880" y="2543400"/>
                <a:ext cx="12301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Loca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Objec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Prox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102120" y="4448160"/>
              <a:ext cx="1676520" cy="1373760"/>
              <a:chOff x="3102120" y="4448160"/>
              <a:chExt cx="1676520" cy="1373760"/>
            </a:xfrm>
          </p:grpSpPr>
          <p:sp>
            <p:nvSpPr>
              <p:cNvPr id="419" name=""/>
              <p:cNvSpPr/>
              <p:nvPr/>
            </p:nvSpPr>
            <p:spPr>
              <a:xfrm>
                <a:off x="3102120" y="4515120"/>
                <a:ext cx="1676520" cy="127620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298680" y="4448160"/>
                <a:ext cx="13435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Remot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Objec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Prox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3373200" y="387036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16680" y="573732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D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9840" y="1143000"/>
              <a:ext cx="4724280" cy="504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0840" y="1362240"/>
              <a:ext cx="132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Proc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2396880" y="1162080"/>
              <a:ext cx="2324520" cy="847440"/>
              <a:chOff x="2396880" y="1162080"/>
              <a:chExt cx="2324520" cy="84744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2952720" y="1162080"/>
                <a:ext cx="1768680" cy="847440"/>
                <a:chOff x="2952720" y="1162080"/>
                <a:chExt cx="1768680" cy="8474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2968560" y="1162080"/>
                  <a:ext cx="1638360" cy="799920"/>
                </a:xfrm>
                <a:prstGeom prst="rect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952720" y="1184040"/>
                  <a:ext cx="1768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 CE"/>
                    </a:rPr>
                    <a:t>In-proces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 CE"/>
                    </a:rPr>
                    <a:t>Objec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 flipH="1">
                <a:off x="2396880" y="137160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2396880" y="17337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 flipH="1">
              <a:off x="2454120" y="3029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435040" y="3676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92280" y="49341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473200" y="5505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054520" y="1581120"/>
              <a:ext cx="1904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73240" y="3448080"/>
              <a:ext cx="36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92320" y="3714840"/>
              <a:ext cx="304920" cy="14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55680" y="17366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tu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7701120" y="4340160"/>
              <a:ext cx="1724040" cy="847800"/>
              <a:chOff x="7701120" y="4340160"/>
              <a:chExt cx="1724040" cy="847800"/>
            </a:xfrm>
          </p:grpSpPr>
          <p:sp>
            <p:nvSpPr>
              <p:cNvPr id="440" name=""/>
              <p:cNvSpPr/>
              <p:nvPr/>
            </p:nvSpPr>
            <p:spPr>
              <a:xfrm>
                <a:off x="7716240" y="4340160"/>
                <a:ext cx="1596960" cy="81828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701120" y="4362480"/>
                <a:ext cx="1724040" cy="82548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Remo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Obje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 flipH="1">
              <a:off x="7159320" y="45547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159320" y="49244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29400" y="4357800"/>
              <a:ext cx="90972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02400" y="4457880"/>
              <a:ext cx="46368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34440" y="514656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D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38960" y="5203800"/>
              <a:ext cx="212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Remote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73120" y="3851280"/>
              <a:ext cx="317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Remote Server 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483520" y="1241640"/>
              <a:ext cx="4419360" cy="2092320"/>
              <a:chOff x="5483520" y="1241640"/>
              <a:chExt cx="4419360" cy="209232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7292880" y="1714680"/>
                <a:ext cx="2323440" cy="847440"/>
                <a:chOff x="7292880" y="1714680"/>
                <a:chExt cx="2323440" cy="84744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7848000" y="1714680"/>
                  <a:ext cx="1768320" cy="847440"/>
                  <a:chOff x="7848000" y="1714680"/>
                  <a:chExt cx="1768320" cy="84744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7863480" y="1714680"/>
                    <a:ext cx="1638000" cy="799920"/>
                  </a:xfrm>
                  <a:prstGeom prst="rect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848000" y="1736640"/>
                    <a:ext cx="176832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 CE"/>
                      </a:rPr>
                      <a:t>Loca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 CE"/>
                      </a:rPr>
                      <a:t>Object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4" name=""/>
                <p:cNvSpPr/>
                <p:nvPr/>
              </p:nvSpPr>
              <p:spPr>
                <a:xfrm flipH="1">
                  <a:off x="7292880" y="1924200"/>
                  <a:ext cx="609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7292880" y="2286360"/>
                  <a:ext cx="609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5826240" y="1733760"/>
                <a:ext cx="933120" cy="80028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721560" y="1867320"/>
                <a:ext cx="475920" cy="1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30200" y="2537280"/>
                <a:ext cx="92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CO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829280" y="2575080"/>
                <a:ext cx="184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Local 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483520" y="1314720"/>
                <a:ext cx="4419360" cy="2019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075720" y="1241640"/>
                <a:ext cx="290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Local Server Proc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5870160" y="19083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tu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55680" y="4651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tu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39000" y="3489480"/>
              <a:ext cx="23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 CE"/>
                </a:rPr>
                <a:t>Remote 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740480" y="2095200"/>
              <a:ext cx="1085760" cy="11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778640" y="4705200"/>
              <a:ext cx="952200" cy="3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98520" y="49179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 CE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10120" y="2724120"/>
              <a:ext cx="10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 CE"/>
                </a:rPr>
                <a:t>L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5A1E-9335-415B-8468-82C081CEA98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Object Creation Scenario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9960" y="1257480"/>
            <a:ext cx="190512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22960" y="13748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67200" y="1257480"/>
            <a:ext cx="1904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4120" y="1257480"/>
            <a:ext cx="2228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58280" y="3695760"/>
            <a:ext cx="1904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81160" y="1962000"/>
            <a:ext cx="114120" cy="400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62520" y="1962000"/>
            <a:ext cx="114120" cy="400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24480" y="1981080"/>
            <a:ext cx="114480" cy="400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535960" y="4400640"/>
            <a:ext cx="74520" cy="158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95280" y="24382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31640" y="2052720"/>
            <a:ext cx="24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1: CoGet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31400" y="2471760"/>
            <a:ext cx="29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2: CoRegister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076280" y="2933640"/>
            <a:ext cx="2228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76200" y="3467160"/>
            <a:ext cx="504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86400" y="30243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3: CreateInstance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58040" y="39816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41120" y="351936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4: 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1295280" y="4590720"/>
            <a:ext cx="7239240" cy="1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80960" y="412920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5: Obtai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95280" y="5257800"/>
            <a:ext cx="504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095360" y="5848200"/>
            <a:ext cx="2228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27160" y="536724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8: CoRevoke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59880" y="479592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7: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08000" y="247176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(CLS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42080" y="38131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IMy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4040" y="1432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IClassFactor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25240" y="137484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DCOM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92BA-76A0-4E6C-9DB1-623B65FB8EC8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a Component i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component has no persistent sta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cannot be distinguished from copies of its 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ossible exceptions: non-functional attributes (for example license number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can be loaded into and activated in a particular system several times. The number of available copies is not meaningfu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5972-BDA9-41A9-BBBE-130E741299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Object Cre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1. The client requests a pointer to the class factory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gives the CLSID of the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MyClas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2. The server instantiates a class factory and register 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3. The client requests an instance of this objec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IClassFactory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reates and instantiates the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MyCla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 IID to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IMyInterfac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AF4-8BF2-4105-BC81-78171CFCA8F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Object Creation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4. The factory creates an instance of the clas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t returns to the client a pointer for the requested interfa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5. The client interacts with the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6. The client releases </a:t>
            </a:r>
            <a:r>
              <a:rPr b="1" lang="en-GB" sz="3300" spc="-1" strike="noStrike">
                <a:solidFill>
                  <a:srgbClr val="000000"/>
                </a:solidFill>
                <a:latin typeface="Courier New"/>
              </a:rPr>
              <a:t>IMy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7. The client releases </a:t>
            </a:r>
            <a:r>
              <a:rPr b="1" lang="en-GB" sz="3300" spc="-1" strike="noStrike">
                <a:solidFill>
                  <a:srgbClr val="000000"/>
                </a:solidFill>
                <a:latin typeface="Courier New"/>
              </a:rPr>
              <a:t>IClassfaxtory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8. The server is shut dow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BC6-9BEF-4436-B76B-7C6C903F78C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ctiveX Contr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ctiveX Controls are components based on Microsoft CO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ctiveX Controls are COM objects that implement a predefined set of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may be implemented and used in any programming languag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re is a bridge tool between JavaBeans and ActiveX Control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8D5-19BE-440A-AACA-F808C74CF7F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ctiveX Control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609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ctiveX Controls with the predefined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9067680" cy="448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8EB-360D-4894-838D-BECB8A134CB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33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87000"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9220320" cy="45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654-3BD2-450D-9090-AF5FB7540C0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ponent-based programm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emens Szyperski: Component Software. Beyond the Object-Oriented Programing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dison-Wesley, 1999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3AD-2BF9-4C82-BB32-044C27E5972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Reference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Java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obert Orfali, Dan Harkey: Client/Server Programming with JAVA and CORBA (2nd Ed.)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ohn Wiley &amp; Sons, Inc, 1998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320-56D9-4C07-9B56-40E7D2BC705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Reference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chard Grimes: Professional DCOM programming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rox Press Ltd. 1997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FC5-FEE7-4AD8-A0CA-977A173ADA2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mponent versus Objec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5788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it of deploy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Unit of composi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s no persistent st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capsulates its feature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0680" y="990360"/>
            <a:ext cx="445788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Objec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Unit of instanti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s a "plan" (class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class: unit of reus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s (persistent) st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9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capsulates its state and behavi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740-D98A-408F-B65F-987C46620400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efinition of the Componen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literature offers several different definition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e use the following definiti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Clemens Szyperski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 (Component Software, p.34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"A software component is a unit of composition with contractually specified interfaces and explicit context dependencies only. A software component can be deployed independently and is subject to composition by third parties."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D03E-3D80-461A-BA74-8093F5B44E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erfaces of a Componen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rt of the definiti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a unit of composition with contractually specified interface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n interface is an access point for the client to the services of the componen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component can provide multiple interfaces for different client need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irect (procedural)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vided directly by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D4F-117C-4624-BD69-B312246A0B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Ficsor Lajos</dc:creator>
  <dc:description/>
  <dc:language>en-US</dc:language>
  <cp:lastModifiedBy>Ficsor Lajos</cp:lastModifiedBy>
  <cp:lastPrinted>2000-09-06T14:26:37Z</cp:lastPrinted>
  <dcterms:modified xsi:type="dcterms:W3CDTF">2001-09-26T16:03:32Z</dcterms:modified>
  <cp:revision>1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Oktatas\Infrendsz\Infrendsz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