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A7B1-E7FC-4CDD-9B1C-7C9903895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Scripts, Gateways and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1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1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4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5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5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6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7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8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8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9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20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20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1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1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1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is a scrip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6840"/>
            <a:ext cx="777240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script is a program that can be executed by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a web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program can be a web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call other programs or contact other ser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f a web scri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t on the web server on behalf of the web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tend the capabilities of the </a:t>
            </a:r>
            <a:r>
              <a:rPr b="1" i="1" lang="en-US" sz="20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w does a script work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rts the script, passes the data from the browser to the script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3300"/>
                </a:solidFill>
                <a:latin typeface="Courier New"/>
              </a:rPr>
              <a:t>http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dae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do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termine that the request is really a pro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no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locate the program and determine if i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missible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tart the script program and ensure that the input from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client will be passed to the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read the output from the script and pass it back to the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end an error message back to the client if something go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wrong with the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lose the network connection when the scipt compl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What files are executable script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87320" y="1982520"/>
            <a:ext cx="777240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rver software will execute scripts only according to specific rules, as configured by the system administrator. These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s must be locate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a particular direc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st have UNIX execute per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rver can be configured to allow any file with a particular name, such as files ending in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024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Making the script run: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Common Gateway Interfac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8520" y="1563480"/>
            <a:ext cx="8032680" cy="477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GI is standard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ow scripts are to be called and how data is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ttpd daem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GI standard is actually a suite of standards, on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each operat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ript executes as a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data from the browser are passed thorugh standard input and UNIX environment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passed back through standar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many possible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scape servers use NSAPI (Netscape Server Application Inte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platforms use OLE or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User’s view of a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0080" y="1317600"/>
            <a:ext cx="8033040" cy="502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client user would like to know how many users currently logged on in a 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an account on the web server, she can login and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he has no account on the web server, she can run a script on the server using her web browser and this script will call the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up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X utility on her be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name of the scrip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should requ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 /scripts/how_busy_are_you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httpd server would execute the script and return the resul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.29pm up 21days, 4:35, 5 users, load average: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ow_busy_are_you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Perl scrip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01640" y="1336680"/>
            <a:ext cx="8104320" cy="534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!/usr/local/bin/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erl script to execute UNIX ‘uptime’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$UPTIME = ‘usr/ucb/upti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(STDOUT); $| =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# make the output unbuffered s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is written immediately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int the MIME type of the data tp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ontent-type: text/plain\n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run the real “uptime” and send the output to htt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(-x $UPTIME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($UPTI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nt “Cannot find uptime command.\n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 web server’s view of script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1880" y="1863360"/>
            <a:ext cx="66322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 for a new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quest arrives from 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erver pars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other information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the method requ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6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se file, clos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to ste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1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Wait for a new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8880" y="2298240"/>
            <a:ext cx="798984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7:33Z</dcterms:modified>
  <cp:revision>178</cp:revision>
  <dc:subject/>
  <dc:title>Title</dc:title>
</cp:coreProperties>
</file>