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6520" y="12189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2514600"/>
            <a:ext cx="586728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Steps with Inheri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The Cosmic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Run-time Type Ident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ed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 Hints for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14240" y="1522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mb rules for 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type of an object variable describes the kind of object the variable refers to and what it can 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rely on these descriptions in your code, and the compiler checks that you do not promise too much when you describe a vari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ssign a subclass object to a superclass variable, you are promising less, and the compiler simply let you do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assign a superclass object to a subclass variable, you are promising more,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must confir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you mean what you say to the compil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ubclass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ast not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 boss = (Manager)staff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 case of incorrect ca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Java notices the broken promise, generates an exception and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gram will di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od programing practi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check whether or not your object is an instance of another object before doing a cast. This is accomplished by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pera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staff[1] instanceof Mana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ss = (Manager)staff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                  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mpiler will not let you make a cast if there is no chance for the cast to succeed. For insta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ndow w = (Window)staff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not succeed beca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ndow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not a subclass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mmary: You can only cast within an inheritance hierarchy. Us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o check a hierarchy before casting from a parent to a child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morph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object’s ability to decide what method to apply to itself, depending on where it is in the inheritance hierarchy, is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imorphis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lementation of polimorphism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you send a message that asks a subclass to apply a method using certain parameters, the following happe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ubclass checks whether or not it has a method with that name and with exactly the same parameters. If so, it uses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not, Java moves to the parent class and looks there for a method with that name and those parameters. If finds, it calls that method. If not, Java moves up in the parent ch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Java cannot find a matching method in the whole inheritance chain, you get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-time err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leads to one of the fundamental rules of inheritance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method defined in a subclass with the same name and parameter list as a method in one of its ancestor class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hides the method of the ancestor class from the sub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xample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iseSal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is called instead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iseSal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when you send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iseSalar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ssage to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240" y="4572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morphism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name and parameter list of a method is called the method’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Java, hav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s in a superclass and a subclass with the same signatur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lead t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limorphis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key to making polimorphism work is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te binding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dynamic bind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eans that the compiler does not generate the code to call a method at compile-time. Instead, the compiler generates code to calculate which method to call, using type information from the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regular function call mechanism is call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static bi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c binding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ends on the method alo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ynamic binding -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pends on the type of the object variabl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position of the actual object in the inheritance hierarc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Java, hav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s in a superclass and a subclass with the same signature but differing return typ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ll give you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-time err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xample, you cannot have a meth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oid raiseSalary(double)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and a metho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aiseSalary(double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rison of polymorphism and name overloa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9644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morphism in an inheritance hierarchy is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ue polimorphis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o distinguish it from the more limited kind of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e overload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rue polimorph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and parameter list (signature) must be the s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pe is th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hierarch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ved dynam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e overloading 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must be the same but parameter list can be diffe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ope is the same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olved st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ting Inheritan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es 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asionally, you want to prevent someone from deriving a class from one of your classes. These classes are calle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nal class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you use th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odifier in the definition of the clas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indicate this. For example, remember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was fin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nal class Car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 also make any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hod fi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a normal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are two reasons to make a class or method final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mic binding has more overhead than static binding - thus, virtual methods run slow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lexibility of the dynamic binding mechanism means that you have no control over what happens when you call a meth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45720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ou move up the inheritance hierarchy, classes become more general and more abstract and look like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other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ider, for example, an electronic messaging system that integrates your e-mail, faxes, and voice mail. Following the OOP principles, the program will need 3 types of classes and a common parent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 shown in the fig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messages have a common method,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It is easy to figure out how to play a voice message, text message or fax message. But how do you implemen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ay()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e parent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. In Java, you use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that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method cannot yet be specifi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the parent class but it also means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mise that all nonabstract descendants of this abstract class will implement that abstract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93200" y="4572000"/>
            <a:ext cx="4829400" cy="1282680"/>
            <a:chOff x="2293200" y="4572000"/>
            <a:chExt cx="4829400" cy="1282680"/>
          </a:xfrm>
        </p:grpSpPr>
        <p:sp>
          <p:nvSpPr>
            <p:cNvPr id="96" name=""/>
            <p:cNvSpPr/>
            <p:nvPr/>
          </p:nvSpPr>
          <p:spPr>
            <a:xfrm>
              <a:off x="4122720" y="4572000"/>
              <a:ext cx="9810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93200" y="5486400"/>
              <a:ext cx="14014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ext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9720" y="5486400"/>
              <a:ext cx="152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oice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8880" y="5486400"/>
              <a:ext cx="13237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axMess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49532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124080" y="495288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876560" y="495288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7617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stract Classes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class with one or more abstract methods must itself be declared abstract. An abstract class has at least one abstract meth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 classes can have concrete data and method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example,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can store the sender of the message and have a concrete method that returns the sender’s na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class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Message(String fr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sender = from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void play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Send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return sender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ring send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 methods act as placeholder methods that are implemented in the sub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rcise: Mailbox Test.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tudy the OOP aspects of the code of MailboxTest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Run the code of MailboxTest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lan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user inteface is kept simple and ugly to allow you to focus on the OOP aspects instead of being distracted by GU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 not worry too much about the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laying the wave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undocumented feature of Java that lets you play audio clips from within an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n you run the program, you are supplied with two sample audio files, or you can use your own. They must be in .au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hen an error occurs at run time, a Java program can ”throw exception”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rowing an exception is less violent than terminating the program, because it provides the option of ”catching” the exception and dealing with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an exception is not caught anywhere, the program will termina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a message will be printed to the console giving the type of the exce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o run code that might throw an exception, you have to place it inside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” bloc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n you have to provide an emergency action to deal with the excep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code that might throw exception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ExceptionType 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 {  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emergency a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mechanism is used in the code that plays an audio cli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AudioStream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 new AudioStream(new FileInputStream(filenam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p.start(a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OExcep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)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}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ignore the error and do no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play the cl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e 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The Cosmic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ultimate ancestor - every class extend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don’t have to sa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Employee extends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 are versions of the API descriptions of the basic parts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from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ava.lang.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 file:///C|/java/api/java.lang.Object.html#_top_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getclas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contains nformation about the object. (Java has a run-time representation for classes that is encapsulated in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you can often use to your advantage.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oolean equals(Object obj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res two objects for equality; returns true if the objects point to the same area of memory (i.e. they are equal), and false otherwise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Other classes in the Java hierarchy are free to overrid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a more meaningful comparison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 clo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s a clone of the objec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Java allocates memory for the new instance and copies the memory of the current object to the memory allocated for the clo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oString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s a String that represents the value of this O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14240" y="533160"/>
            <a:ext cx="3962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Steps with Inheri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t us modify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whereby managers are treated in a special wa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have secret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earn extra 1/2% bonus for every year of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define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w class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d add functionality, but we can retain some methods an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instance fields of th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an obviou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„is-a”relationsh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nag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Employe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Every manager is an employee: this is the hallmark of inheri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05120" y="3429000"/>
            <a:ext cx="5029200" cy="552600"/>
            <a:chOff x="1905120" y="3429000"/>
            <a:chExt cx="5029200" cy="552600"/>
          </a:xfrm>
        </p:grpSpPr>
        <p:sp>
          <p:nvSpPr>
            <p:cNvPr id="43" name=""/>
            <p:cNvSpPr/>
            <p:nvPr/>
          </p:nvSpPr>
          <p:spPr>
            <a:xfrm>
              <a:off x="2244960" y="3429000"/>
              <a:ext cx="1184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05120" y="3582720"/>
              <a:ext cx="190512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xisting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038840" y="381132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10440" y="3582720"/>
              <a:ext cx="1523880" cy="398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w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244600" y="4343400"/>
            <a:ext cx="11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4497480"/>
            <a:ext cx="1904760" cy="398880"/>
          </a:xfrm>
          <a:prstGeom prst="rect">
            <a:avLst/>
          </a:prstGeom>
          <a:solidFill>
            <a:srgbClr val="f6f8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726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4495680"/>
            <a:ext cx="1524240" cy="398880"/>
          </a:xfrm>
          <a:prstGeom prst="rect">
            <a:avLst/>
          </a:prstGeom>
          <a:solidFill>
            <a:srgbClr val="f6f8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4600" y="5029200"/>
            <a:ext cx="136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5183280"/>
            <a:ext cx="1904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en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5411880"/>
            <a:ext cx="131472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5183280"/>
            <a:ext cx="160020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44600" y="5715000"/>
            <a:ext cx="11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5869080"/>
            <a:ext cx="19047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6097680"/>
            <a:ext cx="114300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869080"/>
            <a:ext cx="19051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5053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ing a Page in the HTML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ganization of the API documentation p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name of the class (or interfac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inheritance chain for this class (starting from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name of the class along with the access modifiers such as public or final, the classes it extends, and the interfaces it impl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discussion of the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list of all the variables, constructors and methods in the cla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more detailed discussion of the variables, constructors and method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Study the cla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PI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 file:///C|/java/api/java.lang.Object.html#_top_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Study the cla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lang.Integ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I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file:///C|/java/api/java.lang.Integer.html#_top_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Wrap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ccasionally, you ne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convert a basic type lik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o an 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 basic types have class counterpar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For example, there is a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orresponding to the basic typ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se kinds of classes are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 wrapp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they ar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ajor reason for which wrappers were invented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ric programm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ainer class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e Chapter 9) can store arbitrary objects but no nu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 is a simple example to illustrate the concept. Suppose you want to find the index of an element in an array. This is a generic situation and you can reuse the code for employees, dat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int find(Object[] a, Object 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a.length; i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a[i].equals(key)) return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-1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not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[]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f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rr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find(staff, harr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you want to find a number in an array of integers, you must us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 instead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ariables and then you can take advantage of the generic cod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rci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rite the necessary code for integ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Run-time Type Ident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your program is running, Java always maintains what is called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un-time type identific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RTTI) on all objects. It keeps track of the class to which each object belongs. This is used by Java to select the correct methods at run tim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 also access the inform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class that holds this information is call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Class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returns an instance of this class type.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Nam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turns the name of the class.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e.getClass().getName() + ” ” + e.getName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Harry Hack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n employee, and the code pr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 Harry Hac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a manag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Instanc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can create a new instance of the class on the fly and calls the constructor to initialize the newly created object.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.getClass().newInstanc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uld create a new instance of the same class type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1814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mbination of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Instanc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Nam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s lets you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eate an object from a class name stored in a st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s = ”Manager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 m = (Manager) Class.forName(s).newInstanc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Study the clas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lang.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PI descri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 file:///C|/java/api/java.lang.Class.html#_top_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ultiple Inherit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inheritan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s tha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class can have more than one super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ava does not support multiple inheri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stead, Java introduces the notion of interfa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recover much of the functionality provided by multiple inheri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son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inheritance makes compilers either very comple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e C++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 very inefficie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e Eiffe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interface is a promise that your class will implement certain methods with certain signatures. You even use the keywor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indicate that your class will keep the prom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xample, you want to create an interface calle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r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could be used by any class that will sort. The code might look like th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erface Sor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int compare(Sortable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tell Java that your class implement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you have the class hea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Tile extends Rectang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or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Tile is a class that extends the 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ctang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models tiled windows on a screen deskto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faces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is code promises that any class that implements 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 will have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hod that will take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.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 is any instance of a class that implem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.e. it has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all you need to do is implement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a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inside the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Tile extends Rectangle implements Sor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compare(Sortable 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Tile tb = (Tile)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z - tb.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z;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Study the code of TileTest.jav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Note that we needed to put the static shell_sort method in a separate class, Sort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not put static methods into interfac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Run the code of CardDeck.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Study the code of ManagerTest.java, apply th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 in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s are not instantiated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certain properties similar to ordinary cla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you set up an interfac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 declare that an object variable will be of that interface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the same notation used in case of ordinary cla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rtable x = new Tile(. . 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le y = new Tile(. . 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x.compare(y) &lt; 0)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 extend one interface in order to create an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erface Move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void move(double x, double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erface Powered extends Move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String PowerSourc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5120" y="838080"/>
            <a:ext cx="5333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Interface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not put instance fields in an inte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 supply constants in an interfa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erface Powered extends Move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String PowerSource(PoweredVehicl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final int speedLimit = 9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es can implement multiple interfa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Tile extends Rectangle implements Cloneable, Sor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Java has an important built-in interface calle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If your class implement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ne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will make a bitwise copy of your class’s object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Can a subclass access the private data members of its superclas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Where is the error in the code bel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Manager extends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Manager(String n, double s, Day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n, s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Name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dd 1/2% bonus for every year of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today = new 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onus = 0.5 * (today.getYear() - hireDay.ye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.raiseSalary(byPercent + bon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ring secretary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4572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rcis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A subclass cannot access the private data members of its superclass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Where is the error in the code below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Manager extends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Manager(String n, double s, Day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dd 1/2% bonus for every year of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today = new 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onus = 0.5 * (today.getYear() -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reDay.ye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.raiseSalary(byPercent + bon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reDa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s a private instance field in the superclas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nd hence, it cannot be accessed directly from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class. Instead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reDay.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should 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ireYear(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method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onus = 0.5 * (today.getYear() - hireYea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Manager extends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Manager(String n, double s, Day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n, s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Name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dd 1/2% bonus for every year of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today = new 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onus = 0.5 * (today.getYear() - hireYea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.raiseSalary(byPercent + bon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ring getSecretaryN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cretary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tSecretaryName(String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Name =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ring secretary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tected Ac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are cases whe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you want a subclass to access a method or data of the super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such case you declare the method or data a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rotect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ead of priv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xample,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onus = 0.5 * (today.getYear() -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reDay.ye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correct if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re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is declared a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ec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 careful!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f you us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ected instead fiel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you can no longer change the implementation of your class without upsetting the other programmers using your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tected method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ke more sense. This indicates that the subclasses can be trusted to use the method correctly, but other classes cann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good example is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o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3808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pying and Cl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py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when you make a copy of a variable, the original and the copy are references to the same object. =&gt;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change to either variable also effects the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bday = new Day(1953, 5, 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d = b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.advance(100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oops -- also changed bd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on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when you create a new object of a variable, that begins as identical with the original variable. =&gt;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change to either variable does not effect the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219320" y="3276720"/>
            <a:ext cx="6705360" cy="3200400"/>
            <a:chOff x="1219320" y="3276720"/>
            <a:chExt cx="6705360" cy="3200400"/>
          </a:xfrm>
        </p:grpSpPr>
        <p:sp>
          <p:nvSpPr>
            <p:cNvPr id="136" name=""/>
            <p:cNvSpPr/>
            <p:nvPr/>
          </p:nvSpPr>
          <p:spPr>
            <a:xfrm>
              <a:off x="1219320" y="4496040"/>
              <a:ext cx="83808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9320" y="5334120"/>
              <a:ext cx="83808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666880" y="4343040"/>
              <a:ext cx="1371600" cy="1295640"/>
              <a:chOff x="2666880" y="4343040"/>
              <a:chExt cx="1371600" cy="1295640"/>
            </a:xfrm>
          </p:grpSpPr>
          <p:sp>
            <p:nvSpPr>
              <p:cNvPr id="139" name=""/>
              <p:cNvSpPr/>
              <p:nvPr/>
            </p:nvSpPr>
            <p:spPr>
              <a:xfrm rot="16200000">
                <a:off x="2704680" y="4304880"/>
                <a:ext cx="1295640" cy="1371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6f89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9520" y="4953240"/>
                <a:ext cx="106668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953  5  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352680" y="4953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81280" y="49532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4572000"/>
                <a:ext cx="685800" cy="337320"/>
              </a:xfrm>
              <a:prstGeom prst="rect">
                <a:avLst/>
              </a:prstGeom>
              <a:noFill/>
              <a:ln w="12600">
                <a:solidFill>
                  <a:srgbClr val="f6f8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6553080" y="3733920"/>
              <a:ext cx="1371600" cy="1295280"/>
              <a:chOff x="6553080" y="3733920"/>
              <a:chExt cx="1371600" cy="1295280"/>
            </a:xfrm>
          </p:grpSpPr>
          <p:sp>
            <p:nvSpPr>
              <p:cNvPr id="145" name=""/>
              <p:cNvSpPr/>
              <p:nvPr/>
            </p:nvSpPr>
            <p:spPr>
              <a:xfrm rot="16200000">
                <a:off x="6591240" y="3695760"/>
                <a:ext cx="1295280" cy="1371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6f89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05720" y="4343400"/>
                <a:ext cx="106668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953  5  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238880" y="4343400"/>
                <a:ext cx="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467480" y="4343400"/>
                <a:ext cx="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34320" y="3962160"/>
                <a:ext cx="685800" cy="337320"/>
              </a:xfrm>
              <a:prstGeom prst="rect">
                <a:avLst/>
              </a:prstGeom>
              <a:noFill/>
              <a:ln w="12600">
                <a:solidFill>
                  <a:srgbClr val="f6f8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6553080" y="5181840"/>
              <a:ext cx="1371600" cy="1295280"/>
              <a:chOff x="6553080" y="5181840"/>
              <a:chExt cx="1371600" cy="1295280"/>
            </a:xfrm>
          </p:grpSpPr>
          <p:sp>
            <p:nvSpPr>
              <p:cNvPr id="151" name=""/>
              <p:cNvSpPr/>
              <p:nvPr/>
            </p:nvSpPr>
            <p:spPr>
              <a:xfrm rot="16200000">
                <a:off x="6591240" y="5143680"/>
                <a:ext cx="1295280" cy="13716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6f89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05720" y="5791320"/>
                <a:ext cx="1066680" cy="337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953  5  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238880" y="5791320"/>
                <a:ext cx="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7480" y="5791320"/>
                <a:ext cx="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934320" y="5410080"/>
                <a:ext cx="685800" cy="337320"/>
              </a:xfrm>
              <a:prstGeom prst="rect">
                <a:avLst/>
              </a:prstGeom>
              <a:noFill/>
              <a:ln w="12600">
                <a:solidFill>
                  <a:srgbClr val="f6f8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5181480" y="4191120"/>
              <a:ext cx="83844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639040"/>
              <a:ext cx="83844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9920" y="43434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19920" y="57913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7400" y="4648320"/>
              <a:ext cx="6094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057400" y="510552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3276720"/>
              <a:ext cx="99072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o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1080" y="3276720"/>
              <a:ext cx="99072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p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reate a clone of bday see the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bday = new Day(1953, 5, 8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d = (Day)bday.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must cast -- clone returns an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.advance(100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ok -- bday un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ever, cloning is not so simple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the object contains other objec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i.e. pointers). In such cas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wise copy results in the sharing of the contained 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3809880"/>
            <a:ext cx="10670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ent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553080" y="3733920"/>
            <a:ext cx="1371600" cy="1295280"/>
            <a:chOff x="6553080" y="3733920"/>
            <a:chExt cx="1371600" cy="1295280"/>
          </a:xfrm>
        </p:grpSpPr>
        <p:sp>
          <p:nvSpPr>
            <p:cNvPr id="168" name=""/>
            <p:cNvSpPr/>
            <p:nvPr/>
          </p:nvSpPr>
          <p:spPr>
            <a:xfrm rot="16200000">
              <a:off x="6591240" y="3695760"/>
              <a:ext cx="1295280" cy="137160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6f89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05720" y="4343400"/>
              <a:ext cx="106668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953  5  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4343400"/>
              <a:ext cx="0" cy="38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67480" y="4343400"/>
              <a:ext cx="0" cy="38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34320" y="3962160"/>
              <a:ext cx="685800" cy="337320"/>
            </a:xfrm>
            <a:prstGeom prst="rect">
              <a:avLst/>
            </a:prstGeom>
            <a:noFill/>
            <a:ln w="12600">
              <a:solidFill>
                <a:srgbClr val="f6f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66880" y="3047760"/>
            <a:ext cx="1676520" cy="1904760"/>
            <a:chOff x="2666880" y="3047760"/>
            <a:chExt cx="1676520" cy="1904760"/>
          </a:xfrm>
        </p:grpSpPr>
        <p:sp>
          <p:nvSpPr>
            <p:cNvPr id="174" name=""/>
            <p:cNvSpPr/>
            <p:nvPr/>
          </p:nvSpPr>
          <p:spPr>
            <a:xfrm rot="16200000">
              <a:off x="2552760" y="3161880"/>
              <a:ext cx="1904760" cy="1676520"/>
            </a:xfrm>
            <a:prstGeom prst="hexagon">
              <a:avLst>
                <a:gd name="adj" fmla="val 28403"/>
                <a:gd name="vf" fmla="val 115470"/>
              </a:avLst>
            </a:prstGeom>
            <a:solidFill>
              <a:srgbClr val="f6f89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3657600"/>
              <a:ext cx="1219320" cy="33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James Bo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3276720"/>
              <a:ext cx="1066680" cy="337320"/>
            </a:xfrm>
            <a:prstGeom prst="rect">
              <a:avLst/>
            </a:prstGeom>
            <a:noFill/>
            <a:ln w="12600">
              <a:solidFill>
                <a:srgbClr val="f6f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5480" y="4024440"/>
              <a:ext cx="1219320" cy="469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95480" y="42670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48120" y="3962520"/>
              <a:ext cx="838080" cy="337320"/>
            </a:xfrm>
            <a:prstGeom prst="rect">
              <a:avLst/>
            </a:prstGeom>
            <a:noFill/>
            <a:ln w="12600">
              <a:solidFill>
                <a:srgbClr val="f6f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 rot="16200000">
            <a:off x="3619440" y="4915080"/>
            <a:ext cx="1905120" cy="1676160"/>
          </a:xfrm>
          <a:prstGeom prst="hexagon">
            <a:avLst>
              <a:gd name="adj" fmla="val 28415"/>
              <a:gd name="vf" fmla="val 115470"/>
            </a:avLst>
          </a:prstGeom>
          <a:solidFill>
            <a:srgbClr val="f6f89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5486400"/>
            <a:ext cx="121896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5029200"/>
            <a:ext cx="1066680" cy="337320"/>
          </a:xfrm>
          <a:prstGeom prst="rect">
            <a:avLst/>
          </a:prstGeom>
          <a:noFill/>
          <a:ln w="12600">
            <a:solidFill>
              <a:srgbClr val="f6f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700600"/>
            <a:ext cx="1218960" cy="47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62520" y="5943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5638680"/>
            <a:ext cx="838080" cy="470160"/>
          </a:xfrm>
          <a:prstGeom prst="rect">
            <a:avLst/>
          </a:prstGeom>
          <a:noFill/>
          <a:ln w="12600">
            <a:solidFill>
              <a:srgbClr val="f6f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39625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5562720"/>
            <a:ext cx="1066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5715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6095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43600" y="4876920"/>
            <a:ext cx="99072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ing in case of nested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we want to clone employees, we have to call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one method to make a bitwise copy, then clon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implements Clon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Object clon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 e = (Employee)super.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.hireDay = hireDay.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tch(CloneNotSupportedException 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this shouldn’t happen, since we are clon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80720" y="114300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ss Modifiers in J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ble to the class only (their access is denied even for subclass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ble to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ble to the package and all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ble to the package (the default, no modifier need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bstract methods act as placeholder methods that are implemented in the sub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c methods can be used without creating an instance of a cl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Static fields do not change from one instance of a class to an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 Hints for Inheri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on operations and instance fields should be placed in the super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e inheritance to model the ”is-a” relationshi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ubclass should be a special case of the superclas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on’t use inheritance unless all inherited methods make sen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se we want to write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oli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. Surely every holiday is a day, so we can use inherit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Holiday extends Day { . . .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a problem with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v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 of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. It can turn holidays into non- holidays, so it is not an appropriate operation for holiday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5334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AASASdfd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dsf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AASASdfd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dsf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z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header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is a little differ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lass Manage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Employ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es that you create a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, notice th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Manager(String n, double s, Day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, s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Name = "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keywor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ers to the superclass. So the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, s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s a shorthand for ”call the constructor of the Employee class”. The reason is that every constructor of a subclass is also responsible for constructing the data fields of the superclass. The call to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be the first line in the constructor of the sub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subclass can have more instance fields than its supercla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ring secretary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4876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yz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of the methods are not repeated, they ar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nherited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om the superclass 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exampl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. You need to indicate only 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fference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between the subclass and superclass. For example, w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adding accessor and mutator methods to handle the name of the secreta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ring getSecretaryN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cretary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setSecretaryName(String 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Name =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times you have to redefine methods.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aiseSalary(double byPerc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 add 1/2% bonus for every year of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ay today = new Da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bonus = 0.5 * (today.getYear() - hireYear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.raiseSalary(byPercent + bon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rcise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udy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Tes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corejava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nager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public static void main(String[] 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  Employee[] staff = new Employee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ff[0] = new Employee("Harry Hacker", 35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Day(1989,10,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ff[1] = new Manager("Carl Cracker", 75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Day(1987,12,1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ff[2] = new Employee("Tony Tester", 38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Day(1990,3,15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3; i++) staff[i].raiseSalary(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 = 0; i &lt; 3; i++) staff[i].prin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609480"/>
            <a:ext cx="4114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 Inheritance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eritance need not stop at deriving one layer of classes. We could have a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ecuti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 that is derived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The collection of all classes extending from a common parent is called a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heritance hierarch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see figur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path from a particular class to its ancestors in the inheritance hierarchy is an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heritance ch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usually more than one chain of descent from a supercla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73360" y="3581280"/>
            <a:ext cx="4374000" cy="2120760"/>
            <a:chOff x="2673360" y="3581280"/>
            <a:chExt cx="4374000" cy="2120760"/>
          </a:xfrm>
        </p:grpSpPr>
        <p:sp>
          <p:nvSpPr>
            <p:cNvPr id="70" name=""/>
            <p:cNvSpPr/>
            <p:nvPr/>
          </p:nvSpPr>
          <p:spPr>
            <a:xfrm>
              <a:off x="4197960" y="3581280"/>
              <a:ext cx="11102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4440" y="4495680"/>
              <a:ext cx="99468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7960" y="4495680"/>
              <a:ext cx="10465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ecreta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22200" y="4495680"/>
              <a:ext cx="1325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gramm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3360" y="5333760"/>
              <a:ext cx="10980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cu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3962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3200400" y="3962160"/>
              <a:ext cx="1295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4952880" y="3962160"/>
              <a:ext cx="1447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200400" y="48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ing with sub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re are two rules of using subcla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object of a subclass must be usable in place of its superclass’ objects. Put i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other way: Subclass objects are usable in any code that uses superclas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this is not true, do not use inheritanc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class objects have at least as many data items as superclass objects hav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cau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s can only be added in inherit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ou can assign a subclass object to a superclass variable (rule 1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[] staff = new Employee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 boss = new Manager("Carl Cracker", 75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w Day(1987,12,15));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ff[0] = boss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is case, the variable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ff[0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fer to the same area of memory. However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ff[0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 only considered to be a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 by the compi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subclass object can be passed as an argument to any method that expects a superclass parameter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e converse is false in general because of rule 2. For 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ss = staff[0]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error, but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cast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s a reme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occasionally need to convert an object from a parent class to a child class. This is done b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as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ntax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rround the target type with brackets and place it before the objec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 boss = (Manager)staff[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nly one reason for cas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to use an object in its full capacity after its actual type has been downplayed. For example,  in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na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lass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f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rray had to be an array of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bjects sinc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its entries were regular employees. We would need to cast the managerial elements of the array back to Manager in order to access any of its new fiel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performing a cast is not a good programming pract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our case the only reason to perform the cast is to use a method that is unique to managers, such a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Secretary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You’d better redesign the parent class and add 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Secretary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hod, which simply returns an empty st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 one bad cast will terminate your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7:38:33Z</dcterms:created>
  <dc:creator>kacsuk</dc:creator>
  <dc:description/>
  <dc:language>en-US</dc:language>
  <cp:lastModifiedBy>kacsuk</cp:lastModifiedBy>
  <dcterms:modified xsi:type="dcterms:W3CDTF">1999-09-22T08:57:37Z</dcterms:modified>
  <cp:revision>40</cp:revision>
  <dc:subject/>
  <dc:title>The Vocabulary of OOP</dc:title>
</cp:coreProperties>
</file>