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AF9-A0F5-4FB7-9B8C-DBA0C616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4171-E3F9-4A5D-BBB9-63F89594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95A2-CF40-436A-83B9-4B7F9E5A0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4CD-6185-4F6B-B161-D747EA41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DABB-8AAE-47F0-ACD1-D0B05A61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3AB-1512-4D8C-897A-E1ACBA7F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2C91-4308-4D42-97F7-6A288F92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1960-4F74-4A86-95A9-9BAA2E7A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1507-9E0B-4B0E-8010-EB9D9F9E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1027-33B0-4CDA-8C90-5692B06E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EF85-8421-4799-BF6D-5DD02D75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C28D-A3F1-4C11-9CF2-4795ADFC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49CE-0B98-4CD4-A4C7-69F9B7397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0666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Nagy rendelkezésre állású számítógép architektúrák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276720"/>
            <a:ext cx="6400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apcsolat a külvilágg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38080" y="1981080"/>
          <a:ext cx="756612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5661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Hibamentes működé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839880" y="2128680"/>
          <a:ext cx="7565760" cy="39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2128680"/>
                    <a:ext cx="756576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Csomóponthib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838080" y="2133720"/>
          <a:ext cx="7566120" cy="38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566120" cy="38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Csomóponthiba hatása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838080" y="2133720"/>
          <a:ext cx="7566120" cy="38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566120" cy="38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hiba „elrejtése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38080" y="2133720"/>
          <a:ext cx="7566120" cy="38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566120" cy="38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oftver rétegződé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7920" y="1498680"/>
          <a:ext cx="7461360" cy="50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498680"/>
                    <a:ext cx="746136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Példa a rétegződés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07920" y="1498680"/>
          <a:ext cx="7461360" cy="50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498680"/>
                    <a:ext cx="746136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Unixware Reliant H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rivát hálózat kezel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atkommunikáci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ezérlőinformáció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omponensek monitorozá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inkronizáci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lkalmazások kezel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programmódosítás nem k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llesztés a rendszerhez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rőforrás-függőségi f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5791320"/>
            <a:ext cx="304560" cy="228600"/>
          </a:xfrm>
          <a:prstGeom prst="rightArrow">
            <a:avLst>
              <a:gd name="adj1" fmla="val 50000"/>
              <a:gd name="adj2" fmla="val 3333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13720" y="128520"/>
          <a:ext cx="2216160" cy="15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3720" y="128520"/>
                    <a:ext cx="221616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Erőforrás-függőségi f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041480" y="1822320"/>
          <a:ext cx="7346880" cy="47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1480" y="1822320"/>
                    <a:ext cx="734688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Oracle Paralell Serv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1981080"/>
          <a:ext cx="756612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56612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813720" y="128520"/>
          <a:ext cx="2216160" cy="15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13720" y="128520"/>
                    <a:ext cx="221616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Szolgáltatásminősé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42670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Rendelkezésre állás: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növel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peciális hardverre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drá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ereskedelmi elemekbő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inimális többletköltsé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5791320"/>
            <a:ext cx="304560" cy="228600"/>
          </a:xfrm>
          <a:prstGeom prst="rightArrow">
            <a:avLst>
              <a:gd name="adj1" fmla="val 50000"/>
              <a:gd name="adj2" fmla="val 3333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248520"/>
            <a:ext cx="304560" cy="228600"/>
          </a:xfrm>
          <a:prstGeom prst="rightArrow">
            <a:avLst>
              <a:gd name="adj1" fmla="val 50000"/>
              <a:gd name="adj2" fmla="val 3333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17760" y="1460520"/>
          <a:ext cx="6559560" cy="25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1460520"/>
                    <a:ext cx="6559560" cy="25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809880" y="4419720"/>
                <a:ext cx="46609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zolgáltatá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ó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ó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ossz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Párhuzamosítás problémá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ff9900"/>
                </a:solidFill>
                <a:latin typeface="Arial"/>
              </a:rPr>
              <a:t>Adatkonzisztencia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biztosít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konkurrens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írás és olvas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zárak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kezel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gyorsítótár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működé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Versenyhelyzet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felold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kerülés, minimalizál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lkalmazások párhuzamosíthatóság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07920" y="2203560"/>
          <a:ext cx="7473960" cy="42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2203560"/>
                    <a:ext cx="747396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felépített rendsz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88880" y="1936800"/>
          <a:ext cx="815976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936800"/>
                    <a:ext cx="81597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Értékelé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37160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zámítógép klasz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jól használhat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agy rendelkezésre állás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öltségkímél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527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inamikusan, egyszerűen bővíthet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0" y="4282920"/>
          <a:ext cx="4191120" cy="23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282920"/>
                    <a:ext cx="41911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öltség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04920" y="1981080"/>
          <a:ext cx="8640720" cy="441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8640720" cy="44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laszter koncepci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8769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Klasz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autonóm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szerverek csoport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gyetle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feldolgozó egységként jelenik me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828800"/>
            <a:ext cx="31244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69920" indent="-169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HA biztosítá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öbb számítógé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aszkmigráci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rivát hálóz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özös disz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átkonfigurálhatósá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581280" y="1752480"/>
          <a:ext cx="5359680" cy="29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752480"/>
                    <a:ext cx="5359680" cy="29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övetelmény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60020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lineáris </a:t>
            </a:r>
            <a:r>
              <a:rPr b="0" lang="hu-HU" sz="3200" spc="-1" strike="noStrike">
                <a:solidFill>
                  <a:srgbClr val="ff9900"/>
                </a:solidFill>
                <a:latin typeface="Arial"/>
              </a:rPr>
              <a:t>skálázhatósá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teljesítmé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sávszélessé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e legyen a rendszernek kritikus pont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utomatik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hibadetektál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9900"/>
                </a:solidFill>
                <a:latin typeface="Arial"/>
              </a:rPr>
              <a:t>hibakorrekci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újrakonfigurál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újraindí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2362320"/>
            <a:ext cx="4267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ndelkezésre állá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Hardver felépíté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2438280"/>
          <a:ext cx="7566120" cy="39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438280"/>
                    <a:ext cx="756612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86000" y="1447920"/>
            <a:ext cx="4495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(egyszerűsített mode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utonóm szerver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38080" y="1905120"/>
          <a:ext cx="7566120" cy="42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566120" cy="42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Közös diszke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38080" y="1371600"/>
          <a:ext cx="75661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5661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429000" y="5486400"/>
            <a:ext cx="3429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erheléseloszt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aszkmigráci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5410080"/>
            <a:ext cx="1905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Szerep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Privát hálóz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22240" y="1447920"/>
          <a:ext cx="7566120" cy="52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1447920"/>
                    <a:ext cx="7566120" cy="52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3T08:00:52Z</dcterms:created>
  <dc:creator>Zoli</dc:creator>
  <dc:description/>
  <dc:language>en-US</dc:language>
  <cp:lastModifiedBy>Pataricza András</cp:lastModifiedBy>
  <cp:lastPrinted>1998-11-03T17:57:18Z</cp:lastPrinted>
  <dcterms:modified xsi:type="dcterms:W3CDTF">1999-10-15T08:57:52Z</dcterms:modified>
  <cp:revision>31</cp:revision>
  <dc:subject/>
  <dc:title>Nincs diacím</dc:title>
</cp:coreProperties>
</file>