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71800" y="0"/>
            <a:ext cx="3021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71800" y="9313920"/>
            <a:ext cx="30211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9313920"/>
            <a:ext cx="29433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433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8440" y="4659480"/>
            <a:ext cx="503388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00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00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00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67920" y="6186600"/>
            <a:ext cx="36014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partment  of Measurement and Information System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65120" y="6095880"/>
            <a:ext cx="82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19920" y="6337440"/>
            <a:ext cx="1765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99C1-F53E-4EB5-9AFC-7CBCB820F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Fault Tolerant CORBA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(FT-CORBA) -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Modeling and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352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tván Majzik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apest University of Technology and Economic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ment of Measurement and Information System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ne 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Infra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838080"/>
            <a:ext cx="693432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6794640" cy="509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lication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: create_object() method of the R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: invokes local factory objects on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M manages membership, consistenc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controlled case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’s responsibility to manage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plicationStyle: stateless, cold / warm passive, activ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mbership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sistencySty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itialNumberReplicas, MinimumNumberReplica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Detection and Not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model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crash (incorrect results are not tolerate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by poll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pplication objects inherit the PullMonitorable interface: is_alive() metho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 invokes it periodicall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ierarchy of fault detecto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and fault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aultMonitoring (Style, Granularity, IntervalAndTimeout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g and Recove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pplication objects inherit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heckpointable interface: get_state(), set_st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pdateable interface: get_update(), set_update(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ogging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oring GIOP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eriodically storing state of the objec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Mechanism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store object state and retrieve stored messag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ameter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CheckpointInterva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OGR: interoperable object group referenc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ultiple IIOP profiles 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ressing object group members or gateway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mechanisms of the client ORB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try all alternative IIOP profi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ransparent reinvocation of reque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“at most once” execution semantics at the server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heartbeating of the ser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374840" y="3043080"/>
            <a:ext cx="6851520" cy="393840"/>
            <a:chOff x="1374840" y="3043080"/>
            <a:chExt cx="6851520" cy="393840"/>
          </a:xfrm>
        </p:grpSpPr>
        <p:sp>
          <p:nvSpPr>
            <p:cNvPr id="76" name=""/>
            <p:cNvSpPr/>
            <p:nvPr/>
          </p:nvSpPr>
          <p:spPr>
            <a:xfrm>
              <a:off x="1374840" y="3051000"/>
              <a:ext cx="6851520" cy="374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108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004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3056040"/>
              <a:ext cx="0" cy="36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508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7012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65400" y="3043080"/>
              <a:ext cx="68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I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Object-Oriented Systems Described in UM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Analy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proach by A. Bondavalli, I. Majzik, I. Mura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IDE - High-level Integrated Design Environment for Dependabil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SPRIT Open LTR No. 27493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29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rom UML-based models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class, object, deployment diagram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 Timed Petri 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PN evaluation tools can be us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ppor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arison of design choi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bottleneck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ystem-wide, structural mod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eling 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UML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Diagrams with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ereotypes to identify roles (variant, tester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agged values to assign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Intermediate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Simplified structur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lement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ftware, hardware, with/wo stat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pendencies: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„uses the service of” „is composed of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lass based redundancy </a:t>
            </a: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Dependability model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: Timed Petri ne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-nets for elements and dependenci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ilure/Propagation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3276720"/>
            <a:ext cx="4716720" cy="2684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523880"/>
            <a:ext cx="471672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62520" y="1797120"/>
          <a:ext cx="440028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797120"/>
                    <a:ext cx="4400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962520" y="3544920"/>
          <a:ext cx="441792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544920"/>
                    <a:ext cx="441792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3520" y="1523880"/>
            <a:ext cx="3047760" cy="160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76720"/>
            <a:ext cx="3047760" cy="2666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97520" y="1824120"/>
            <a:ext cx="1598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S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47440" y="4648320"/>
            <a:ext cx="544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2720" y="985680"/>
            <a:ext cx="323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 el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33200" y="101448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50800" y="2212920"/>
            <a:ext cx="1136880" cy="755640"/>
            <a:chOff x="1450800" y="2212920"/>
            <a:chExt cx="1136880" cy="755640"/>
          </a:xfrm>
        </p:grpSpPr>
        <p:sp>
          <p:nvSpPr>
            <p:cNvPr id="104" name=""/>
            <p:cNvSpPr/>
            <p:nvPr/>
          </p:nvSpPr>
          <p:spPr>
            <a:xfrm>
              <a:off x="1450800" y="22129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55840" y="28195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12720" y="4270320"/>
            <a:ext cx="1136880" cy="755640"/>
            <a:chOff x="612720" y="4270320"/>
            <a:chExt cx="1136880" cy="755640"/>
          </a:xfrm>
        </p:grpSpPr>
        <p:sp>
          <p:nvSpPr>
            <p:cNvPr id="107" name=""/>
            <p:cNvSpPr/>
            <p:nvPr/>
          </p:nvSpPr>
          <p:spPr>
            <a:xfrm>
              <a:off x="612720" y="4270320"/>
              <a:ext cx="113688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7400" y="4876920"/>
              <a:ext cx="112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89240" y="4270320"/>
            <a:ext cx="1136520" cy="755640"/>
            <a:chOff x="2289240" y="4270320"/>
            <a:chExt cx="1136520" cy="755640"/>
          </a:xfrm>
        </p:grpSpPr>
        <p:sp>
          <p:nvSpPr>
            <p:cNvPr id="110" name=""/>
            <p:cNvSpPr/>
            <p:nvPr/>
          </p:nvSpPr>
          <p:spPr>
            <a:xfrm>
              <a:off x="2289240" y="427032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93920" y="487692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air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0600" y="1859040"/>
            <a:ext cx="5867280" cy="370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971800" y="2133720"/>
          <a:ext cx="531972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133720"/>
                    <a:ext cx="531972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96880" y="1859040"/>
            <a:ext cx="1752480" cy="1752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3840" y="1930320"/>
            <a:ext cx="1613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SF-HW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280" y="129060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9360" y="1319040"/>
            <a:ext cx="2571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 net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05040" y="2471760"/>
            <a:ext cx="1136520" cy="755640"/>
            <a:chOff x="905040" y="2471760"/>
            <a:chExt cx="1136520" cy="755640"/>
          </a:xfrm>
        </p:grpSpPr>
        <p:sp>
          <p:nvSpPr>
            <p:cNvPr id="121" name=""/>
            <p:cNvSpPr/>
            <p:nvPr/>
          </p:nvSpPr>
          <p:spPr>
            <a:xfrm>
              <a:off x="905040" y="2471760"/>
              <a:ext cx="1136520" cy="75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9720" y="3078000"/>
              <a:ext cx="11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T-CORBA specification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UML-based automatic dependability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op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to construct optimal FT-CORBA schem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valuate existing archite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812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: The FT-CORBA proposa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: UML-based dependabil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art III: Dep. modeling of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dundancy Sub-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1981080"/>
            <a:ext cx="2286000" cy="3200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981080"/>
            <a:ext cx="3809880" cy="3200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90920" y="2057400"/>
          <a:ext cx="3746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057400"/>
                    <a:ext cx="3746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6553080" y="2133720"/>
          <a:ext cx="2208240" cy="275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2133720"/>
                    <a:ext cx="22082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57200" y="1981080"/>
            <a:ext cx="1981080" cy="320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3600" y="2441520"/>
            <a:ext cx="756000" cy="527040"/>
            <a:chOff x="993600" y="2441520"/>
            <a:chExt cx="756000" cy="527040"/>
          </a:xfrm>
        </p:grpSpPr>
        <p:sp>
          <p:nvSpPr>
            <p:cNvPr id="132" name=""/>
            <p:cNvSpPr/>
            <p:nvPr/>
          </p:nvSpPr>
          <p:spPr>
            <a:xfrm>
              <a:off x="993600" y="2441520"/>
              <a:ext cx="756000" cy="527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98640" y="286560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12720" y="3508200"/>
            <a:ext cx="755640" cy="527400"/>
            <a:chOff x="612720" y="3508200"/>
            <a:chExt cx="755640" cy="527400"/>
          </a:xfrm>
        </p:grpSpPr>
        <p:sp>
          <p:nvSpPr>
            <p:cNvPr id="135" name=""/>
            <p:cNvSpPr/>
            <p:nvPr/>
          </p:nvSpPr>
          <p:spPr>
            <a:xfrm>
              <a:off x="6127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74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527120" y="3508200"/>
            <a:ext cx="755640" cy="527400"/>
            <a:chOff x="1527120" y="3508200"/>
            <a:chExt cx="755640" cy="527400"/>
          </a:xfrm>
        </p:grpSpPr>
        <p:sp>
          <p:nvSpPr>
            <p:cNvPr id="138" name=""/>
            <p:cNvSpPr/>
            <p:nvPr/>
          </p:nvSpPr>
          <p:spPr>
            <a:xfrm>
              <a:off x="1527120" y="3508200"/>
              <a:ext cx="755640" cy="527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31800" y="393228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 flipH="1">
            <a:off x="985680" y="2979720"/>
            <a:ext cx="31608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31800" y="2979720"/>
            <a:ext cx="36684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600" y="1442880"/>
            <a:ext cx="182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UM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02480" y="1519200"/>
            <a:ext cx="155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ault tr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228800" y="1519200"/>
            <a:ext cx="1418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etri-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I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Dependability Modeling of FT-CORBA Architectur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UML model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entification of elements/structur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additional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utomatic modeling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ailoring to FT-CORB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bnets to specific mechanism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ed on the parameter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strictions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n-replicated client, static struct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controlled replication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ML Mode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dentification of elements/structur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olerance Domain: 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dependent of deploym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: sub-packag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oles: stereotyp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-CORBA properties as tagged valu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embership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Monitoring (Style, Granularity, Interval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Initial, Minimum)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066680"/>
            <a:ext cx="8229600" cy="487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32240" y="1603440"/>
            <a:ext cx="5099040" cy="4260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56040" y="3132000"/>
            <a:ext cx="2043000" cy="9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2240" y="1298520"/>
            <a:ext cx="357516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680" y="1268280"/>
            <a:ext cx="227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 Domain Alp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6240" y="4270320"/>
            <a:ext cx="167004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6240" y="388944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720" y="388764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0800" y="465120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5840" y="525780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89440" y="2136600"/>
            <a:ext cx="3879720" cy="113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9440" y="1755720"/>
            <a:ext cx="75564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7640" y="1754280"/>
            <a:ext cx="562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804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47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840" y="2363760"/>
            <a:ext cx="57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514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5924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5920" y="2363760"/>
            <a:ext cx="5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08400" y="38894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8400" y="35082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840" y="35067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651200" y="3659040"/>
            <a:ext cx="2965680" cy="1671840"/>
            <a:chOff x="4651200" y="3659040"/>
            <a:chExt cx="2965680" cy="1671840"/>
          </a:xfrm>
        </p:grpSpPr>
        <p:sp>
          <p:nvSpPr>
            <p:cNvPr id="175" name=""/>
            <p:cNvSpPr/>
            <p:nvPr/>
          </p:nvSpPr>
          <p:spPr>
            <a:xfrm>
              <a:off x="4651200" y="404172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1200" y="366084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24640" y="365904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94000" y="3811680"/>
            <a:ext cx="2965680" cy="1671480"/>
            <a:chOff x="4194000" y="3811680"/>
            <a:chExt cx="2965680" cy="1671480"/>
          </a:xfrm>
        </p:grpSpPr>
        <p:sp>
          <p:nvSpPr>
            <p:cNvPr id="179" name=""/>
            <p:cNvSpPr/>
            <p:nvPr/>
          </p:nvSpPr>
          <p:spPr>
            <a:xfrm>
              <a:off x="4194000" y="4194000"/>
              <a:ext cx="2965680" cy="1289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4000" y="3813120"/>
              <a:ext cx="831960" cy="37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67440" y="3811680"/>
              <a:ext cx="719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G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736800" y="4346640"/>
            <a:ext cx="2965680" cy="12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6800" y="3965400"/>
            <a:ext cx="167040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0240" y="396396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540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3840" y="4575240"/>
            <a:ext cx="6793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4575240"/>
            <a:ext cx="6796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992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2040" y="4649760"/>
            <a:ext cx="63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6080" y="4649760"/>
            <a:ext cx="663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2720" y="1908000"/>
            <a:ext cx="2432160" cy="15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1527120"/>
            <a:ext cx="1289160" cy="37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0200" y="1525680"/>
            <a:ext cx="125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main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2289240"/>
            <a:ext cx="75600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86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044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8520" y="510552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6600" y="5105520"/>
            <a:ext cx="67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2272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94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5644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1440" y="1220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3520" y="39639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65120" y="3506760"/>
            <a:ext cx="91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&lt;  &gt;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827440" y="4871520"/>
            <a:ext cx="900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4320" y="2289240"/>
            <a:ext cx="755640" cy="83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2895480"/>
            <a:ext cx="747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776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8480" y="2363760"/>
            <a:ext cx="507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485040" y="3271320"/>
            <a:ext cx="595080" cy="1078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713640" y="3271320"/>
            <a:ext cx="519120" cy="925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942240" y="3271680"/>
            <a:ext cx="442800" cy="77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46800" y="3271320"/>
            <a:ext cx="290520" cy="62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d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ailable building block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ub-models in FT-CORB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1. Client failov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2. Server objec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Fault management (detection and notifi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3. Recovery (replication managemen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Client Fai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mantic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imary is tried fir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over conditions: „crash”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over: 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o failure exception until all profiles have been tri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ree (passive replication)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op event: Client failur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Basic events: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rver object erroneous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posite events (OR): number n of profile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(primary)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S3 errone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1 crash AND S2 crash AND ... AND Sn crash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248520" y="1219320"/>
            <a:ext cx="2438280" cy="1523880"/>
            <a:chOff x="6248520" y="1219320"/>
            <a:chExt cx="2438280" cy="1523880"/>
          </a:xfrm>
        </p:grpSpPr>
        <p:sp>
          <p:nvSpPr>
            <p:cNvPr id="221" name=""/>
            <p:cNvSpPr/>
            <p:nvPr/>
          </p:nvSpPr>
          <p:spPr>
            <a:xfrm>
              <a:off x="6248520" y="1219320"/>
              <a:ext cx="2438280" cy="1523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2" name=""/>
            <p:cNvGraphicFramePr/>
            <p:nvPr/>
          </p:nvGraphicFramePr>
          <p:xfrm>
            <a:off x="6324480" y="1295280"/>
            <a:ext cx="229896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1295280"/>
                      <a:ext cx="229896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Server Object Fail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istinction of failur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ilover in cli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rror detected in the object grou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Erroneous response (commission fault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pagated to clients,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lication-specific error dete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ilure proces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stinguished cases: crash/erroneous respons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Propagation subne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subnets  (toward the client fault tree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33720" y="2666880"/>
            <a:ext cx="4800600" cy="1676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09680" y="2743200"/>
          <a:ext cx="4662720" cy="153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6272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The FT-CORBA Proposa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Fault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+notification: Chain of even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ource: 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ncy = MonitoringInterv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verage depends on MonitoringGranularit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member / single per host / single per host and typ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pagation: Fault Notifier(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unication fail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estination: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erarchy of Fault Detecto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frastructure objects: Replication is possib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rror detection dela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timed PN transition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notification subsyste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tree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ed infrastructure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cal fault trees (AND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43600" y="4038480"/>
            <a:ext cx="2438280" cy="1524240"/>
            <a:chOff x="5943600" y="4038480"/>
            <a:chExt cx="2438280" cy="1524240"/>
          </a:xfrm>
        </p:grpSpPr>
        <p:sp>
          <p:nvSpPr>
            <p:cNvPr id="236" name=""/>
            <p:cNvSpPr/>
            <p:nvPr/>
          </p:nvSpPr>
          <p:spPr>
            <a:xfrm>
              <a:off x="5943600" y="4038480"/>
              <a:ext cx="2438280" cy="1524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7" name=""/>
            <p:cNvGraphicFramePr/>
            <p:nvPr/>
          </p:nvGraphicFramePr>
          <p:xfrm>
            <a:off x="6019920" y="4114800"/>
            <a:ext cx="2298600" cy="13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19920" y="4114800"/>
                      <a:ext cx="2298600" cy="13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Recovery in the Object Grou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riggered by the Fault Notifier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in the Replication Manage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Maintain the number of replic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ashed object is removed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new replica, restoring stat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nly a single replica on a given host!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is possible if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-fre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urrent host is faulty, but there are available host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.e. number of hosts &gt;= Number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ility Sub-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air subnet: Explicit repai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atency: CheckpointInterval, ReplicationStyle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covery of the replica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tic deployment: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repair subne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ool of identical hosts: Logic condition for repair</a:t>
            </a:r>
            <a:br>
              <a:rPr sz="2600"/>
            </a:b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Free hosts (PN place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increased by host repair and server object crash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rking decreased by host crash and server object repai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Guard on the transition for explicit repair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914400"/>
            <a:ext cx="8686800" cy="5105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4120" y="4956120"/>
            <a:ext cx="1974960" cy="67968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374840"/>
            <a:ext cx="1670040" cy="3747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800" y="3203640"/>
            <a:ext cx="2813400" cy="67932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all Structure of Subn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84520" y="1068840"/>
            <a:ext cx="5099040" cy="755640"/>
          </a:xfrm>
          <a:custGeom>
            <a:avLst/>
            <a:gdLst>
              <a:gd name="textAreaLeft" fmla="*/ 1121040 w 5099040"/>
              <a:gd name="textAreaRight" fmla="*/ 3978000 w 5099040"/>
              <a:gd name="textAreaTop" fmla="*/ 165960 h 755640"/>
              <a:gd name="textAreaBottom" fmla="*/ 589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2" y="21600"/>
                </a:lnTo>
                <a:lnTo>
                  <a:pt x="5398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8200" y="2136600"/>
            <a:ext cx="1060560" cy="1133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68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8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32040" y="4194000"/>
            <a:ext cx="144144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2520" y="4343400"/>
            <a:ext cx="111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2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51200" y="2136600"/>
            <a:ext cx="10605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371600"/>
            <a:ext cx="198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Fault T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51200" y="35082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5120" y="3657600"/>
            <a:ext cx="57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er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751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55800" y="3657600"/>
            <a:ext cx="84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 cr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41680" y="4879800"/>
            <a:ext cx="1060560" cy="52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55800" y="502920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4680" y="4879800"/>
            <a:ext cx="1060560" cy="5274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76920" y="50292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a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1840" y="14479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Rep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0240" y="3276720"/>
            <a:ext cx="244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Granularit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2600" y="3581280"/>
            <a:ext cx="21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Monitoring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6240" y="5029200"/>
            <a:ext cx="1515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icationSty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7760" y="5334120"/>
            <a:ext cx="173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point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065320" y="1442520"/>
            <a:ext cx="2043000" cy="163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50920" y="3894120"/>
            <a:ext cx="671400" cy="519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370240" y="5253120"/>
            <a:ext cx="1128600" cy="8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38480" y="18367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18148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8148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890800" y="3817800"/>
            <a:ext cx="62064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03400" y="4732200"/>
            <a:ext cx="59544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046400"/>
            <a:ext cx="0" cy="82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1320" y="4046400"/>
            <a:ext cx="19670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4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1240" y="4727520"/>
            <a:ext cx="755640" cy="11368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08840" y="518148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94320" y="4046400"/>
            <a:ext cx="1738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086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93252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71629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8077320" y="3271680"/>
            <a:ext cx="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16292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001000" y="1823760"/>
            <a:ext cx="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23000" y="2136600"/>
            <a:ext cx="831960" cy="1136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70960" y="25909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172200" y="909720"/>
            <a:ext cx="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5240" y="3813120"/>
            <a:ext cx="69840" cy="22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stem-wide Dependabil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nalysis of the Petri-net: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tandard tools (SPNP, PANDA, ..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nsitivity analysi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ystem-wide reliability, availability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ptimal selection of FT-CORBA parameter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(membership, consistency) styl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number of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monitoring granularity, interval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MG CORBA: standard of open OO system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Provides transparent access to services of remote objects (like local method call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RB: Object Request Broker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mmunication of requests/responses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location, activation, parameter passing etc.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OR: interoperable object referenc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OP: general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IOP: Internet inter-ORB protoco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DL: Interface definition language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onsistency between client and server interface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Goal: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in CORBA environmen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istory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pril 1998: Request for Proposal issue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October 1998: Initial submission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December 1999: Joint revised submission</a:t>
            </a:r>
            <a:br>
              <a:rPr sz="24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by Ericsson, Inprise, Iona, Lucent, Oracle, Sun,..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April 2000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: Final adopted specific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T-CORBA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oiding SPOF of single (server) object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tolerance by entity redundancy,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ult detection and recover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of (server)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infrastructure to maintain object replicas 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asic propertie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number/location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ilure transparency</a:t>
            </a:r>
            <a:br>
              <a:rPr sz="2600"/>
            </a:b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(access independent of faulty server objects)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T domain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Object groups of server object replica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bject groups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different host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ingle object per hos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lication Manager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Creation and management of object groups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Support of application-controlled management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ult Tolerance Dom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286000"/>
            <a:ext cx="83059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8013960" cy="30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200" y="1442880"/>
            <a:ext cx="81583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omains, object groups, hosts and replic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tecture Overvie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t of CORBA objects to support F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plication Manag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Detecto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Notifi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Fault Analyzer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RB extensi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logging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e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ecff"/>
                </a:solidFill>
                <a:latin typeface="Arial"/>
              </a:rPr>
              <a:t>recovery mechanism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mmercial implementations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20:19:56Z</dcterms:created>
  <dc:creator>Majzik Istvan</dc:creator>
  <dc:description/>
  <dc:language>en-US</dc:language>
  <cp:lastModifiedBy>Majzik Istvan</cp:lastModifiedBy>
  <dcterms:modified xsi:type="dcterms:W3CDTF">2000-09-14T11:32:16Z</dcterms:modified>
  <cp:revision>7</cp:revision>
  <dc:subject/>
  <dc:title>Dependability Modeling of FT-CORBA Architectures</dc:title>
</cp:coreProperties>
</file>