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902825" cy="6858000"/>
  <p:notesSz cx="67278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91B-6447-4507-8450-14ADA2E8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365724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739-D111-4899-A486-4264FA7A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740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485A-5AF5-433D-8206-71BAF57D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664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1240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664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1240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BCE-FA98-4886-805D-C766AB65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1696-14A4-4A2C-8E4B-07CD871B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C355-3BA7-46B8-9F71-CABA59F3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9AC7-6FC2-4B5C-81C9-3A65657B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E282-5EAE-492C-8CE8-BDB85CE3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DDD7-4862-4C11-A90E-9D301121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9067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E350-623B-4EEE-9682-B1F316B4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AE06-E54C-4F15-9B02-AA80D0A8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E9D6-4CC0-4F4B-992F-6F20AD19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2740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EEF2-92E1-46C7-A110-7CC9F7E8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D6D6-9A1B-4771-9412-85961634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365724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2CAB-202A-47AB-9042-C0E9060D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2740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4E50-F08C-4398-84EF-B9DD6BF9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4664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1240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4664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1240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B86C-ADE3-40E4-9E73-C042D053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298-8FB6-4E9E-94FB-16D6CCBD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646-BBCD-47AF-AD46-F9EE44F9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EC2-B542-45E1-8E13-B529C339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9067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B301-3C67-4BB6-AB62-2C1D8260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B61-660D-41C8-A5EB-484AD325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740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02A-7BAF-4A1D-B7EC-EA9CAD7D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0603-F2D0-4508-AA91-5F3306AD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825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57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088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088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088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248160"/>
            <a:ext cx="3479760" cy="431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lvl="3" marL="1393920" indent="0">
              <a:lnSpc>
                <a:spcPct val="100000"/>
              </a:lnSpc>
              <a:buNone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3" marL="1393920" indent="0">
              <a:lnSpc>
                <a:spcPct val="100000"/>
              </a:lnSpc>
              <a:buNone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MPUS S_JEP-12495-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9040" indent="0">
              <a:lnSpc>
                <a:spcPct val="100000"/>
              </a:lnSpc>
              <a:buNone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twork Computing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248520"/>
            <a:ext cx="2435400" cy="457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838080"/>
            <a:ext cx="906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bd14539_" descr=""/>
          <p:cNvPicPr/>
          <p:nvPr/>
        </p:nvPicPr>
        <p:blipFill>
          <a:blip r:embed="rId4"/>
          <a:stretch/>
        </p:blipFill>
        <p:spPr>
          <a:xfrm>
            <a:off x="380880" y="801720"/>
            <a:ext cx="9068040" cy="150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9296280" y="152280"/>
            <a:ext cx="6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E23C-5032-4485-AF4D-F50FC8A4F5F6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42680" y="6248160"/>
            <a:ext cx="2609640" cy="431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MPUS S_JEP-12495-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189240" cy="457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twork Compu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724800" y="6248520"/>
            <a:ext cx="2435040" cy="457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 indent="0" algn="ctr">
              <a:spcBef>
                <a:spcPts val="726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28800" algn="ctr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39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904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br>
              <a:rPr sz="10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MPUS S_JEP-12495-97</a:t>
            </a: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work Comput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228564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Developing of Network Computing Applic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mponent Based System Developm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jos Fic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Information Technology, University of Misko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4B84-4603-4AD8-8546-40818A475BE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terfaces of a Component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ndirect (object)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ovided by objects that are made available by the 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direction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ethod dispatc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object's class determines the implementation of the object's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 runtime, a method invocation is resolved by retrieving the target object's class and directing the call to the nethod implementation in tha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>
              <a:spcBef>
                <a:spcPts val="726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56E-8271-432E-A790-9ED88696BB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direct interface: an example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91040" y="990360"/>
            <a:ext cx="468648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mmar checker knows about the medi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mmar checker registers itself - the mediator knows only the abstract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d processor knows about the medi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d processor acquires a reference to the current checker from the mediator (the word processor knows only the abstract checker interface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219320"/>
            <a:ext cx="1981440" cy="1295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4191120"/>
            <a:ext cx="4114800" cy="1295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1219320"/>
            <a:ext cx="2057400" cy="1295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752480"/>
            <a:ext cx="16761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5560" y="129528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processing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828800"/>
            <a:ext cx="131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d 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1752480"/>
            <a:ext cx="16765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50040" y="129528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mmar checking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1828800"/>
            <a:ext cx="14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mmar chec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8800" y="5181480"/>
            <a:ext cx="22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services mediator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495680"/>
            <a:ext cx="14479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495680"/>
            <a:ext cx="14475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828800" y="2362320"/>
            <a:ext cx="1371600" cy="21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733560" y="2362320"/>
            <a:ext cx="685800" cy="220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2362320"/>
            <a:ext cx="1676160" cy="21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362320"/>
            <a:ext cx="380880" cy="21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27432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3048120"/>
            <a:ext cx="30456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7600" y="312408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8640" y="266688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3000" y="281952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720" y="487692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1080" y="35053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6200" y="3048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828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9360" y="441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2743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B1C-0F64-47C2-BD95-2989086267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terfaces as contrac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nterface specification: contract betwee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client and the 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 constructor of the client and the 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contract states what the client needs to do to use the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n theory, the contract could be refined at run time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51A3-C959-48ED-880D-C100A3E824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ent of a Contrac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r every oper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28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onditions: the client has to establish i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he oper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28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ostconditions: the component has to establish before returning to the cli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28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artially correctness: the operation terminates with the correct postconditions or does not terminates at al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28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otal correctness: the operation should eventually termina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Non-functional requirements (performance, availability, data safety capacity etc.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05F-76B1-4CF9-8E82-E023F7ED82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Explicit context dependenci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art of the definition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700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specified interfaces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icit context dependenc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ly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00"/>
              </a:spcBef>
              <a:buSzPct val="121168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he deployment environment will need to provide, such that the component can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601"/>
              </a:spcBef>
              <a:buSzPct val="124304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interfaces of the other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601"/>
              </a:spcBef>
              <a:buSzPct val="124304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ust include also the specification of the component world (component model and its version). (For example CORBA x.x, Java x.x, COM/DCOM x.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>
              <a:spcBef>
                <a:spcPts val="601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4A8-F405-46CC-9320-09FD3CB8883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mponent model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9068040" cy="1752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ach component model use a specific distributed object model as a middlewar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three major component models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3124080"/>
          <a:ext cx="8534520" cy="2700360"/>
        </p:xfrm>
        <a:graphic>
          <a:graphicData uri="http://schemas.openxmlformats.org/drawingml/2006/table">
            <a:tbl>
              <a:tblPr/>
              <a:tblGrid>
                <a:gridCol w="3048120"/>
                <a:gridCol w="1752480"/>
                <a:gridCol w="1981440"/>
                <a:gridCol w="17524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dlew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u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t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Beans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erprise JavaB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 R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so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BA B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543-D502-492F-963D-FFD7198A45E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The JavaBean Component Model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Topic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hat is a Bean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DK as a component framework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main aspects of the Bean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sign-time and run-time 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sign patter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reating a Bea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How does it work?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3C1-D700-4B9C-83D8-E6D07AD840A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is a Bean?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avaBeans specification a Java component architecture for Java component developers and component assembl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Bean a black-box component. It may be visible or invisi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Bean consists in a ZIP-format archive fi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Java class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set of serialized object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ptional HTML help file, localization information, icon and other resourc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n optional manifest file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94F-47B0-4168-948D-6F0B5665C1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is a Bean?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JavaBeans are (mainly) presentation tier compon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y tipically represent GUI elem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y share the address space with their cli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ir clients are containers that provide all the resourc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y send events to their contain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DB3-49BB-4D83-A89D-87AE925E5F9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Programmer's View of a Bea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895480"/>
            <a:ext cx="1981080" cy="1905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3809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505320" y="18288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373392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42670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1219320"/>
            <a:ext cx="175284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2880" y="14479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962160" y="1676520"/>
            <a:ext cx="1904760" cy="1447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75680" y="12193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394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46000" y="44197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29520" y="3124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921-CFEA-4FA5-B7D5-AB346538878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hy Software Components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concept of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software compon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avaBeans component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Enterprise JavaBeans component model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DCOM Distributed Object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E06A-2F9D-4C4D-8E72-7B7607CADD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The JDK as a Component Framework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ithin the JDK the developer ca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reate new Beans from scratc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reate new Beans from existing be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ustomize existing Be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reate applications from customized Beans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5001-91EB-4BEE-940D-D47EB8C0A94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JDK Framework View of JavaBea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219320"/>
            <a:ext cx="8991720" cy="259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809880"/>
            <a:ext cx="2666880" cy="228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572000"/>
            <a:ext cx="2133360" cy="990720"/>
          </a:xfrm>
          <a:prstGeom prst="leftRightArrow">
            <a:avLst>
              <a:gd name="adj1" fmla="val 50000"/>
              <a:gd name="adj2" fmla="val 428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00200"/>
            <a:ext cx="129564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1600200"/>
            <a:ext cx="106668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1600200"/>
            <a:ext cx="129528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1600200"/>
            <a:ext cx="160020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sp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1600200"/>
            <a:ext cx="129528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24680" y="1600200"/>
            <a:ext cx="129564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3962520"/>
            <a:ext cx="1371600" cy="15238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114800"/>
            <a:ext cx="1371600" cy="15238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267080"/>
            <a:ext cx="1371600" cy="15242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4419720"/>
            <a:ext cx="1371600" cy="15238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4572000"/>
            <a:ext cx="1371600" cy="15238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724280"/>
            <a:ext cx="1371600" cy="15242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83400" y="495288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wn B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93A4-D911-4847-8CC9-9AFFD0E78A1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Visual Presenta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pports the visual layout of compon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Let components visually interact with each oth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se are provided b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Java Foundation Classes (JF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W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-D graphic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wing compon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70A-E32C-4B08-BD5A-30DF1E7820D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avaBeans event model: 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event-delegation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s the same one JDK 1.1 introduced for AWT but every Beans can use i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vents are objec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component can post an event (event source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Other components can subscribe to the event sour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ll the subscribed component (listeners) will be notified if the event "fires"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18FD-3820-46CF-9604-21F5FDABAE6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eans have properties: named attribut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programmer can read and modify these properties using a property editor within a visual too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t run time getter and setter methods are availa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roperty changes can trigger ev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roperties can be constraite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9330-CEFB-4F19-ACF9-D00F196B24A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trospec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component can make its services to the outside worl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visual tool use this facility to discover the Bean's incoming and outgoing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velopers can define for their Beans an explicit BeanInfo class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4DD-646A-4AAE-80C8-28FF6529ABD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Persistence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eans use the JDK serialization servi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Visual tools require component that support some form of persisten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pport a simple form of version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ans never load state written by their older vers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ans never store state in a format that is consistent with older vers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eans can be packaged and distributed using JAR fil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F179-99EB-4E14-ADC3-9E462022D1B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ustomiza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pport the toolability of Java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propriety editor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classes provide the first level of support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an designer can visually edit a particular part of property, for example font, color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Propriety sheets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are visual interfaces that group all the propriety edito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eans customizers provide dialogs that let the designer edit a bean as a who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46C-9670-4832-8246-7E67781CF7F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ORB servic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RBA ORB let the programmer invoke methods across languages, operating systems and network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RMI can also use for Java-to-Java bean communic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C94-48BB-4A77-BD5F-C921190CCCF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esign-Time and Run-Time Bea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9068040" cy="1752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6000"/>
          </a:bodyPr>
          <a:p>
            <a:pPr marL="333720" indent="-33372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Bean has to works inside a builder as well as in a running applic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3720" indent="-33372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o be toolable a beans must support a lot of extra func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2971800"/>
            <a:ext cx="2895840" cy="3124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n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iz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Edito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Info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Descripto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specto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R + (.S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2971800"/>
            <a:ext cx="2133720" cy="1066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n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R + (.S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3124080"/>
            <a:ext cx="1143000" cy="609840"/>
          </a:xfrm>
          <a:prstGeom prst="rightArrow">
            <a:avLst>
              <a:gd name="adj1" fmla="val 50000"/>
              <a:gd name="adj2" fmla="val 4685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" y="3784680"/>
            <a:ext cx="18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94880" y="4191120"/>
            <a:ext cx="151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8BA2-CF6B-4284-BCC4-219B49F3B97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y Software Components?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ulti-tier architecture separates at least the presentation - application - data management layers, but these tiers usually remain complex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dditional separation of the tiers is possi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mand of the market for the sorter development proces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mponents help in reus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asiest way to develop scalable system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1FD-0071-4DFB-976B-8B81465401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esing Patter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avaBeans architecture specifies standard name and type conventions for methods that a Bean uses to expose its properties, events and method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introspector uses this convention to discover the Bean's faciliti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programmer can alter this convention by providing an own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BeanInfo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class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10F-7F9A-46FE-B14A-9AA36E2EEBE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reating a Bea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riting a Bean class the naming conventions are compulso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f a Bean is a visual component it must derive from one of the AWT class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container  must be created and the bean must be added to i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f the Bean is a listener it must register to the event source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C955-E52C-4FB5-B7EF-0ECCC988C52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How does it work?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vent source beans generates event objects and pass them as arguments to the event handling methods of listen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ll registered  listener get the event objec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very delivery normally is multicas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s it possible to create an event adapter to demultiplexing of event sources onto a single listen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24F-1DA3-4340-9766-0B80955723C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nterprise JavaBeans Component Mod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Topic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Goals for Enterprise JavaBeans (EJB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nterprise JavaBeans  typ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lavors of the Enterprise Java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asks of the EJB contain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haracteristics of the Session 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haracteristics of the Entity 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8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16A-FC6D-4654-9376-64B928BB411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JavaBeans component model helps to developing the client side ti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business logic tier needs a server-oriented component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veloping the business logic tier the support of transactions is essentia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large business application has several different clients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115-957F-413B-B7E4-38AF65B4B7D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oals for Enterprise JavaBeans (EJB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rovide the standard architecture for developing distributed, component-based applic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ool interoperatibil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Hide all the "technical" details such as handling transactions, security, distribution etc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ddress development, deployment, and runtime aspects of enterprise application life cycle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3E5-0B50-4B88-AB86-4D84DDFFC5B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Enterprise Beans  Typ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ree different typ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04920" y="2057400"/>
          <a:ext cx="9296280" cy="3657600"/>
        </p:xfrm>
        <a:graphic>
          <a:graphicData uri="http://schemas.openxmlformats.org/drawingml/2006/table">
            <a:tbl>
              <a:tblPr/>
              <a:tblGrid>
                <a:gridCol w="3684600"/>
                <a:gridCol w="5611680"/>
              </a:tblGrid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B Typ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rpos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ssion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GB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orms a task for a client</a:t>
                      </a: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ity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GB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s a business entity object that exists in persistent</a:t>
                      </a: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rage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ssage-Driven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GB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s as a listener for the Java Message Service API, processing messages asynchronously</a:t>
                      </a: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391-1913-4C44-B5B7-F195B25225B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lavors of the Enterprise JavaBea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y tipically provide server-side functional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y run in their own address sp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y are integrated into a container that hides all system detail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anage components and notify components about events such as activation, passivation, transac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ovide component access to services such as transactions, security, persisten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elp to register and deploy compon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A87C-E9A7-4DC2-92A0-AE118075551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Tasks of the EJB Contain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1371600"/>
            <a:ext cx="5410080" cy="2362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3733920"/>
            <a:ext cx="22096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447920"/>
            <a:ext cx="1447920" cy="4419360"/>
          </a:xfrm>
          <a:prstGeom prst="rect">
            <a:avLst/>
          </a:prstGeom>
          <a:solidFill>
            <a:srgbClr val="00cc99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6765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TS/J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6765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i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16765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3200" y="30481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44197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10280" y="1676520"/>
            <a:ext cx="83844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4267080"/>
            <a:ext cx="1447920" cy="14479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19720"/>
            <a:ext cx="1447560" cy="14475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4572000"/>
            <a:ext cx="1447920" cy="14479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724280"/>
            <a:ext cx="1447920" cy="14479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4360" y="51814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600200"/>
            <a:ext cx="609840" cy="6858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2819520"/>
            <a:ext cx="685800" cy="8380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4114800"/>
            <a:ext cx="685800" cy="8380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3240" y="2286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4640" y="5029200"/>
            <a:ext cx="122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X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3733920"/>
            <a:ext cx="123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if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2440" y="1905120"/>
            <a:ext cx="15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2240" y="4876920"/>
            <a:ext cx="182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198108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4952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743200"/>
            <a:ext cx="1447560" cy="16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2743200"/>
            <a:ext cx="1600200" cy="1905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495320" y="2742840"/>
            <a:ext cx="121932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52880" y="266688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2743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C6D9-5AF3-49ED-9948-9A819FD5E06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haracteristics of the Session Bea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t is transi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xecutes on behalf of a single client - the instance is an extension of the client that creates i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an be transaction-awar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Updates data in an underlying databa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ts lifetime is tipically that of its cli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s destroyed when the EJS server crashes. The client has to re-establish a new session objec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576-E112-4600-B492-39DF7346337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a Component i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Characteristic properties of compon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 component is a unit of independent deploym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is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ell separated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from its environment and from other compon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will never be deployed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artiall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 encapsulates its constituent featur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user of a component cannot be expected to have access to the construction detail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9F2-3BD2-4AD8-B933-5BDB649077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acteristics of the Session Bean (cont'd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oes not represent data that should be stores in a databa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ipically reads and updates data in the databa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re intended to be private resources used only the client that creates the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nonymous - it hides its identity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029-CBC1-4214-A9E5-932B0A2DF72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haracteristics of the Entity Bea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pports shared access from multiple us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articipates in transac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Represents data in the databa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an be long-live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rvives crashes of the EJB server. The crash is transparent to the clien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Has a persistent object reference. The object reference is encapsulated the Object Id for this Bean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C819-8579-47C3-B2CD-85B4538CA80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609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2590920"/>
            <a:ext cx="2057400" cy="13716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2057400"/>
            <a:ext cx="2667240" cy="30481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05720" y="2362320"/>
            <a:ext cx="1828800" cy="19047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48640" y="30481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82760" y="457200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3352680"/>
            <a:ext cx="185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's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2040" y="37339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4520" y="304812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34320" y="2514600"/>
            <a:ext cx="1523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43800" y="29718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71800" y="32767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5181480"/>
            <a:ext cx="1752480" cy="6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09160" y="52578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-ja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C4D-BDCB-46CF-9216-87398F0CFEB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ract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92966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ntract between client and contain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prise Bean has a unique ident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interface: Remote interface provided by bean. Client locates home using JNDI. Primary key server as identification within a home. Bean and container cooperate to implement create, find, home and rem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interface: provided by Bean. Implementation of business logic in Bean class. Container delegates incoming call to this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: serializable classes for storing references persist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BMetaData: Run-time access to component functional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F3C-A354-4F0F-A4F2-44A707892CF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ract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mponent contract between Bean and contain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stance view of life cyc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ntityContext/SessionContext/MessageDriveContext Are passed to Bean instance at creation tim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nvironment tha a container makes available to a Bean instan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ist of services provided by the contain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6A7-0FE4-4BDB-8DF9-83F5CAD61C0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ract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jb-jar fi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XML based Deployment Description for configuration and deploym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Java class files for Enterprise Be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Key class (Entity Beans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 object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D9C0-FAD3-477A-92DB-D9B060A9A41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The DCOM Distributed Object Model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8000"/>
          </a:bodyPr>
          <a:p>
            <a:pPr marL="3405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Topic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What is DCO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DCOM objec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DCOM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DCOM serv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architectural solu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Local/Remote Transparenc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DCOM Client/Serv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8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DCOM Object Cre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9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ActiveX Contol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3321-7C97-4E02-9101-A2398244E9E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What is DCOM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300" spc="-1" strike="noStrike">
                <a:solidFill>
                  <a:srgbClr val="0099cc"/>
                </a:solidFill>
                <a:latin typeface="Times New Roman"/>
              </a:rPr>
              <a:t>DCOM: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Distributed Component Object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Distributed object model of Microsof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Binary interoperability standard and its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API level servi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No high-level language bindings, but Microsoft Visual J++ provides Java bind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Based on DCE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C0B0-36F6-42FA-AD66-436122C1FE3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bjec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DCOM object a component supports one or more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It is identified by a 128-bit CLSID (Class ID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It is not an object in the classical OO sen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re is no object I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DCOM objects does not maintain state between connec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 client cannot reconnect to exactly the same objec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893-F436-417A-BD96-9903EE8EB3B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nterface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Collection of related func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eparates the interface from the implementation (uses DCE-based IDL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Defines as a low-level binary API based on a table of pointers (</a:t>
            </a:r>
            <a:r>
              <a:rPr b="0" i="1" lang="en-GB" sz="3300" spc="-1" strike="noStrike">
                <a:solidFill>
                  <a:srgbClr val="000000"/>
                </a:solidFill>
                <a:latin typeface="Times New Roman"/>
              </a:rPr>
              <a:t>vtable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An interface has a symbolic name, but at run time is identified by a 128-bit unique IID (</a:t>
            </a:r>
            <a:r>
              <a:rPr b="0" i="1" lang="en-GB" sz="3300" spc="-1" strike="noStrike">
                <a:solidFill>
                  <a:srgbClr val="000000"/>
                </a:solidFill>
                <a:latin typeface="Times New Roman"/>
              </a:rPr>
              <a:t>Interface Identifier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972E-5012-45FF-AAE8-B564956263E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a Component i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 component is a unit of third-party composi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needs to be sufficiently self-containe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needs to come with clear specific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interacts with its environment through a well-defined interfac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>
              <a:spcBef>
                <a:spcPts val="726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3CB-E153-4246-8B19-30AA856D7E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nterface (co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'd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2438280"/>
            <a:ext cx="1467000" cy="1390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86440" y="2705040"/>
            <a:ext cx="4362480" cy="3048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781360" y="2685960"/>
            <a:ext cx="1276200" cy="3048120"/>
            <a:chOff x="2781360" y="2685960"/>
            <a:chExt cx="1276200" cy="3048120"/>
          </a:xfrm>
        </p:grpSpPr>
        <p:sp>
          <p:nvSpPr>
            <p:cNvPr id="292" name=""/>
            <p:cNvSpPr/>
            <p:nvPr/>
          </p:nvSpPr>
          <p:spPr>
            <a:xfrm>
              <a:off x="2781360" y="2685960"/>
              <a:ext cx="1238040" cy="3048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81360" y="310536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160" y="352440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19160" y="394344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81360" y="438156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00440" y="481968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160" y="527688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67360" y="2705040"/>
            <a:ext cx="1276200" cy="3048120"/>
            <a:chOff x="5067360" y="2705040"/>
            <a:chExt cx="1276200" cy="3048120"/>
          </a:xfrm>
        </p:grpSpPr>
        <p:sp>
          <p:nvSpPr>
            <p:cNvPr id="300" name=""/>
            <p:cNvSpPr/>
            <p:nvPr/>
          </p:nvSpPr>
          <p:spPr>
            <a:xfrm>
              <a:off x="5067360" y="2705040"/>
              <a:ext cx="1238040" cy="3048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67360" y="312444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05160" y="354348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05160" y="396252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67360" y="440064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86440" y="483876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05160" y="529596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574920" y="251784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2895480"/>
            <a:ext cx="89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29160" y="1285920"/>
            <a:ext cx="156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82320" y="1305000"/>
            <a:ext cx="261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of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86320" y="3743280"/>
            <a:ext cx="142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95272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331488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76640" y="373392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057560" y="417204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57560" y="459108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76640" y="504828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76640" y="550548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006-24A9-4866-A1F1-43BEB851E23A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nterface (co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'd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5140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726"/>
              </a:spcBef>
              <a:buSzPct val="117023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Every DCOM objects must implement the </a:t>
            </a:r>
            <a:r>
              <a:rPr b="1" lang="en-GB" sz="2900" spc="-1" strike="noStrike">
                <a:solidFill>
                  <a:srgbClr val="0099cc"/>
                </a:solidFill>
                <a:latin typeface="Times New Roman"/>
              </a:rPr>
              <a:t>IUnknow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nterfa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clients can use it f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00"/>
              </a:spcBef>
              <a:buSzPct val="106564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ol the lifetime of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00"/>
              </a:spcBef>
              <a:buSzPct val="106564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cover the interfaces the object sup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3295800"/>
            <a:ext cx="2610000" cy="24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11760" y="3971880"/>
            <a:ext cx="130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D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8134200" y="26096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6134040" y="3790440"/>
            <a:ext cx="7430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6095880" y="4628880"/>
            <a:ext cx="7430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6095880" y="5372280"/>
            <a:ext cx="743040" cy="1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64080" y="19144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 CE"/>
              </a:rPr>
              <a:t>I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39200" y="4067280"/>
            <a:ext cx="1886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Times New Roman CE"/>
              </a:rPr>
              <a:t>Interface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20840" y="3228840"/>
            <a:ext cx="1905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Times New Roman CE"/>
              </a:rPr>
              <a:t>Interfac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8640" y="4829040"/>
            <a:ext cx="19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Times New Roman CE"/>
              </a:rPr>
              <a:t>Interface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9A9-8A9A-4B69-968A-C2A103ED8D6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erv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A server contains one or more object classes identified its own CLSI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client asks for an object of a given CLSI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server creates a new object by a </a:t>
            </a:r>
            <a:r>
              <a:rPr b="0" i="1" lang="en-GB" sz="3300" spc="-1" strike="noStrike">
                <a:solidFill>
                  <a:srgbClr val="000000"/>
                </a:solidFill>
                <a:latin typeface="Times New Roman"/>
              </a:rPr>
              <a:t>class facto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pointer of the primary interface of the new object is returned to the cli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server not an object, it is an EXE or DLL (or Java class)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13B-E530-4B5E-A6C7-C3CE98D7D17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Structure of a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erv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315040" y="2552760"/>
            <a:ext cx="2971800" cy="3371760"/>
            <a:chOff x="5315040" y="2552760"/>
            <a:chExt cx="2971800" cy="3371760"/>
          </a:xfrm>
        </p:grpSpPr>
        <p:sp>
          <p:nvSpPr>
            <p:cNvPr id="335" name=""/>
            <p:cNvSpPr/>
            <p:nvPr/>
          </p:nvSpPr>
          <p:spPr>
            <a:xfrm>
              <a:off x="5315040" y="2552760"/>
              <a:ext cx="2971800" cy="337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91320" y="2838240"/>
              <a:ext cx="1942920" cy="10094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10400" y="4209840"/>
              <a:ext cx="1923840" cy="1066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82920" y="2866680"/>
              <a:ext cx="130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DCO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Objec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62760" y="4257360"/>
              <a:ext cx="1364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la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Fact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50120" y="5362200"/>
              <a:ext cx="239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DCOM 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5741280" y="5877000"/>
            <a:ext cx="21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EXE or D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705720" y="1752120"/>
            <a:ext cx="0" cy="80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64120" y="15717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095720" y="3181320"/>
            <a:ext cx="16574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095720" y="3581280"/>
            <a:ext cx="16574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133880" y="4743360"/>
            <a:ext cx="16574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14360" y="2943360"/>
            <a:ext cx="17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32440" y="4124160"/>
            <a:ext cx="249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ClassFa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ClassFactory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E17-E100-4599-A8FE-86C6BF849850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Functions of a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erv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Implement a class factory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for each CLSI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 class can support licensing (IClassFactory2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Register the classes it suppor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registry entry for every CLSID with the pathname to the EXE or DLL of the implement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Initialise the DCOM libra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CoInitializ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PI cal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8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 DCOM library provides run-time services and API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C2F5-5E0A-4642-857E-D0203E997B9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Functions of a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erver (co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'd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Verify that the library is a compatible vers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10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CoBuildVersio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PI cal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Provide an unloading mechanis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o terminate the objects without active cli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Uninitialise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the DCOM libra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f there are no objects with active cli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3CB3-CDBC-4316-B3CE-AA6AECFE583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Architectural Solu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58560" y="1220760"/>
            <a:ext cx="9542880" cy="4942080"/>
            <a:chOff x="358560" y="1220760"/>
            <a:chExt cx="9542880" cy="4942080"/>
          </a:xfrm>
        </p:grpSpPr>
        <p:grpSp>
          <p:nvGrpSpPr>
            <p:cNvPr id="355" name=""/>
            <p:cNvGrpSpPr/>
            <p:nvPr/>
          </p:nvGrpSpPr>
          <p:grpSpPr>
            <a:xfrm>
              <a:off x="430200" y="1524240"/>
              <a:ext cx="2228760" cy="1009440"/>
              <a:chOff x="430200" y="1524240"/>
              <a:chExt cx="2228760" cy="1009440"/>
            </a:xfrm>
          </p:grpSpPr>
          <p:sp>
            <p:nvSpPr>
              <p:cNvPr id="356" name=""/>
              <p:cNvSpPr/>
              <p:nvPr/>
            </p:nvSpPr>
            <p:spPr>
              <a:xfrm>
                <a:off x="430200" y="1524240"/>
                <a:ext cx="222876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30200" y="2000520"/>
                <a:ext cx="222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430200" y="3124440"/>
              <a:ext cx="2628360" cy="1009440"/>
              <a:chOff x="430200" y="3124440"/>
              <a:chExt cx="2628360" cy="1009440"/>
            </a:xfrm>
          </p:grpSpPr>
          <p:sp>
            <p:nvSpPr>
              <p:cNvPr id="359" name=""/>
              <p:cNvSpPr/>
              <p:nvPr/>
            </p:nvSpPr>
            <p:spPr>
              <a:xfrm>
                <a:off x="430200" y="3124440"/>
                <a:ext cx="262836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30200" y="3600720"/>
                <a:ext cx="262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449280" y="4838760"/>
              <a:ext cx="2971440" cy="1009440"/>
              <a:chOff x="449280" y="4838760"/>
              <a:chExt cx="2971440" cy="1009440"/>
            </a:xfrm>
          </p:grpSpPr>
          <p:sp>
            <p:nvSpPr>
              <p:cNvPr id="362" name=""/>
              <p:cNvSpPr/>
              <p:nvPr/>
            </p:nvSpPr>
            <p:spPr>
              <a:xfrm>
                <a:off x="449280" y="4838760"/>
                <a:ext cx="297144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49280" y="5315040"/>
                <a:ext cx="297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4163760" y="3124440"/>
              <a:ext cx="2609640" cy="1009440"/>
              <a:chOff x="4163760" y="3124440"/>
              <a:chExt cx="2609640" cy="1009440"/>
            </a:xfrm>
          </p:grpSpPr>
          <p:sp>
            <p:nvSpPr>
              <p:cNvPr id="365" name=""/>
              <p:cNvSpPr/>
              <p:nvPr/>
            </p:nvSpPr>
            <p:spPr>
              <a:xfrm>
                <a:off x="4163760" y="3124440"/>
                <a:ext cx="260964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63760" y="3600720"/>
                <a:ext cx="260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6964200" y="4534200"/>
              <a:ext cx="2361960" cy="1618920"/>
              <a:chOff x="6964200" y="4534200"/>
              <a:chExt cx="2361960" cy="1618920"/>
            </a:xfrm>
          </p:grpSpPr>
          <p:sp>
            <p:nvSpPr>
              <p:cNvPr id="368" name=""/>
              <p:cNvSpPr/>
              <p:nvPr/>
            </p:nvSpPr>
            <p:spPr>
              <a:xfrm>
                <a:off x="6964200" y="4534200"/>
                <a:ext cx="2361960" cy="161892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964200" y="5297760"/>
                <a:ext cx="236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6964200" y="1600200"/>
              <a:ext cx="2228760" cy="1009440"/>
              <a:chOff x="6964200" y="1600200"/>
              <a:chExt cx="2228760" cy="1009440"/>
            </a:xfrm>
          </p:grpSpPr>
          <p:sp>
            <p:nvSpPr>
              <p:cNvPr id="371" name=""/>
              <p:cNvSpPr/>
              <p:nvPr/>
            </p:nvSpPr>
            <p:spPr>
              <a:xfrm>
                <a:off x="6964200" y="1600200"/>
                <a:ext cx="222876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964200" y="2076480"/>
                <a:ext cx="222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873360" y="1533600"/>
              <a:ext cx="110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li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16120" y="3133800"/>
              <a:ext cx="13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Fact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30240" y="4867560"/>
              <a:ext cx="118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84360" y="3133800"/>
              <a:ext cx="195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ompon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22600" y="1590840"/>
              <a:ext cx="180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IUnknow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78040" y="4448160"/>
              <a:ext cx="168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Exten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Interface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 CE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5000" y="204156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Call_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8560" y="3641760"/>
              <a:ext cx="27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Create_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000" y="5356440"/>
              <a:ext cx="293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Initialize/Uninitial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11560" y="3641760"/>
              <a:ext cx="27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Create_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23960" y="2136960"/>
              <a:ext cx="21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Query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985800" y="5337360"/>
              <a:ext cx="219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Query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service_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58960" y="1752840"/>
              <a:ext cx="430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39880" y="2229120"/>
              <a:ext cx="363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278400" y="2229120"/>
              <a:ext cx="1467000" cy="23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7897320" y="2628720"/>
              <a:ext cx="19080" cy="192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39840" y="35434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611000" y="2552760"/>
              <a:ext cx="19080" cy="62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48440" y="4152960"/>
              <a:ext cx="19080" cy="55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3611160" y="4114800"/>
              <a:ext cx="1847880" cy="120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6125760" y="4305600"/>
              <a:ext cx="857160" cy="10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40520" y="3316320"/>
              <a:ext cx="196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&lt;extends&gt;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76240" y="1220760"/>
              <a:ext cx="477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sk for a reference to an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61480" y="2192400"/>
              <a:ext cx="41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all a service on an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35720" y="5077080"/>
              <a:ext cx="56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1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06360" y="3076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01680" y="3133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15720" y="2733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96640" y="2448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31160" y="2611440"/>
              <a:ext cx="224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reateIn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84360" y="3583080"/>
              <a:ext cx="7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46760" y="4687920"/>
              <a:ext cx="17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mpl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AC7-5E94-4DDF-89A7-B40E3B7B2D7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Local/Remote Transparency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ree kind of serv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300" spc="-1" strike="noStrike">
                <a:solidFill>
                  <a:srgbClr val="0099cc"/>
                </a:solidFill>
                <a:latin typeface="Times New Roman"/>
              </a:rPr>
              <a:t>in-process serv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 process space of the server and client is the same (DLL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300" spc="-1" strike="noStrike">
                <a:solidFill>
                  <a:srgbClr val="0099cc"/>
                </a:solidFill>
                <a:latin typeface="Times New Roman"/>
              </a:rPr>
              <a:t>local serv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server is in a separate process on the same machine (EXE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300" spc="-1" strike="noStrike">
                <a:solidFill>
                  <a:srgbClr val="0099cc"/>
                </a:solidFill>
                <a:latin typeface="Times New Roman"/>
              </a:rPr>
              <a:t>remote serv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separate process on a remote machnin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7F6A-5402-4C02-A3A5-791D4AC60C5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DCOM Client/Serv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39840" y="1123920"/>
            <a:ext cx="9563040" cy="5073120"/>
            <a:chOff x="339840" y="1123920"/>
            <a:chExt cx="9563040" cy="5073120"/>
          </a:xfrm>
        </p:grpSpPr>
        <p:sp>
          <p:nvSpPr>
            <p:cNvPr id="409" name=""/>
            <p:cNvSpPr/>
            <p:nvPr/>
          </p:nvSpPr>
          <p:spPr>
            <a:xfrm>
              <a:off x="5394600" y="3989520"/>
              <a:ext cx="4309920" cy="193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16760" y="3448080"/>
              <a:ext cx="4533840" cy="262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92600" y="2533680"/>
              <a:ext cx="1981080" cy="3600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73520" y="1123920"/>
              <a:ext cx="1962000" cy="1295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2120" y="2838600"/>
              <a:ext cx="1581120" cy="1257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4840" y="3000600"/>
              <a:ext cx="1108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li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App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3044880" y="2543400"/>
              <a:ext cx="1695600" cy="1373760"/>
              <a:chOff x="3044880" y="2543400"/>
              <a:chExt cx="1695600" cy="1373760"/>
            </a:xfrm>
          </p:grpSpPr>
          <p:sp>
            <p:nvSpPr>
              <p:cNvPr id="416" name=""/>
              <p:cNvSpPr/>
              <p:nvPr/>
            </p:nvSpPr>
            <p:spPr>
              <a:xfrm>
                <a:off x="3044880" y="2629080"/>
                <a:ext cx="1695600" cy="12567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314880" y="2543400"/>
                <a:ext cx="12301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Loca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Objec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Prox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3102120" y="4448160"/>
              <a:ext cx="1676520" cy="1373760"/>
              <a:chOff x="3102120" y="4448160"/>
              <a:chExt cx="1676520" cy="1373760"/>
            </a:xfrm>
          </p:grpSpPr>
          <p:sp>
            <p:nvSpPr>
              <p:cNvPr id="419" name=""/>
              <p:cNvSpPr/>
              <p:nvPr/>
            </p:nvSpPr>
            <p:spPr>
              <a:xfrm>
                <a:off x="3102120" y="4515120"/>
                <a:ext cx="1676520" cy="127620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298680" y="4448160"/>
                <a:ext cx="13435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Remot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Objec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Prox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3373200" y="387036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16680" y="573732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D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9840" y="1143000"/>
              <a:ext cx="4724280" cy="504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0840" y="1362240"/>
              <a:ext cx="1323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li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Proc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2396880" y="1162080"/>
              <a:ext cx="2324520" cy="847440"/>
              <a:chOff x="2396880" y="1162080"/>
              <a:chExt cx="2324520" cy="84744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2952720" y="1162080"/>
                <a:ext cx="1768680" cy="847440"/>
                <a:chOff x="2952720" y="1162080"/>
                <a:chExt cx="1768680" cy="8474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2968560" y="1162080"/>
                  <a:ext cx="1638360" cy="799920"/>
                </a:xfrm>
                <a:prstGeom prst="rect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952720" y="1184040"/>
                  <a:ext cx="1768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 CE"/>
                    </a:rPr>
                    <a:t>In-proces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 CE"/>
                    </a:rPr>
                    <a:t>Objec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 flipH="1">
                <a:off x="2396880" y="137160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2396880" y="17337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 flipH="1">
              <a:off x="2454120" y="3029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435040" y="3676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92280" y="49341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473200" y="5505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2054520" y="1581120"/>
              <a:ext cx="1904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73240" y="3448080"/>
              <a:ext cx="36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92320" y="3714840"/>
              <a:ext cx="304920" cy="14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55680" y="17366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Stu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7701120" y="4340160"/>
              <a:ext cx="1724040" cy="847800"/>
              <a:chOff x="7701120" y="4340160"/>
              <a:chExt cx="1724040" cy="847800"/>
            </a:xfrm>
          </p:grpSpPr>
          <p:sp>
            <p:nvSpPr>
              <p:cNvPr id="440" name=""/>
              <p:cNvSpPr/>
              <p:nvPr/>
            </p:nvSpPr>
            <p:spPr>
              <a:xfrm>
                <a:off x="7716240" y="4340160"/>
                <a:ext cx="1596960" cy="81828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701120" y="4362480"/>
                <a:ext cx="1724040" cy="82548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Remo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Objec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 flipH="1">
              <a:off x="7159320" y="45547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159320" y="49244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29400" y="4357800"/>
              <a:ext cx="90972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02400" y="4457880"/>
              <a:ext cx="46368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34440" y="514656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D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338960" y="5203800"/>
              <a:ext cx="212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Remote 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73120" y="3851280"/>
              <a:ext cx="317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Remote Server 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5483520" y="1241640"/>
              <a:ext cx="4419360" cy="2092320"/>
              <a:chOff x="5483520" y="1241640"/>
              <a:chExt cx="4419360" cy="209232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7292880" y="1714680"/>
                <a:ext cx="2323440" cy="847440"/>
                <a:chOff x="7292880" y="1714680"/>
                <a:chExt cx="2323440" cy="847440"/>
              </a:xfrm>
            </p:grpSpPr>
            <p:grpSp>
              <p:nvGrpSpPr>
                <p:cNvPr id="451" name=""/>
                <p:cNvGrpSpPr/>
                <p:nvPr/>
              </p:nvGrpSpPr>
              <p:grpSpPr>
                <a:xfrm>
                  <a:off x="7848000" y="1714680"/>
                  <a:ext cx="1768320" cy="847440"/>
                  <a:chOff x="7848000" y="1714680"/>
                  <a:chExt cx="1768320" cy="84744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7863480" y="1714680"/>
                    <a:ext cx="1638000" cy="799920"/>
                  </a:xfrm>
                  <a:prstGeom prst="rect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848000" y="1736640"/>
                    <a:ext cx="176832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 CE"/>
                      </a:rPr>
                      <a:t>Local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 CE"/>
                      </a:rPr>
                      <a:t>Object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4" name=""/>
                <p:cNvSpPr/>
                <p:nvPr/>
              </p:nvSpPr>
              <p:spPr>
                <a:xfrm flipH="1">
                  <a:off x="7292880" y="1924200"/>
                  <a:ext cx="609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7292880" y="2286360"/>
                  <a:ext cx="609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5826240" y="1733760"/>
                <a:ext cx="933120" cy="80028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721560" y="1867320"/>
                <a:ext cx="475920" cy="1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30200" y="2537280"/>
                <a:ext cx="92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CO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829280" y="2575080"/>
                <a:ext cx="184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Local 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483520" y="1314720"/>
                <a:ext cx="4419360" cy="2019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075720" y="1241640"/>
                <a:ext cx="290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Local Server Proc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5870160" y="19083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Stu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55680" y="46515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Stu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39000" y="3489480"/>
              <a:ext cx="23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imes New Roman CE"/>
                </a:rPr>
                <a:t>Remote Mach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740480" y="2095200"/>
              <a:ext cx="1085760" cy="11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778640" y="4705200"/>
              <a:ext cx="952200" cy="36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98520" y="49179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imes New Roman CE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10120" y="2724120"/>
              <a:ext cx="10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imes New Roman CE"/>
                </a:rPr>
                <a:t>L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DD4-0D62-424B-BD75-AF9A819677D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DCOM Object Creation Scenario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9960" y="1257480"/>
            <a:ext cx="190512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22960" y="13748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67200" y="1257480"/>
            <a:ext cx="19047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4120" y="1257480"/>
            <a:ext cx="22287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58280" y="3695760"/>
            <a:ext cx="19047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181160" y="1962000"/>
            <a:ext cx="114120" cy="400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62520" y="1962000"/>
            <a:ext cx="114120" cy="400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24480" y="1981080"/>
            <a:ext cx="114480" cy="400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535960" y="4400640"/>
            <a:ext cx="74520" cy="158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95280" y="24382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31640" y="2052720"/>
            <a:ext cx="24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1: CoGetClass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31400" y="2471760"/>
            <a:ext cx="29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2: CoRegisterClass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076280" y="2933640"/>
            <a:ext cx="2228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276200" y="3467160"/>
            <a:ext cx="5048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886400" y="302436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3: CreateInstance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58040" y="39816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41120" y="351936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4: 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1295280" y="4590720"/>
            <a:ext cx="7239240" cy="1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80960" y="412920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5: Obtai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95280" y="5257800"/>
            <a:ext cx="5048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4095360" y="5848200"/>
            <a:ext cx="2228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27160" y="536724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8: CoRevokeClass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59880" y="479592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7: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08000" y="247176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(CLS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642080" y="38131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IMy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4040" y="1432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IClassFactory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25240" y="137484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DCOM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AB0-6B33-486A-A915-C6B65ADCCE4C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a Component i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 component has no persistent sta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cannot be distinguished from copies of its 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ossible exceptions: non-functional attributes (for example license number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can be loaded into and activated in a particular system several times. The number of available copies is not meaningful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C18-24C4-4C52-B0BA-C8AE773092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DCOM Object Crea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1. The client requests a pointer to the class factory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gives the CLSID of the 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MyClas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2. The server instantiates a class factory and register i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3. The client requests an instance of this objec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IClassFactory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reates and instantiates the 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MyClas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 IID to 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IMyInterfac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8352-27CA-4072-9AD4-B39E8A71395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DCOM Object Creation (co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'd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4. The factory creates an instance of the clas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t returns to the client a pointer for the requested interfa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5. The client interacts with the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6. The client releases </a:t>
            </a:r>
            <a:r>
              <a:rPr b="1" lang="en-GB" sz="3300" spc="-1" strike="noStrike">
                <a:solidFill>
                  <a:srgbClr val="000000"/>
                </a:solidFill>
                <a:latin typeface="Courier New"/>
              </a:rPr>
              <a:t>IMy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7. The client releases </a:t>
            </a:r>
            <a:r>
              <a:rPr b="1" lang="en-GB" sz="3300" spc="-1" strike="noStrike">
                <a:solidFill>
                  <a:srgbClr val="000000"/>
                </a:solidFill>
                <a:latin typeface="Courier New"/>
              </a:rPr>
              <a:t>IClassfaxtory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8. The server is shut dow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D76-406D-4307-A20F-BF11857320B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ctiveX Contr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ctiveX Controls are components based on Microsoft CO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ctiveX Controls are COM objects that implement a predefined set of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y may be implemented and used in any programming languag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re is a bridge tool between JavaBeans and ActiveX Control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1794-6A7E-4296-BC90-C9B729118C3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ctiveX Control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609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ctiveX Controls with the predefined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9067680" cy="448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145-5733-483B-A191-B2E113ADDA2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33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87000"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9220320" cy="45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D13-54CC-4192-85FD-2010E3BF53B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mponent-based programm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emens Szyperski: Component Software. Beyond the Object-Oriented Programing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ddison-Wesley, 1999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12A-9958-4EC4-8B71-CEE5A86EFF5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Reference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Java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obert Orfali, Dan Harkey: Client/Server Programming with JAVA and CORBA (2nd Ed.)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John Wiley &amp; Sons, Inc, 1998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351-AB51-478E-A779-3649D2103A3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Reference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chard Grimes: Professional DCOM programming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rox Press Ltd. 1997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C1F-4834-462D-A80C-B2E3B31DCE1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mponent versus Objec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5788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726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it of deploym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726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Unit of composi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as no persistent sta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ncapsulates its features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0680" y="990360"/>
            <a:ext cx="445788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726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Objec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Unit of instanti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as a "plan" (class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class: unit of reuse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8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as (persistent) sta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9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ncapsulates its state and behavi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BC8-584A-4829-894D-97334177C4C7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efinition of the Componen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literature offers several different definition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e use the following definition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Clemens Szyperski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 (Component Software, p.34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"A software component is a unit of composition with contractually specified interfaces and explicit context dependencies only. A software component can be deployed independently and is subject to composition by third parties."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7FB-2538-4F42-9912-7AF1CB2E9B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terfaces of a Componen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art of the definition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700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a unit of composition with contractually specified interfaces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n interface is an access point for the client to the services of the componen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component can provide multiple interfaces for different client need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irect (procedural)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ovided directly by the 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ACE-47A4-4C62-A2DA-5B464CA4D0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Ficsor Lajos</dc:creator>
  <dc:description/>
  <dc:language>en-US</dc:language>
  <cp:lastModifiedBy>Ficsor Lajos</cp:lastModifiedBy>
  <cp:lastPrinted>2000-09-06T14:26:37Z</cp:lastPrinted>
  <dcterms:modified xsi:type="dcterms:W3CDTF">2001-09-26T16:03:32Z</dcterms:modified>
  <cp:revision>16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Oktatas\Infrendsz\Infrendsz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