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5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36A-F8FA-4E7D-BD1E-633DBB23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24E-975A-48D1-A53D-D6D80366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880-3207-462D-9A0E-4B68C62C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7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11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97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11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6F5-5ABC-4425-B643-E8D87195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D1E-0866-4322-857A-14563252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587-08F6-4304-B381-98E97F43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3B6-9B78-439F-831D-F34CE23C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2FF-40AB-4F98-BD07-B38B6C4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79C-87E5-4CFB-AA88-E152BDA6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8F2-2A51-467F-840B-E6A9380F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4DA-D099-4E25-8D1E-8850BA6B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355-1A61-4813-A1EF-054A1D40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0"/>
            <a:ext cx="91058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160" y="617220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Peter Kacsuk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044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5F5C-01BD-4675-B5EE-F1B5893BD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_s" descr=""/>
          <p:cNvPicPr/>
          <p:nvPr/>
        </p:nvPicPr>
        <p:blipFill>
          <a:blip r:embed="rId3"/>
          <a:stretch/>
        </p:blipFill>
        <p:spPr>
          <a:xfrm>
            <a:off x="195120" y="181080"/>
            <a:ext cx="136224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8686800" cy="604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1143000"/>
            <a:ext cx="632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cc"/>
                </a:solidFill>
                <a:latin typeface="Times New Roman"/>
              </a:rPr>
              <a:t>From Supercomput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cc"/>
                </a:solidFill>
                <a:latin typeface="Times New Roman"/>
              </a:rPr>
              <a:t>to Metacompu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Peter Kacsu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MTA SZTA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www.lpds.sztaki.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62940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First step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153036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-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95680" y="1530360"/>
            <a:ext cx="160020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153036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895480" y="2362320"/>
            <a:ext cx="4800600" cy="3935160"/>
            <a:chOff x="2895480" y="2362320"/>
            <a:chExt cx="4800600" cy="3935160"/>
          </a:xfrm>
        </p:grpSpPr>
        <p:grpSp>
          <p:nvGrpSpPr>
            <p:cNvPr id="609" name=""/>
            <p:cNvGrpSpPr/>
            <p:nvPr/>
          </p:nvGrpSpPr>
          <p:grpSpPr>
            <a:xfrm>
              <a:off x="3200400" y="2362320"/>
              <a:ext cx="4190760" cy="1225080"/>
              <a:chOff x="3200400" y="2362320"/>
              <a:chExt cx="4190760" cy="1225080"/>
            </a:xfrm>
          </p:grpSpPr>
          <p:sp>
            <p:nvSpPr>
              <p:cNvPr id="610" name=""/>
              <p:cNvSpPr/>
              <p:nvPr/>
            </p:nvSpPr>
            <p:spPr>
              <a:xfrm>
                <a:off x="4038480" y="2825640"/>
                <a:ext cx="2590920" cy="76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lus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200400" y="2362320"/>
                <a:ext cx="167652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34120" y="2362320"/>
                <a:ext cx="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714640" y="2362320"/>
                <a:ext cx="167652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4" name="sgi-gepek" descr=""/>
            <p:cNvPicPr/>
            <p:nvPr/>
          </p:nvPicPr>
          <p:blipFill>
            <a:blip r:embed="rId1"/>
            <a:stretch/>
          </p:blipFill>
          <p:spPr>
            <a:xfrm>
              <a:off x="2895480" y="3916440"/>
              <a:ext cx="4800600" cy="23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00E-9F48-47EC-A580-13DD4B4C44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8580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ree ma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aracteristic features of c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us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1676520"/>
            <a:ext cx="6858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A cluster connects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omplete computer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meta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2895480"/>
            <a:ext cx="68580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The component computers of a cluster are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oosely connec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meta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4495680"/>
            <a:ext cx="6858000" cy="137160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A cluster is utilized as a single, unified computing resource: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Single System Imag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super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10C-5D8A-4B6F-B638-980BD8199A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wo basic cluster typ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5120" y="4267080"/>
            <a:ext cx="6781680" cy="23623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edicated 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upercomputer-l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high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j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rong SSI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1295280"/>
            <a:ext cx="678168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Nondedicated 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NO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twork of works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usage of spare computing cy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background job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dividual owners of work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SSI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992-73E4-44E8-8FC5-08B892BB2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78168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tructure of a typical nondedicated cluster (NOW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7238880" cy="38815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791320" y="2057400"/>
            <a:ext cx="31240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91320" y="30351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76520" y="20574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165400" y="593892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97560" y="5938920"/>
            <a:ext cx="17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97600" y="5938920"/>
            <a:ext cx="20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57880" y="3657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Mbit/s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 ethernet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3400" y="2514600"/>
            <a:ext cx="179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shared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C62-7198-4566-ABE3-A14B1504DF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uj2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7010280" cy="48006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70102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tructure of a typical dedicated clus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16002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362320" y="5410080"/>
            <a:ext cx="6576840" cy="337320"/>
            <a:chOff x="2362320" y="5410080"/>
            <a:chExt cx="6576840" cy="337320"/>
          </a:xfrm>
        </p:grpSpPr>
        <p:sp>
          <p:nvSpPr>
            <p:cNvPr id="636" name=""/>
            <p:cNvSpPr/>
            <p:nvPr/>
          </p:nvSpPr>
          <p:spPr>
            <a:xfrm>
              <a:off x="2362320" y="5410080"/>
              <a:ext cx="18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81560" y="5410080"/>
              <a:ext cx="20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2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91320" y="541008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4495680" y="205740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48 port, 24 Gbps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3048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00</a:t>
            </a: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Mbit/s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 fast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BCA-935C-4628-9116-9E3AAB5BEA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otivation for meta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Grand challenge proble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un weeks and months even on supercomputers and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4114800"/>
            <a:ext cx="693396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supercomputers/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wide area networ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rder to solve grand challenge problems in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434-23C4-4379-97F1-129E5F895D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eaning of metacomputing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10280" y="21337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3809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iginal goal of metacomputing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5120" y="4800600"/>
            <a:ext cx="678168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chie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higher perform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n individual supercomputers/clusters can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876920" y="2133720"/>
            <a:ext cx="2133360" cy="1143000"/>
            <a:chOff x="4876920" y="2133720"/>
            <a:chExt cx="2133360" cy="1143000"/>
          </a:xfrm>
        </p:grpSpPr>
        <p:sp>
          <p:nvSpPr>
            <p:cNvPr id="650" name=""/>
            <p:cNvSpPr/>
            <p:nvPr/>
          </p:nvSpPr>
          <p:spPr>
            <a:xfrm>
              <a:off x="4876920" y="213372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91240" y="25146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133720" y="2133720"/>
            <a:ext cx="2743200" cy="1143000"/>
            <a:chOff x="2133720" y="2133720"/>
            <a:chExt cx="2743200" cy="1143000"/>
          </a:xfrm>
        </p:grpSpPr>
        <p:sp>
          <p:nvSpPr>
            <p:cNvPr id="653" name=""/>
            <p:cNvSpPr/>
            <p:nvPr/>
          </p:nvSpPr>
          <p:spPr>
            <a:xfrm>
              <a:off x="2133720" y="2133720"/>
              <a:ext cx="2209680" cy="11430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ta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57880" y="25146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0F6-04F1-4471-8C42-15AD4E3679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57400" y="68544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Second step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19051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-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1905120"/>
            <a:ext cx="1600200" cy="82548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29400" y="19051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200400" y="2736720"/>
            <a:ext cx="4190760" cy="3494160"/>
            <a:chOff x="3200400" y="2736720"/>
            <a:chExt cx="4190760" cy="3494160"/>
          </a:xfrm>
        </p:grpSpPr>
        <p:grpSp>
          <p:nvGrpSpPr>
            <p:cNvPr id="660" name=""/>
            <p:cNvGrpSpPr/>
            <p:nvPr/>
          </p:nvGrpSpPr>
          <p:grpSpPr>
            <a:xfrm>
              <a:off x="3200400" y="2736720"/>
              <a:ext cx="4190760" cy="1225440"/>
              <a:chOff x="3200400" y="2736720"/>
              <a:chExt cx="4190760" cy="1225440"/>
            </a:xfrm>
          </p:grpSpPr>
          <p:sp>
            <p:nvSpPr>
              <p:cNvPr id="661" name=""/>
              <p:cNvSpPr/>
              <p:nvPr/>
            </p:nvSpPr>
            <p:spPr>
              <a:xfrm>
                <a:off x="4038480" y="3200400"/>
                <a:ext cx="2590920" cy="76176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00400" y="2736720"/>
                <a:ext cx="167652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34120" y="2736720"/>
                <a:ext cx="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5714640" y="2736720"/>
                <a:ext cx="167652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414680" y="4237200"/>
              <a:ext cx="1847880" cy="1993680"/>
              <a:chOff x="4414680" y="4237200"/>
              <a:chExt cx="1847880" cy="1993680"/>
            </a:xfrm>
          </p:grpSpPr>
          <p:pic>
            <p:nvPicPr>
              <p:cNvPr id="6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5320" y="4722840"/>
                <a:ext cx="1360440" cy="102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7" name=""/>
              <p:cNvGrpSpPr/>
              <p:nvPr/>
            </p:nvGrpSpPr>
            <p:grpSpPr>
              <a:xfrm>
                <a:off x="5214960" y="4237200"/>
                <a:ext cx="338040" cy="447480"/>
                <a:chOff x="5214960" y="4237200"/>
                <a:chExt cx="338040" cy="4474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315040" y="443232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5214960" y="4498560"/>
                  <a:ext cx="338040" cy="186120"/>
                  <a:chOff x="5214960" y="4498560"/>
                  <a:chExt cx="338040" cy="1861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V="1">
                    <a:off x="5235480" y="450036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>
                    <a:off x="5340240" y="450036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>
                    <a:off x="5430960" y="449856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214960" y="4614840"/>
                    <a:ext cx="28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322960" y="4608720"/>
                    <a:ext cx="331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411880" y="4606920"/>
                    <a:ext cx="29880" cy="7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526000" y="461484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flipV="1">
                    <a:off x="5455800" y="450036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5214960" y="4237200"/>
                  <a:ext cx="338040" cy="173160"/>
                  <a:chOff x="5214960" y="4237200"/>
                  <a:chExt cx="338040" cy="17316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5235480" y="4319640"/>
                    <a:ext cx="6516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340240" y="432936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430960" y="4324320"/>
                    <a:ext cx="0" cy="86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214960" y="4243680"/>
                    <a:ext cx="2844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322960" y="4237200"/>
                    <a:ext cx="3312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5411880" y="4240440"/>
                    <a:ext cx="298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526000" y="424368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5455800" y="4319640"/>
                    <a:ext cx="954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5924520" y="4511880"/>
                <a:ext cx="338040" cy="446040"/>
                <a:chOff x="5924520" y="4511880"/>
                <a:chExt cx="338040" cy="446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024600" y="470700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5924520" y="4773240"/>
                  <a:ext cx="338040" cy="184680"/>
                  <a:chOff x="5924520" y="4773240"/>
                  <a:chExt cx="338040" cy="1846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flipV="1">
                    <a:off x="5945040" y="4773600"/>
                    <a:ext cx="6516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V="1">
                    <a:off x="6049800" y="477504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6137280" y="477324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924520" y="48895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032520" y="488340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121440" y="4880160"/>
                    <a:ext cx="2844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235560" y="48895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flipV="1">
                    <a:off x="6165360" y="4773600"/>
                    <a:ext cx="9540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5924520" y="4511880"/>
                  <a:ext cx="338040" cy="172800"/>
                  <a:chOff x="5924520" y="4511880"/>
                  <a:chExt cx="338040" cy="17280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5945040" y="459432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049800" y="46022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37280" y="459900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924520" y="45165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032520" y="45118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21440" y="451512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235560" y="45165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H="1">
                    <a:off x="6165360" y="459432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5924520" y="5499360"/>
                <a:ext cx="338040" cy="447480"/>
                <a:chOff x="5924520" y="5499360"/>
                <a:chExt cx="338040" cy="44748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024600" y="569448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9" name=""/>
                <p:cNvGrpSpPr/>
                <p:nvPr/>
              </p:nvGrpSpPr>
              <p:grpSpPr>
                <a:xfrm>
                  <a:off x="5924520" y="5761080"/>
                  <a:ext cx="338040" cy="185760"/>
                  <a:chOff x="5924520" y="5761080"/>
                  <a:chExt cx="338040" cy="18576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 flipV="1">
                    <a:off x="5945040" y="576252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>
                    <a:off x="6049800" y="576252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>
                    <a:off x="6137280" y="576108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924520" y="58770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032520" y="587052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121440" y="586908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235560" y="58770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 flipV="1">
                    <a:off x="6165360" y="576252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5924520" y="5499360"/>
                  <a:ext cx="338040" cy="172800"/>
                  <a:chOff x="5924520" y="5499360"/>
                  <a:chExt cx="338040" cy="1728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5945040" y="558180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049800" y="5591160"/>
                    <a:ext cx="0" cy="7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137280" y="5588280"/>
                    <a:ext cx="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924520" y="55054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032520" y="5499360"/>
                    <a:ext cx="316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121440" y="550224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5560" y="55054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6165360" y="558180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5226120" y="5783400"/>
                <a:ext cx="336600" cy="447480"/>
                <a:chOff x="5226120" y="5783400"/>
                <a:chExt cx="336600" cy="44748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322960" y="5980320"/>
                  <a:ext cx="1508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9" name=""/>
                <p:cNvGrpSpPr/>
                <p:nvPr/>
              </p:nvGrpSpPr>
              <p:grpSpPr>
                <a:xfrm>
                  <a:off x="5226120" y="6045480"/>
                  <a:ext cx="336600" cy="185400"/>
                  <a:chOff x="5226120" y="6045480"/>
                  <a:chExt cx="336600" cy="18540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flipV="1">
                    <a:off x="5245200" y="6046560"/>
                    <a:ext cx="648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V="1">
                    <a:off x="5351400" y="604800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V="1">
                    <a:off x="5438880" y="604548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226120" y="616104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334120" y="61563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5421240" y="615312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533920" y="6161040"/>
                    <a:ext cx="288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 flipV="1">
                    <a:off x="5465880" y="6046560"/>
                    <a:ext cx="950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5226120" y="5783400"/>
                  <a:ext cx="336600" cy="173160"/>
                  <a:chOff x="5226120" y="5783400"/>
                  <a:chExt cx="336600" cy="17316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5245200" y="5865840"/>
                    <a:ext cx="648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5351400" y="587556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5438880" y="587232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5226120" y="578988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334120" y="578340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5421240" y="578808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533920" y="5789880"/>
                    <a:ext cx="288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5465880" y="5865840"/>
                    <a:ext cx="9504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7" name=""/>
              <p:cNvGrpSpPr/>
              <p:nvPr/>
            </p:nvGrpSpPr>
            <p:grpSpPr>
              <a:xfrm>
                <a:off x="4481640" y="5554800"/>
                <a:ext cx="336240" cy="446040"/>
                <a:chOff x="4481640" y="5554800"/>
                <a:chExt cx="336240" cy="446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579920" y="5749920"/>
                  <a:ext cx="149040" cy="66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9" name=""/>
                <p:cNvGrpSpPr/>
                <p:nvPr/>
              </p:nvGrpSpPr>
              <p:grpSpPr>
                <a:xfrm>
                  <a:off x="4481640" y="5816520"/>
                  <a:ext cx="336240" cy="184320"/>
                  <a:chOff x="4481640" y="5816520"/>
                  <a:chExt cx="336240" cy="18432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flipV="1">
                    <a:off x="4502160" y="581652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>
                    <a:off x="4606920" y="58179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>
                    <a:off x="4695840" y="581688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481640" y="593100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589280" y="592632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676760" y="592308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790880" y="593100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 flipV="1">
                    <a:off x="4720680" y="5816520"/>
                    <a:ext cx="968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4481640" y="5554800"/>
                  <a:ext cx="336240" cy="171360"/>
                  <a:chOff x="4481640" y="5554800"/>
                  <a:chExt cx="336240" cy="1713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4502160" y="5637240"/>
                    <a:ext cx="6516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606920" y="564516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695840" y="564192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481640" y="555948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589280" y="555480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676760" y="555804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790880" y="555948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4720680" y="5637240"/>
                    <a:ext cx="968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7" name=""/>
              <p:cNvGrpSpPr/>
              <p:nvPr/>
            </p:nvGrpSpPr>
            <p:grpSpPr>
              <a:xfrm>
                <a:off x="4414680" y="4556160"/>
                <a:ext cx="338400" cy="446040"/>
                <a:chOff x="4414680" y="4556160"/>
                <a:chExt cx="338400" cy="44604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4514760" y="475164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9" name=""/>
                <p:cNvGrpSpPr/>
                <p:nvPr/>
              </p:nvGrpSpPr>
              <p:grpSpPr>
                <a:xfrm>
                  <a:off x="4414680" y="4818240"/>
                  <a:ext cx="338400" cy="183960"/>
                  <a:chOff x="4414680" y="4818240"/>
                  <a:chExt cx="338400" cy="18396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 flipV="1">
                    <a:off x="4435560" y="4819680"/>
                    <a:ext cx="6480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V="1">
                    <a:off x="4540320" y="4819680"/>
                    <a:ext cx="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4629240" y="481824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414680" y="4934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522680" y="49276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611600" y="492624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726080" y="4934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4656240" y="4819680"/>
                    <a:ext cx="9504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4414680" y="4556160"/>
                  <a:ext cx="338400" cy="173160"/>
                  <a:chOff x="4414680" y="4556160"/>
                  <a:chExt cx="338400" cy="1731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4435560" y="4638960"/>
                    <a:ext cx="648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40320" y="464832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629240" y="464364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414680" y="45626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522680" y="45561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611600" y="455940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726080" y="45626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>
                    <a:off x="4656240" y="4638960"/>
                    <a:ext cx="9504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A7E-EA25-467F-A9B4-59457292A7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781680" cy="5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What is a Metacomputer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286000" y="1752480"/>
            <a:ext cx="6019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acomputer is a colle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every a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ed by a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wide-are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age of a singl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computing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uper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7C9-2CEA-4E2D-98FB-E4BF5D947B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Further motivations for meta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Better usage o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mputing and other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resour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ccessible via wide area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5120" y="350532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compu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wide area networks in orde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o explo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pare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29200" y="2743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5120" y="502920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special devi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accessed by wide area networks fo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llabo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0B6-F5DA-4DCA-B802-783A80E99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1905120"/>
            <a:ext cx="4572000" cy="380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ercomputer 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computers/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175-4533-4ADA-A554-9A905903D7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Motivations for grid-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78168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form a computational </a:t>
            </a:r>
            <a:r>
              <a:rPr b="0" lang="en-GB" sz="2800" spc="-1" strike="noStrike">
                <a:solidFill>
                  <a:srgbClr val="ff0066"/>
                </a:solidFill>
                <a:latin typeface="Times New Roman"/>
              </a:rPr>
              <a:t>gr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imilar to the information data access on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n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ers/devices must be connected by wide area networks in order to for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universal source of computing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2743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29200" y="48769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905120" y="5562720"/>
            <a:ext cx="678168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Gr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generalised meta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2FC-9076-4DBB-BA83-B7EF4F22B1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rends that led to the Gri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038480" y="4114800"/>
            <a:ext cx="25909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438280" y="2362320"/>
            <a:ext cx="2286000" cy="1752480"/>
            <a:chOff x="2438280" y="2362320"/>
            <a:chExt cx="2286000" cy="1752480"/>
          </a:xfrm>
        </p:grpSpPr>
        <p:sp>
          <p:nvSpPr>
            <p:cNvPr id="803" name=""/>
            <p:cNvSpPr/>
            <p:nvPr/>
          </p:nvSpPr>
          <p:spPr>
            <a:xfrm>
              <a:off x="2438280" y="2362320"/>
              <a:ext cx="1600200" cy="825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per-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00400" y="3193920"/>
              <a:ext cx="152388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4495680" y="2362320"/>
            <a:ext cx="1600200" cy="1752480"/>
            <a:chOff x="4495680" y="2362320"/>
            <a:chExt cx="1600200" cy="1752480"/>
          </a:xfrm>
        </p:grpSpPr>
        <p:sp>
          <p:nvSpPr>
            <p:cNvPr id="806" name=""/>
            <p:cNvSpPr/>
            <p:nvPr/>
          </p:nvSpPr>
          <p:spPr>
            <a:xfrm>
              <a:off x="4495680" y="2362320"/>
              <a:ext cx="1600200" cy="8254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work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57800" y="3193920"/>
              <a:ext cx="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790960" y="2362320"/>
            <a:ext cx="2438640" cy="1752480"/>
            <a:chOff x="5790960" y="2362320"/>
            <a:chExt cx="2438640" cy="1752480"/>
          </a:xfrm>
        </p:grpSpPr>
        <p:sp>
          <p:nvSpPr>
            <p:cNvPr id="809" name=""/>
            <p:cNvSpPr/>
            <p:nvPr/>
          </p:nvSpPr>
          <p:spPr>
            <a:xfrm>
              <a:off x="6629400" y="2362320"/>
              <a:ext cx="1600200" cy="8254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5790960" y="3193920"/>
              <a:ext cx="160020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850-22B1-4984-90BB-5109CE38F1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6781680" cy="547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What is a Grid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362320" y="1295280"/>
            <a:ext cx="58672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Grid is a colle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,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storage and other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every a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ed by a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wide-are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age of a singl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ised metacomputing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DC2-38A5-48CD-92A6-BB347E7838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pplication areas of the Gri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693880" y="1363320"/>
            <a:ext cx="5437440" cy="343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igh throughpu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ip design, parametric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irtual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ata intens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ky survey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eographic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7310520" y="2503440"/>
            <a:ext cx="1596600" cy="1766880"/>
            <a:chOff x="7310520" y="2503440"/>
            <a:chExt cx="1596600" cy="1766880"/>
          </a:xfrm>
        </p:grpSpPr>
        <p:grpSp>
          <p:nvGrpSpPr>
            <p:cNvPr id="816" name=""/>
            <p:cNvGrpSpPr/>
            <p:nvPr/>
          </p:nvGrpSpPr>
          <p:grpSpPr>
            <a:xfrm>
              <a:off x="7521480" y="2503440"/>
              <a:ext cx="1385640" cy="1766880"/>
              <a:chOff x="7521480" y="2503440"/>
              <a:chExt cx="1385640" cy="1766880"/>
            </a:xfrm>
          </p:grpSpPr>
          <p:sp>
            <p:nvSpPr>
              <p:cNvPr id="817" name=""/>
              <p:cNvSpPr/>
              <p:nvPr/>
            </p:nvSpPr>
            <p:spPr>
              <a:xfrm>
                <a:off x="7521480" y="2559240"/>
                <a:ext cx="138564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7565400" y="3882600"/>
                <a:ext cx="114120" cy="2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8341920" y="2652480"/>
                <a:ext cx="12240" cy="9828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79880" y="4132440"/>
                <a:ext cx="80928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8416440" y="2503440"/>
                <a:ext cx="15480" cy="10656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7310520" y="2668680"/>
              <a:ext cx="1441080" cy="1338120"/>
              <a:chOff x="7310520" y="2668680"/>
              <a:chExt cx="1441080" cy="1338120"/>
            </a:xfrm>
          </p:grpSpPr>
          <p:sp>
            <p:nvSpPr>
              <p:cNvPr id="823" name=""/>
              <p:cNvSpPr/>
              <p:nvPr/>
            </p:nvSpPr>
            <p:spPr>
              <a:xfrm>
                <a:off x="7310520" y="2668680"/>
                <a:ext cx="144108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7310520" y="2808360"/>
                <a:ext cx="1341000" cy="993600"/>
                <a:chOff x="7310520" y="2808360"/>
                <a:chExt cx="1341000" cy="9936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7499160" y="317196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524720" y="319896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599240" y="3164040"/>
                  <a:ext cx="5040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310520" y="3197160"/>
                  <a:ext cx="43308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313480" y="332892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231040" y="3436920"/>
                  <a:ext cx="6480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361360" y="3470400"/>
                  <a:ext cx="11232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575560" y="3641760"/>
                  <a:ext cx="7596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445160" y="3029040"/>
                  <a:ext cx="3780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432560" y="304812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402320" y="3013200"/>
                  <a:ext cx="24732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07080" y="2808360"/>
                  <a:ext cx="104760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335800" y="3090960"/>
                  <a:ext cx="9000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993080" y="3465720"/>
                  <a:ext cx="1692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130960" y="3498840"/>
                  <a:ext cx="21096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299440" y="3567240"/>
                  <a:ext cx="22824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480160" y="377676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688160" y="3551400"/>
                  <a:ext cx="2520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3" name=""/>
          <p:cNvSpPr/>
          <p:nvPr/>
        </p:nvSpPr>
        <p:spPr>
          <a:xfrm>
            <a:off x="2693880" y="5029200"/>
            <a:ext cx="533412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ele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terprise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0AF-D5AB-4AD4-A149-77067B43F1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arison of supercomputers, clusters and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533520" y="1981080"/>
          <a:ext cx="8610480" cy="39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6104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CAB-31F2-4AA4-95D0-85A9734EAC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arison of supercomputer, cluster and metacomputer sw system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1512720" y="1049400"/>
          <a:ext cx="7631280" cy="59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049400"/>
                    <a:ext cx="76312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A81-A4B1-4F3E-8A6A-3DD6795E8B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9339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onents of a Grid/metacomputing system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172200" cy="3810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ddleware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ming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ing and resour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media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problems lik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816-1BB7-4B27-B6F8-326B91D68B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6781680" cy="76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amming model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5867280" cy="3962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VM, MPI, PVMPI, Globus,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cro data-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flow, L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 orient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va, CORBA, DCOM, Legion, Gl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lligent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ets,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B5B-61C8-41A1-BF29-01258627B1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2035080" y="1523880"/>
            <a:ext cx="3502080" cy="4383360"/>
            <a:chOff x="2035080" y="1523880"/>
            <a:chExt cx="3502080" cy="4383360"/>
          </a:xfrm>
        </p:grpSpPr>
        <p:grpSp>
          <p:nvGrpSpPr>
            <p:cNvPr id="855" name=""/>
            <p:cNvGrpSpPr/>
            <p:nvPr/>
          </p:nvGrpSpPr>
          <p:grpSpPr>
            <a:xfrm>
              <a:off x="2035080" y="1523880"/>
              <a:ext cx="2982960" cy="3554640"/>
              <a:chOff x="2035080" y="1523880"/>
              <a:chExt cx="2982960" cy="3554640"/>
            </a:xfrm>
          </p:grpSpPr>
          <p:sp>
            <p:nvSpPr>
              <p:cNvPr id="856" name=""/>
              <p:cNvSpPr/>
              <p:nvPr/>
            </p:nvSpPr>
            <p:spPr>
              <a:xfrm>
                <a:off x="2054160" y="1523880"/>
                <a:ext cx="29638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C+PVM on workstation clus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35080" y="1879560"/>
                <a:ext cx="1297080" cy="10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20960" y="1879560"/>
                <a:ext cx="1297080" cy="10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554200" y="3182760"/>
                <a:ext cx="1814760" cy="189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43360" y="3419640"/>
                <a:ext cx="25848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591000" y="3419640"/>
                <a:ext cx="26028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201840" y="3538440"/>
                <a:ext cx="38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943360" y="2590920"/>
                <a:ext cx="25848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851280" y="2590920"/>
                <a:ext cx="25884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165400" y="259092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629240" y="259092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40080" y="1996920"/>
                <a:ext cx="258840" cy="238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73320" y="2827440"/>
                <a:ext cx="647640" cy="59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201840" y="2708280"/>
                <a:ext cx="64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3720960" y="2827080"/>
                <a:ext cx="258840" cy="59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424240" y="2708280"/>
                <a:ext cx="5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109760" y="2235240"/>
                <a:ext cx="25884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10120" y="2708280"/>
                <a:ext cx="5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073320" y="5551560"/>
              <a:ext cx="258840" cy="236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2480" y="5551560"/>
              <a:ext cx="2074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PVM dae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cess communication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tween PVM and MPI via PLU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537160" y="2116080"/>
            <a:ext cx="3149640" cy="1540080"/>
            <a:chOff x="5537160" y="2116080"/>
            <a:chExt cx="3149640" cy="1540080"/>
          </a:xfrm>
        </p:grpSpPr>
        <p:sp>
          <p:nvSpPr>
            <p:cNvPr id="878" name=""/>
            <p:cNvSpPr/>
            <p:nvPr/>
          </p:nvSpPr>
          <p:spPr>
            <a:xfrm>
              <a:off x="5537160" y="2116080"/>
              <a:ext cx="314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+MPI on parallel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056280" y="2471760"/>
              <a:ext cx="1294920" cy="236520"/>
              <a:chOff x="6056280" y="2471760"/>
              <a:chExt cx="1294920" cy="236520"/>
            </a:xfrm>
          </p:grpSpPr>
          <p:sp>
            <p:nvSpPr>
              <p:cNvPr id="880" name=""/>
              <p:cNvSpPr/>
              <p:nvPr/>
            </p:nvSpPr>
            <p:spPr>
              <a:xfrm>
                <a:off x="605628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57432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09236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315120" y="258984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33520" y="258984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6056280" y="2944800"/>
              <a:ext cx="1294920" cy="237960"/>
              <a:chOff x="6056280" y="2944800"/>
              <a:chExt cx="1294920" cy="237960"/>
            </a:xfrm>
          </p:grpSpPr>
          <p:sp>
            <p:nvSpPr>
              <p:cNvPr id="886" name=""/>
              <p:cNvSpPr/>
              <p:nvPr/>
            </p:nvSpPr>
            <p:spPr>
              <a:xfrm>
                <a:off x="605628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57432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9236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315120" y="306360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833520" y="306360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6056280" y="3419640"/>
              <a:ext cx="1294920" cy="236520"/>
              <a:chOff x="6056280" y="3419640"/>
              <a:chExt cx="1294920" cy="236520"/>
            </a:xfrm>
          </p:grpSpPr>
          <p:sp>
            <p:nvSpPr>
              <p:cNvPr id="892" name=""/>
              <p:cNvSpPr/>
              <p:nvPr/>
            </p:nvSpPr>
            <p:spPr>
              <a:xfrm>
                <a:off x="605628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432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9236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315120" y="353772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833520" y="353772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18480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8480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0392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0392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22304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2304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703920" y="3656160"/>
            <a:ext cx="1525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in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MPI_receiv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ex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73320" y="3656160"/>
            <a:ext cx="1555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in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pvm_se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ex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4200" y="3656160"/>
            <a:ext cx="5316480" cy="2251080"/>
            <a:chOff x="2554200" y="3656160"/>
            <a:chExt cx="5316480" cy="2251080"/>
          </a:xfrm>
        </p:grpSpPr>
        <p:sp>
          <p:nvSpPr>
            <p:cNvPr id="906" name=""/>
            <p:cNvSpPr/>
            <p:nvPr/>
          </p:nvSpPr>
          <p:spPr>
            <a:xfrm>
              <a:off x="4759200" y="4959360"/>
              <a:ext cx="1036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4200" y="5315040"/>
              <a:ext cx="5316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37160" y="4248000"/>
              <a:ext cx="1036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Front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15120" y="4486320"/>
              <a:ext cx="77796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5080" y="4603680"/>
              <a:ext cx="51768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03920" y="49593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3920" y="365616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2720" y="4486320"/>
              <a:ext cx="77976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3040" y="4603680"/>
              <a:ext cx="51912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73320" y="49593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73320" y="365616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78320" y="5551560"/>
              <a:ext cx="51912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27760" y="5551560"/>
              <a:ext cx="1555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PLUS dae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91000" y="4722840"/>
              <a:ext cx="259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C0C-CAB8-4B6D-B6D2-DFD30FA08A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781680" cy="5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Middleware concept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133720" y="1676160"/>
            <a:ext cx="6781680" cy="480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is middlew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 of the middle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urn a rad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vironmen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 virtual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om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main concep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oolkit (mix-and-match)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Object-orient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gion, Gl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Commodity Internet-www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3FA-5C1C-42BC-96BB-DA45E3E217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8908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ess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631880"/>
            <a:ext cx="152280" cy="403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5250600" y="2469240"/>
            <a:ext cx="152640" cy="6539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971000" y="1308960"/>
            <a:ext cx="3254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33560" y="4000680"/>
            <a:ext cx="1719360" cy="2585520"/>
            <a:chOff x="2833560" y="4000680"/>
            <a:chExt cx="1719360" cy="2585520"/>
          </a:xfrm>
        </p:grpSpPr>
        <p:grpSp>
          <p:nvGrpSpPr>
            <p:cNvPr id="91" name=""/>
            <p:cNvGrpSpPr/>
            <p:nvPr/>
          </p:nvGrpSpPr>
          <p:grpSpPr>
            <a:xfrm>
              <a:off x="2833560" y="4000680"/>
              <a:ext cx="1719360" cy="1179360"/>
              <a:chOff x="2833560" y="4000680"/>
              <a:chExt cx="1719360" cy="11793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3209760" y="4903920"/>
                <a:ext cx="1057320" cy="199800"/>
                <a:chOff x="3209760" y="4903920"/>
                <a:chExt cx="1057320" cy="19980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3209760" y="4903920"/>
                  <a:ext cx="1057320" cy="199800"/>
                  <a:chOff x="3209760" y="4903920"/>
                  <a:chExt cx="1057320" cy="1998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3216240" y="5075280"/>
                    <a:ext cx="1041480" cy="28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09760" y="4903920"/>
                    <a:ext cx="10573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107">
                        <a:moveTo>
                          <a:pt x="0" y="106"/>
                        </a:moveTo>
                        <a:lnTo>
                          <a:pt x="665" y="106"/>
                        </a:lnTo>
                        <a:lnTo>
                          <a:pt x="626" y="1"/>
                        </a:lnTo>
                        <a:lnTo>
                          <a:pt x="49" y="0"/>
                        </a:lnTo>
                        <a:lnTo>
                          <a:pt x="0" y="10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241440" y="4923000"/>
                    <a:ext cx="989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3" h="81">
                        <a:moveTo>
                          <a:pt x="35" y="0"/>
                        </a:moveTo>
                        <a:lnTo>
                          <a:pt x="0" y="80"/>
                        </a:lnTo>
                        <a:lnTo>
                          <a:pt x="622" y="80"/>
                        </a:lnTo>
                        <a:lnTo>
                          <a:pt x="59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24240" y="4919760"/>
                  <a:ext cx="833400" cy="39600"/>
                  <a:chOff x="3324240" y="4919760"/>
                  <a:chExt cx="833400" cy="396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24240" y="491976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6" y="0"/>
                        </a:moveTo>
                        <a:lnTo>
                          <a:pt x="22" y="0"/>
                        </a:ln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406680" y="4919760"/>
                    <a:ext cx="13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">
                        <a:moveTo>
                          <a:pt x="4" y="0"/>
                        </a:moveTo>
                        <a:lnTo>
                          <a:pt x="82" y="0"/>
                        </a:lnTo>
                        <a:lnTo>
                          <a:pt x="79" y="14"/>
                        </a:lnTo>
                        <a:lnTo>
                          <a:pt x="0" y="1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573360" y="4919760"/>
                    <a:ext cx="127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7">
                        <a:moveTo>
                          <a:pt x="3" y="0"/>
                        </a:moveTo>
                        <a:lnTo>
                          <a:pt x="79" y="0"/>
                        </a:lnTo>
                        <a:lnTo>
                          <a:pt x="78" y="16"/>
                        </a:lnTo>
                        <a:lnTo>
                          <a:pt x="0" y="16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724200" y="4919760"/>
                    <a:ext cx="130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7">
                        <a:moveTo>
                          <a:pt x="1" y="0"/>
                        </a:moveTo>
                        <a:lnTo>
                          <a:pt x="81" y="0"/>
                        </a:lnTo>
                        <a:lnTo>
                          <a:pt x="81" y="16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878280" y="491976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8">
                        <a:moveTo>
                          <a:pt x="0" y="0"/>
                        </a:moveTo>
                        <a:lnTo>
                          <a:pt x="68" y="0"/>
                        </a:lnTo>
                        <a:lnTo>
                          <a:pt x="70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019400" y="4935600"/>
                    <a:ext cx="138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5">
                        <a:moveTo>
                          <a:pt x="0" y="0"/>
                        </a:moveTo>
                        <a:lnTo>
                          <a:pt x="78" y="0"/>
                        </a:lnTo>
                        <a:lnTo>
                          <a:pt x="86" y="14"/>
                        </a:lnTo>
                        <a:lnTo>
                          <a:pt x="4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3298680" y="4964040"/>
                  <a:ext cx="862200" cy="66960"/>
                  <a:chOff x="3298680" y="4964040"/>
                  <a:chExt cx="862200" cy="6696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3375000" y="4967280"/>
                    <a:ext cx="420480" cy="57240"/>
                    <a:chOff x="3375000" y="4967280"/>
                    <a:chExt cx="420480" cy="572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75000" y="4967280"/>
                      <a:ext cx="396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392280" y="4986360"/>
                      <a:ext cx="403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3397320" y="5005440"/>
                      <a:ext cx="349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3405240" y="5024520"/>
                      <a:ext cx="36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298680" y="4975200"/>
                    <a:ext cx="60480" cy="38160"/>
                    <a:chOff x="3298680" y="4975200"/>
                    <a:chExt cx="60480" cy="381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17760" y="4975200"/>
                      <a:ext cx="28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3309840" y="4996080"/>
                      <a:ext cx="27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3298680" y="5013360"/>
                      <a:ext cx="6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3467160" y="4964040"/>
                    <a:ext cx="382320" cy="61920"/>
                    <a:chOff x="3467160" y="4964040"/>
                    <a:chExt cx="382320" cy="619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3467160" y="5024520"/>
                      <a:ext cx="234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3803400" y="496404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3819600" y="4986360"/>
                      <a:ext cx="29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787560" y="50068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724200" y="5024520"/>
                      <a:ext cx="27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776400" y="5025960"/>
                      <a:ext cx="71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3884400" y="4975200"/>
                    <a:ext cx="109800" cy="52560"/>
                    <a:chOff x="3884400" y="4975200"/>
                    <a:chExt cx="109800" cy="525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884400" y="4975200"/>
                      <a:ext cx="103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3900240" y="5000760"/>
                      <a:ext cx="90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902040" y="5027760"/>
                      <a:ext cx="92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4027320" y="4975200"/>
                    <a:ext cx="133560" cy="55800"/>
                    <a:chOff x="4027320" y="4975200"/>
                    <a:chExt cx="133560" cy="5580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4038480" y="4975200"/>
                      <a:ext cx="98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4027320" y="4997520"/>
                      <a:ext cx="77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4038480" y="5013360"/>
                      <a:ext cx="71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033800" y="5031000"/>
                      <a:ext cx="92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136760" y="4997520"/>
                      <a:ext cx="17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146480" y="5023080"/>
                      <a:ext cx="14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4273560" y="5013360"/>
                <a:ext cx="279360" cy="166680"/>
                <a:chOff x="4273560" y="5013360"/>
                <a:chExt cx="279360" cy="166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73560" y="5013360"/>
                  <a:ext cx="279360" cy="111240"/>
                </a:xfrm>
                <a:custGeom>
                  <a:avLst/>
                  <a:gdLst/>
                  <a:ahLst/>
                  <a:rect l="l" t="t" r="r" b="b"/>
                  <a:pathLst>
                    <a:path w="176" h="70">
                      <a:moveTo>
                        <a:pt x="0" y="0"/>
                      </a:moveTo>
                      <a:lnTo>
                        <a:pt x="33" y="3"/>
                      </a:lnTo>
                      <a:lnTo>
                        <a:pt x="57" y="5"/>
                      </a:lnTo>
                      <a:lnTo>
                        <a:pt x="78" y="8"/>
                      </a:lnTo>
                      <a:lnTo>
                        <a:pt x="100" y="13"/>
                      </a:lnTo>
                      <a:lnTo>
                        <a:pt x="115" y="16"/>
                      </a:lnTo>
                      <a:lnTo>
                        <a:pt x="134" y="21"/>
                      </a:lnTo>
                      <a:lnTo>
                        <a:pt x="144" y="24"/>
                      </a:lnTo>
                      <a:lnTo>
                        <a:pt x="152" y="26"/>
                      </a:lnTo>
                      <a:lnTo>
                        <a:pt x="156" y="28"/>
                      </a:lnTo>
                      <a:lnTo>
                        <a:pt x="160" y="29"/>
                      </a:lnTo>
                      <a:lnTo>
                        <a:pt x="164" y="31"/>
                      </a:lnTo>
                      <a:lnTo>
                        <a:pt x="169" y="34"/>
                      </a:lnTo>
                      <a:lnTo>
                        <a:pt x="173" y="37"/>
                      </a:lnTo>
                      <a:lnTo>
                        <a:pt x="175" y="41"/>
                      </a:lnTo>
                      <a:lnTo>
                        <a:pt x="175" y="44"/>
                      </a:lnTo>
                      <a:lnTo>
                        <a:pt x="174" y="48"/>
                      </a:lnTo>
                      <a:lnTo>
                        <a:pt x="173" y="53"/>
                      </a:lnTo>
                      <a:lnTo>
                        <a:pt x="171" y="57"/>
                      </a:lnTo>
                      <a:lnTo>
                        <a:pt x="168" y="60"/>
                      </a:lnTo>
                      <a:lnTo>
                        <a:pt x="164" y="64"/>
                      </a:lnTo>
                      <a:lnTo>
                        <a:pt x="160" y="66"/>
                      </a:lnTo>
                      <a:lnTo>
                        <a:pt x="155" y="67"/>
                      </a:lnTo>
                      <a:lnTo>
                        <a:pt x="150" y="69"/>
                      </a:lnTo>
                      <a:lnTo>
                        <a:pt x="143" y="69"/>
                      </a:lnTo>
                      <a:lnTo>
                        <a:pt x="137" y="68"/>
                      </a:lnTo>
                      <a:lnTo>
                        <a:pt x="127" y="66"/>
                      </a:lnTo>
                    </a:path>
                  </a:pathLst>
                </a:custGeom>
                <a:noFill/>
                <a:ln cap="rnd" w="255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286160" y="5068800"/>
                  <a:ext cx="193680" cy="111240"/>
                  <a:chOff x="4286160" y="5068800"/>
                  <a:chExt cx="193680" cy="111240"/>
                </a:xfrm>
              </p:grpSpPr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286160" y="5068800"/>
                    <a:ext cx="193680" cy="111240"/>
                    <a:chOff x="4286160" y="5068800"/>
                    <a:chExt cx="193680" cy="11124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286160" y="5068800"/>
                      <a:ext cx="11916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44">
                          <a:moveTo>
                            <a:pt x="0" y="26"/>
                          </a:moveTo>
                          <a:lnTo>
                            <a:pt x="19" y="0"/>
                          </a:lnTo>
                          <a:lnTo>
                            <a:pt x="74" y="14"/>
                          </a:lnTo>
                          <a:lnTo>
                            <a:pt x="52" y="4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286160" y="5112000"/>
                      <a:ext cx="842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1" y="23"/>
                          </a:lnTo>
                          <a:lnTo>
                            <a:pt x="52" y="42"/>
                          </a:lnTo>
                          <a:lnTo>
                            <a:pt x="52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371840" y="5094360"/>
                      <a:ext cx="1080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4">
                          <a:moveTo>
                            <a:pt x="0" y="29"/>
                          </a:moveTo>
                          <a:lnTo>
                            <a:pt x="21" y="0"/>
                          </a:lnTo>
                          <a:lnTo>
                            <a:pt x="67" y="8"/>
                          </a:lnTo>
                          <a:lnTo>
                            <a:pt x="67" y="29"/>
                          </a:lnTo>
                          <a:lnTo>
                            <a:pt x="0" y="53"/>
                          </a:lnTo>
                          <a:lnTo>
                            <a:pt x="0" y="2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317840" y="5068800"/>
                      <a:ext cx="1620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22">
                          <a:moveTo>
                            <a:pt x="0" y="0"/>
                          </a:moveTo>
                          <a:lnTo>
                            <a:pt x="51" y="5"/>
                          </a:lnTo>
                          <a:lnTo>
                            <a:pt x="101" y="21"/>
                          </a:lnTo>
                          <a:lnTo>
                            <a:pt x="55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4292640" y="5097240"/>
                    <a:ext cx="179280" cy="58680"/>
                    <a:chOff x="4292640" y="5097240"/>
                    <a:chExt cx="179280" cy="5868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292640" y="5127840"/>
                      <a:ext cx="72720" cy="15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V="1">
                      <a:off x="4379760" y="5097240"/>
                      <a:ext cx="20520" cy="58680"/>
                    </a:xfrm>
                    <a:prstGeom prst="line">
                      <a:avLst/>
                    </a:prstGeom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414680" y="5103720"/>
                      <a:ext cx="57240" cy="6480"/>
                    </a:xfrm>
                    <a:prstGeom prst="line">
                      <a:avLst/>
                    </a:prstGeom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3452760" y="4800600"/>
                <a:ext cx="560520" cy="96840"/>
                <a:chOff x="3452760" y="4800600"/>
                <a:chExt cx="560520" cy="96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52760" y="4800600"/>
                  <a:ext cx="560520" cy="54000"/>
                </a:xfrm>
                <a:custGeom>
                  <a:avLst/>
                  <a:gdLst/>
                  <a:ahLst/>
                  <a:rect l="l" t="t" r="r" b="b"/>
                  <a:pathLst>
                    <a:path w="353" h="34">
                      <a:moveTo>
                        <a:pt x="0" y="33"/>
                      </a:moveTo>
                      <a:lnTo>
                        <a:pt x="352" y="33"/>
                      </a:lnTo>
                      <a:lnTo>
                        <a:pt x="332" y="0"/>
                      </a:lnTo>
                      <a:lnTo>
                        <a:pt x="21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57440" y="4857840"/>
                  <a:ext cx="547560" cy="39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3582720" y="4754520"/>
                <a:ext cx="300240" cy="100080"/>
              </a:xfrm>
              <a:custGeom>
                <a:avLst/>
                <a:gdLst/>
                <a:ahLst/>
                <a:rect l="l" t="t" r="r" b="b"/>
                <a:pathLst>
                  <a:path w="189" h="63">
                    <a:moveTo>
                      <a:pt x="0" y="35"/>
                    </a:moveTo>
                    <a:lnTo>
                      <a:pt x="0" y="0"/>
                    </a:lnTo>
                    <a:lnTo>
                      <a:pt x="188" y="0"/>
                    </a:lnTo>
                    <a:lnTo>
                      <a:pt x="188" y="36"/>
                    </a:lnTo>
                    <a:lnTo>
                      <a:pt x="187" y="39"/>
                    </a:lnTo>
                    <a:lnTo>
                      <a:pt x="185" y="42"/>
                    </a:lnTo>
                    <a:lnTo>
                      <a:pt x="182" y="45"/>
                    </a:lnTo>
                    <a:lnTo>
                      <a:pt x="178" y="47"/>
                    </a:lnTo>
                    <a:lnTo>
                      <a:pt x="172" y="50"/>
                    </a:lnTo>
                    <a:lnTo>
                      <a:pt x="167" y="52"/>
                    </a:lnTo>
                    <a:lnTo>
                      <a:pt x="161" y="54"/>
                    </a:lnTo>
                    <a:lnTo>
                      <a:pt x="154" y="56"/>
                    </a:lnTo>
                    <a:lnTo>
                      <a:pt x="148" y="57"/>
                    </a:lnTo>
                    <a:lnTo>
                      <a:pt x="138" y="59"/>
                    </a:lnTo>
                    <a:lnTo>
                      <a:pt x="130" y="60"/>
                    </a:lnTo>
                    <a:lnTo>
                      <a:pt x="122" y="61"/>
                    </a:lnTo>
                    <a:lnTo>
                      <a:pt x="113" y="62"/>
                    </a:lnTo>
                    <a:lnTo>
                      <a:pt x="102" y="62"/>
                    </a:lnTo>
                    <a:lnTo>
                      <a:pt x="89" y="62"/>
                    </a:lnTo>
                    <a:lnTo>
                      <a:pt x="77" y="62"/>
                    </a:lnTo>
                    <a:lnTo>
                      <a:pt x="66" y="61"/>
                    </a:lnTo>
                    <a:lnTo>
                      <a:pt x="55" y="60"/>
                    </a:lnTo>
                    <a:lnTo>
                      <a:pt x="46" y="59"/>
                    </a:lnTo>
                    <a:lnTo>
                      <a:pt x="39" y="57"/>
                    </a:lnTo>
                    <a:lnTo>
                      <a:pt x="31" y="55"/>
                    </a:lnTo>
                    <a:lnTo>
                      <a:pt x="24" y="53"/>
                    </a:lnTo>
                    <a:lnTo>
                      <a:pt x="17" y="51"/>
                    </a:lnTo>
                    <a:lnTo>
                      <a:pt x="12" y="48"/>
                    </a:lnTo>
                    <a:lnTo>
                      <a:pt x="8" y="46"/>
                    </a:lnTo>
                    <a:lnTo>
                      <a:pt x="5" y="43"/>
                    </a:lnTo>
                    <a:lnTo>
                      <a:pt x="3" y="41"/>
                    </a:lnTo>
                    <a:lnTo>
                      <a:pt x="1" y="38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89040" y="4000680"/>
                <a:ext cx="682920" cy="766800"/>
              </a:xfrm>
              <a:custGeom>
                <a:avLst/>
                <a:gdLst>
                  <a:gd name="textAreaLeft" fmla="*/ 3960 w 682920"/>
                  <a:gd name="textAreaRight" fmla="*/ 678960 w 682920"/>
                  <a:gd name="textAreaTop" fmla="*/ 3960 h 766800"/>
                  <a:gd name="textAreaBottom" fmla="*/ 762840 h 766800"/>
                </a:gdLst>
                <a:ahLst/>
                <a:rect l="textAreaLeft" t="textAreaTop" r="textAreaRight" b="textAreaBottom"/>
                <a:pathLst>
                  <a:path w="21600" h="24252">
                    <a:moveTo>
                      <a:pt x="458" y="0"/>
                    </a:moveTo>
                    <a:arcTo wR="458" hR="458" stAng="16200000" swAng="-5400000"/>
                    <a:lnTo>
                      <a:pt x="0" y="23794"/>
                    </a:lnTo>
                    <a:arcTo wR="458" hR="458" stAng="10800000" swAng="-5400000"/>
                    <a:lnTo>
                      <a:pt x="21142" y="24252"/>
                    </a:lnTo>
                    <a:arcTo wR="458" hR="458" stAng="5400000" swAng="-5400000"/>
                    <a:lnTo>
                      <a:pt x="21600" y="458"/>
                    </a:lnTo>
                    <a:arcTo wR="458" hR="458" stAng="0" swAng="-5400000"/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36920" y="4060800"/>
                <a:ext cx="598320" cy="636840"/>
              </a:xfrm>
              <a:custGeom>
                <a:avLst/>
                <a:gdLst>
                  <a:gd name="textAreaLeft" fmla="*/ 29160 w 598320"/>
                  <a:gd name="textAreaRight" fmla="*/ 569160 w 598320"/>
                  <a:gd name="textAreaTop" fmla="*/ 29160 h 636840"/>
                  <a:gd name="textAreaBottom" fmla="*/ 607680 h 636840"/>
                </a:gdLst>
                <a:ahLst/>
                <a:rect l="textAreaLeft" t="textAreaTop" r="textAreaRight" b="textAreaBottom"/>
                <a:pathLst>
                  <a:path w="21600" h="22990">
                    <a:moveTo>
                      <a:pt x="3600" y="0"/>
                    </a:moveTo>
                    <a:arcTo wR="3600" hR="3600" stAng="16200000" swAng="-5400000"/>
                    <a:lnTo>
                      <a:pt x="0" y="19390"/>
                    </a:lnTo>
                    <a:arcTo wR="3600" hR="3600" stAng="10800000" swAng="-5400000"/>
                    <a:lnTo>
                      <a:pt x="18000" y="22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50960" y="4737240"/>
                <a:ext cx="61920" cy="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11320" y="4143600"/>
                <a:ext cx="192240" cy="26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2833560" y="4084560"/>
                <a:ext cx="279360" cy="1051200"/>
                <a:chOff x="2833560" y="4084560"/>
                <a:chExt cx="279360" cy="1051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906640" y="4086360"/>
                  <a:ext cx="206280" cy="10396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33560" y="4084560"/>
                  <a:ext cx="68400" cy="1051200"/>
                </a:xfrm>
                <a:custGeom>
                  <a:avLst/>
                  <a:gdLst/>
                  <a:ahLst/>
                  <a:rect l="l" t="t" r="r" b="b"/>
                  <a:pathLst>
                    <a:path w="43" h="662">
                      <a:moveTo>
                        <a:pt x="42" y="0"/>
                      </a:moveTo>
                      <a:lnTo>
                        <a:pt x="42" y="661"/>
                      </a:lnTo>
                      <a:lnTo>
                        <a:pt x="0" y="598"/>
                      </a:lnTo>
                      <a:lnTo>
                        <a:pt x="0" y="7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2889000" y="4108680"/>
                <a:ext cx="0" cy="10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2928960" y="4807080"/>
                <a:ext cx="166680" cy="261720"/>
                <a:chOff x="2928960" y="4807080"/>
                <a:chExt cx="166680" cy="26172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2928960" y="4807080"/>
                  <a:ext cx="58680" cy="261720"/>
                  <a:chOff x="2928960" y="4807080"/>
                  <a:chExt cx="58680" cy="2617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928960" y="5024520"/>
                    <a:ext cx="58680" cy="44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2928960" y="4956120"/>
                    <a:ext cx="5868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928960" y="4875120"/>
                    <a:ext cx="58680" cy="3204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928960" y="4807080"/>
                    <a:ext cx="5868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3038400" y="5024520"/>
                  <a:ext cx="57240" cy="44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038400" y="4956120"/>
                  <a:ext cx="5724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038400" y="4875120"/>
                  <a:ext cx="57240" cy="32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38400" y="4807080"/>
                  <a:ext cx="5724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938320" y="4332240"/>
                <a:ext cx="142920" cy="130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28960" y="4554720"/>
                <a:ext cx="158760" cy="193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938320" y="4224600"/>
                <a:ext cx="142920" cy="72720"/>
                <a:chOff x="2938320" y="4224600"/>
                <a:chExt cx="142920" cy="72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938320" y="4224600"/>
                  <a:ext cx="142920" cy="72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943000" y="4235400"/>
                  <a:ext cx="138240" cy="5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943000" y="4268880"/>
                  <a:ext cx="13824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291132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ingle 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86160" y="3011400"/>
            <a:ext cx="1319400" cy="3574800"/>
            <a:chOff x="4286160" y="3011400"/>
            <a:chExt cx="1319400" cy="3574800"/>
          </a:xfrm>
        </p:grpSpPr>
        <p:grpSp>
          <p:nvGrpSpPr>
            <p:cNvPr id="174" name=""/>
            <p:cNvGrpSpPr/>
            <p:nvPr/>
          </p:nvGrpSpPr>
          <p:grpSpPr>
            <a:xfrm>
              <a:off x="4406760" y="3011400"/>
              <a:ext cx="796680" cy="1441440"/>
              <a:chOff x="4406760" y="3011400"/>
              <a:chExt cx="796680" cy="1441440"/>
            </a:xfrm>
          </p:grpSpPr>
          <p:sp>
            <p:nvSpPr>
              <p:cNvPr id="175" name=""/>
              <p:cNvSpPr/>
              <p:nvPr/>
            </p:nvSpPr>
            <p:spPr>
              <a:xfrm>
                <a:off x="4406760" y="3011400"/>
                <a:ext cx="790560" cy="136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4452480" y="3479760"/>
                <a:ext cx="702000" cy="846360"/>
                <a:chOff x="4452480" y="3479760"/>
                <a:chExt cx="702000" cy="846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452480" y="3479760"/>
                  <a:ext cx="702000" cy="8463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52480" y="426564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52480" y="42004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452480" y="41338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452480" y="40687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452480" y="40006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52480" y="39355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52480" y="38689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452480" y="380376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52480" y="373716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52480" y="367020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52480" y="360540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52480" y="353844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414680" y="3033720"/>
                <a:ext cx="788760" cy="335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86120" y="3057480"/>
                <a:ext cx="0" cy="26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9960" y="3051360"/>
                <a:ext cx="304560" cy="1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8800"/>
                    <a:tab algn="l" pos="1317600"/>
                    <a:tab algn="l" pos="1976400"/>
                    <a:tab algn="l" pos="2635200"/>
                    <a:tab algn="l" pos="3294000"/>
                    <a:tab algn="l" pos="3952800"/>
                    <a:tab algn="l" pos="4611600"/>
                    <a:tab algn="l" pos="5270400"/>
                    <a:tab algn="l" pos="5929200"/>
                    <a:tab algn="l" pos="6588000"/>
                    <a:tab algn="l" pos="7246800"/>
                    <a:tab algn="l" pos="7905600"/>
                    <a:tab algn="l" pos="8564400"/>
                    <a:tab algn="l" pos="9223200"/>
                    <a:tab algn="l" pos="9882360"/>
                    <a:tab algn="l" pos="1054116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49720" y="3079800"/>
                <a:ext cx="824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30520" y="3079800"/>
                <a:ext cx="8100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01800" y="4381560"/>
                <a:ext cx="25560" cy="71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89320" y="4381560"/>
                <a:ext cx="25200" cy="71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28616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uper-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67320" y="2246400"/>
            <a:ext cx="1457280" cy="4065480"/>
            <a:chOff x="5467320" y="2246400"/>
            <a:chExt cx="1457280" cy="4065480"/>
          </a:xfrm>
        </p:grpSpPr>
        <p:grpSp>
          <p:nvGrpSpPr>
            <p:cNvPr id="199" name=""/>
            <p:cNvGrpSpPr/>
            <p:nvPr/>
          </p:nvGrpSpPr>
          <p:grpSpPr>
            <a:xfrm>
              <a:off x="5467320" y="2246400"/>
              <a:ext cx="1217520" cy="1487520"/>
              <a:chOff x="5467320" y="2246400"/>
              <a:chExt cx="1217520" cy="1487520"/>
            </a:xfrm>
          </p:grpSpPr>
          <p:sp>
            <p:nvSpPr>
              <p:cNvPr id="200" name=""/>
              <p:cNvSpPr/>
              <p:nvPr/>
            </p:nvSpPr>
            <p:spPr>
              <a:xfrm>
                <a:off x="5867280" y="2924280"/>
                <a:ext cx="471600" cy="106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467320" y="3354480"/>
                <a:ext cx="222120" cy="362160"/>
                <a:chOff x="5467320" y="3354480"/>
                <a:chExt cx="222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467320" y="335448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5481720" y="3475080"/>
                  <a:ext cx="195120" cy="209520"/>
                  <a:chOff x="5481720" y="3475080"/>
                  <a:chExt cx="195120" cy="209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481720" y="3475080"/>
                    <a:ext cx="195120" cy="2095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5481720" y="36738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481720" y="36561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481720" y="36388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481720" y="36226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481720" y="36054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481720" y="35877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481720" y="35704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481720" y="35546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481720" y="35370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81720" y="35197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481720" y="35038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481720" y="34862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5470560" y="336096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45080" y="336708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0720" y="335628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53080" y="3372120"/>
                  <a:ext cx="1728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475240" y="3372120"/>
                  <a:ext cx="1440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94320" y="37087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64240" y="37087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813280" y="3360960"/>
                <a:ext cx="222480" cy="361800"/>
                <a:chOff x="5813280" y="3360960"/>
                <a:chExt cx="222480" cy="361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813280" y="33609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827680" y="3480120"/>
                  <a:ext cx="193680" cy="209520"/>
                  <a:chOff x="5827680" y="3480120"/>
                  <a:chExt cx="193680" cy="209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827680" y="34801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27680" y="3679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827680" y="3662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27680" y="3645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827680" y="3629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827680" y="3611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827680" y="3594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827680" y="357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827680" y="3560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827680" y="35420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827680" y="3525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827680" y="3508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827680" y="3492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816520" y="3367080"/>
                  <a:ext cx="21924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891040" y="3373560"/>
                  <a:ext cx="0" cy="5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26680" y="33624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999040" y="3372120"/>
                  <a:ext cx="176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21200" y="3372120"/>
                  <a:ext cx="1296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840280" y="3714840"/>
                  <a:ext cx="180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05520" y="3714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119640" y="3360960"/>
                <a:ext cx="223920" cy="361800"/>
                <a:chOff x="6119640" y="3360960"/>
                <a:chExt cx="223920" cy="361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119640" y="33609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6134040" y="3480120"/>
                  <a:ext cx="193680" cy="209520"/>
                  <a:chOff x="6134040" y="3480120"/>
                  <a:chExt cx="193680" cy="2095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6134040" y="34801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134040" y="3679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134040" y="3662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134040" y="3645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134040" y="3629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134040" y="3611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34040" y="3594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134040" y="357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134040" y="3560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134040" y="35420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134040" y="3525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134040" y="3508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134040" y="3492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6122880" y="3367080"/>
                  <a:ext cx="2206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199200" y="3373560"/>
                  <a:ext cx="0" cy="5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34840" y="33624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305400" y="3372120"/>
                  <a:ext cx="176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27560" y="3372120"/>
                  <a:ext cx="1440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41960" y="3714840"/>
                  <a:ext cx="1116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13320" y="371484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462720" y="3372120"/>
                <a:ext cx="222120" cy="361800"/>
                <a:chOff x="6462720" y="3372120"/>
                <a:chExt cx="222120" cy="3618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462720" y="337212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6475320" y="3492720"/>
                  <a:ext cx="193680" cy="209520"/>
                  <a:chOff x="6475320" y="3492720"/>
                  <a:chExt cx="193680" cy="2095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475320" y="34927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475320" y="3691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475320" y="3673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475320" y="3656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475320" y="3640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475320" y="3622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475320" y="36054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475320" y="3589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475320" y="35704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475320" y="3554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475320" y="3537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475320" y="3521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475320" y="3503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6465960" y="337824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39040" y="338472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76120" y="33735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646680" y="3389400"/>
                  <a:ext cx="1908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469200" y="3389400"/>
                  <a:ext cx="1584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89720" y="372600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59640" y="372600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 flipH="1">
                <a:off x="5538600" y="3057840"/>
                <a:ext cx="301680" cy="24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859000" y="3079800"/>
                <a:ext cx="10332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51680" y="3079800"/>
                <a:ext cx="7776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81720" y="3079800"/>
                <a:ext cx="19368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5467320" y="2264040"/>
                <a:ext cx="222120" cy="361800"/>
                <a:chOff x="5467320" y="2264040"/>
                <a:chExt cx="222120" cy="361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467320" y="226404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5481720" y="2384640"/>
                  <a:ext cx="195120" cy="208080"/>
                  <a:chOff x="5481720" y="2384640"/>
                  <a:chExt cx="195120" cy="2080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5481720" y="2384640"/>
                    <a:ext cx="195120" cy="20808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481720" y="25830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481720" y="25657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81720" y="25480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481720" y="25322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481720" y="25146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481720" y="24973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481720" y="24796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481720" y="24638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481720" y="24447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481720" y="24289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481720" y="24116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481720" y="23958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5470560" y="227016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45080" y="227664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80720" y="226548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53080" y="2275200"/>
                  <a:ext cx="172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75240" y="2275200"/>
                  <a:ext cx="1440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94320" y="26179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664240" y="26179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813280" y="2257560"/>
                <a:ext cx="222480" cy="362160"/>
                <a:chOff x="5813280" y="2257560"/>
                <a:chExt cx="222480" cy="362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813280" y="22575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5827680" y="2378160"/>
                  <a:ext cx="193680" cy="209520"/>
                  <a:chOff x="5827680" y="2378160"/>
                  <a:chExt cx="193680" cy="2095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827680" y="237816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827680" y="25765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827680" y="2559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827680" y="2541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827680" y="2525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827680" y="2506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827680" y="2490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827680" y="2473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827680" y="2457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827680" y="2440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827680" y="2422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827680" y="240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827680" y="2389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816520" y="2264040"/>
                  <a:ext cx="219240" cy="77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891040" y="227016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926680" y="22593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999040" y="2275200"/>
                  <a:ext cx="176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821200" y="2275200"/>
                  <a:ext cx="1296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840280" y="2611440"/>
                  <a:ext cx="180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05520" y="26114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119640" y="2257560"/>
                <a:ext cx="223920" cy="362160"/>
                <a:chOff x="6119640" y="2257560"/>
                <a:chExt cx="223920" cy="3621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119640" y="22575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134040" y="2378160"/>
                  <a:ext cx="193680" cy="209520"/>
                  <a:chOff x="6134040" y="2378160"/>
                  <a:chExt cx="193680" cy="2095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134040" y="237816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134040" y="25765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134040" y="2559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134040" y="2541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134040" y="2525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134040" y="2506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134040" y="2490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134040" y="2473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134040" y="2457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134040" y="2440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134040" y="2422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134040" y="240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134040" y="2389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6122880" y="2264040"/>
                  <a:ext cx="220680" cy="77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199200" y="227016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34840" y="22593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5400" y="2275200"/>
                  <a:ext cx="176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127560" y="2275200"/>
                  <a:ext cx="1440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141960" y="2611440"/>
                  <a:ext cx="1116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13320" y="2611440"/>
                  <a:ext cx="972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462720" y="2246400"/>
                <a:ext cx="222120" cy="362160"/>
                <a:chOff x="6462720" y="2246400"/>
                <a:chExt cx="222120" cy="3621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62720" y="224640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6475320" y="2367000"/>
                  <a:ext cx="193680" cy="209520"/>
                  <a:chOff x="6475320" y="2367000"/>
                  <a:chExt cx="193680" cy="209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6475320" y="236700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475320" y="2565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475320" y="2548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75320" y="2530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475320" y="2514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475320" y="2497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475320" y="2479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475320" y="2463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475320" y="2444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475320" y="2428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475320" y="2411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475320" y="2395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475320" y="2378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>
                  <a:off x="6465960" y="225288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539040" y="2259360"/>
                  <a:ext cx="0" cy="5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76120" y="22482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646680" y="2264040"/>
                  <a:ext cx="1908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69200" y="2264040"/>
                  <a:ext cx="158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89720" y="260064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59640" y="260064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 flipH="1" flipV="1">
                <a:off x="5538240" y="2660760"/>
                <a:ext cx="28908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5859000" y="2665440"/>
                <a:ext cx="10332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6151680" y="2665440"/>
                <a:ext cx="7776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6381720" y="2660400"/>
                <a:ext cx="19368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5605560" y="594360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8545680" y="5486400"/>
            <a:ext cx="3254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838920" y="1095480"/>
            <a:ext cx="1847880" cy="5490720"/>
            <a:chOff x="6838920" y="1095480"/>
            <a:chExt cx="1847880" cy="5490720"/>
          </a:xfrm>
        </p:grpSpPr>
        <p:grpSp>
          <p:nvGrpSpPr>
            <p:cNvPr id="396" name=""/>
            <p:cNvGrpSpPr/>
            <p:nvPr/>
          </p:nvGrpSpPr>
          <p:grpSpPr>
            <a:xfrm>
              <a:off x="6838920" y="1095480"/>
              <a:ext cx="1847880" cy="1993680"/>
              <a:chOff x="6838920" y="1095480"/>
              <a:chExt cx="1847880" cy="199368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99560" y="1581120"/>
                <a:ext cx="1360440" cy="102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8" name=""/>
              <p:cNvGrpSpPr/>
              <p:nvPr/>
            </p:nvGrpSpPr>
            <p:grpSpPr>
              <a:xfrm>
                <a:off x="7639200" y="1095480"/>
                <a:ext cx="338040" cy="447480"/>
                <a:chOff x="7639200" y="1095480"/>
                <a:chExt cx="338040" cy="4474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739280" y="129060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7639200" y="1356840"/>
                  <a:ext cx="338040" cy="186120"/>
                  <a:chOff x="7639200" y="1356840"/>
                  <a:chExt cx="338040" cy="1861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V="1">
                    <a:off x="7659720" y="135864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V="1">
                    <a:off x="7764480" y="135864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V="1">
                    <a:off x="7855200" y="135684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639200" y="1473120"/>
                    <a:ext cx="28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747200" y="1467000"/>
                    <a:ext cx="331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836120" y="1465200"/>
                    <a:ext cx="29880" cy="7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950240" y="14731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7880040" y="135864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639200" y="1095480"/>
                  <a:ext cx="338040" cy="173160"/>
                  <a:chOff x="7639200" y="1095480"/>
                  <a:chExt cx="338040" cy="1731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7659720" y="1177920"/>
                    <a:ext cx="6516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764480" y="118764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855200" y="1182600"/>
                    <a:ext cx="0" cy="86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639200" y="1101960"/>
                    <a:ext cx="2844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747200" y="1095480"/>
                    <a:ext cx="3312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836120" y="1098720"/>
                    <a:ext cx="298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950240" y="11019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7880040" y="1177920"/>
                    <a:ext cx="954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8348760" y="1370160"/>
                <a:ext cx="338040" cy="446040"/>
                <a:chOff x="8348760" y="1370160"/>
                <a:chExt cx="338040" cy="4460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8448840" y="156528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8348760" y="1631520"/>
                  <a:ext cx="338040" cy="184680"/>
                  <a:chOff x="8348760" y="1631520"/>
                  <a:chExt cx="338040" cy="1846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8369280" y="1631880"/>
                    <a:ext cx="6516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8474040" y="163332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8561520" y="163152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348760" y="17478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456760" y="17416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545680" y="1738440"/>
                    <a:ext cx="2844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659800" y="17478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8589600" y="1631880"/>
                    <a:ext cx="9540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8348760" y="1370160"/>
                  <a:ext cx="338040" cy="172800"/>
                  <a:chOff x="8348760" y="1370160"/>
                  <a:chExt cx="338040" cy="172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8369280" y="145260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474040" y="146052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561520" y="145728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348760" y="137484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456760" y="13701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8545680" y="137340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8659800" y="137484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8589600" y="145260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8348760" y="2357640"/>
                <a:ext cx="338040" cy="447480"/>
                <a:chOff x="8348760" y="2357640"/>
                <a:chExt cx="338040" cy="4474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8448840" y="255276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8348760" y="2619360"/>
                  <a:ext cx="338040" cy="185760"/>
                  <a:chOff x="8348760" y="2619360"/>
                  <a:chExt cx="338040" cy="1857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V="1">
                    <a:off x="8369280" y="262080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>
                    <a:off x="8474040" y="262080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V="1">
                    <a:off x="8561520" y="261936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348760" y="27352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456760" y="272880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545680" y="272736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8659800" y="27352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8589600" y="262080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8348760" y="2357640"/>
                  <a:ext cx="338040" cy="172800"/>
                  <a:chOff x="8348760" y="2357640"/>
                  <a:chExt cx="338040" cy="1728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8369280" y="244008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8474040" y="2449440"/>
                    <a:ext cx="0" cy="7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561520" y="2446560"/>
                    <a:ext cx="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8348760" y="236376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8456760" y="2357640"/>
                    <a:ext cx="316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8545680" y="236052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8659800" y="236376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8589600" y="244008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7650360" y="2641680"/>
                <a:ext cx="336600" cy="447480"/>
                <a:chOff x="7650360" y="2641680"/>
                <a:chExt cx="336600" cy="4474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747200" y="2838600"/>
                  <a:ext cx="1508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7650360" y="2903760"/>
                  <a:ext cx="336600" cy="185400"/>
                  <a:chOff x="7650360" y="2903760"/>
                  <a:chExt cx="336600" cy="18540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V="1">
                    <a:off x="7669440" y="2904840"/>
                    <a:ext cx="648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7775640" y="290628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7863120" y="290376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650360" y="30193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758360" y="301464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845480" y="301140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958160" y="3019320"/>
                    <a:ext cx="288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>
                    <a:off x="7890120" y="2904840"/>
                    <a:ext cx="950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650360" y="2641680"/>
                  <a:ext cx="336600" cy="173160"/>
                  <a:chOff x="7650360" y="2641680"/>
                  <a:chExt cx="336600" cy="1731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7669440" y="2724120"/>
                    <a:ext cx="648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775640" y="273384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63120" y="273060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650360" y="2648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758360" y="264168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845480" y="264636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958160" y="2648160"/>
                    <a:ext cx="288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7890120" y="2724120"/>
                    <a:ext cx="9504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6905880" y="2413080"/>
                <a:ext cx="336240" cy="446040"/>
                <a:chOff x="6905880" y="2413080"/>
                <a:chExt cx="336240" cy="4460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004160" y="2608200"/>
                  <a:ext cx="149040" cy="66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6905880" y="2674800"/>
                  <a:ext cx="336240" cy="184320"/>
                  <a:chOff x="6905880" y="2674800"/>
                  <a:chExt cx="336240" cy="18432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V="1">
                    <a:off x="6926400" y="267480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031160" y="267624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7120080" y="267516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905880" y="278928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013520" y="278460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101000" y="278136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215120" y="278928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flipV="1">
                    <a:off x="7144920" y="2674800"/>
                    <a:ext cx="968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6905880" y="2413080"/>
                  <a:ext cx="336240" cy="171360"/>
                  <a:chOff x="6905880" y="2413080"/>
                  <a:chExt cx="336240" cy="17136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6926400" y="2495520"/>
                    <a:ext cx="6516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031160" y="25034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120080" y="250020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05880" y="241776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13520" y="241308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101000" y="241632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215120" y="24177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>
                    <a:off x="7144920" y="2495520"/>
                    <a:ext cx="968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" name=""/>
              <p:cNvGrpSpPr/>
              <p:nvPr/>
            </p:nvGrpSpPr>
            <p:grpSpPr>
              <a:xfrm>
                <a:off x="6838920" y="1414440"/>
                <a:ext cx="338400" cy="446040"/>
                <a:chOff x="6838920" y="1414440"/>
                <a:chExt cx="338400" cy="4460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939000" y="160992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6838920" y="1676520"/>
                  <a:ext cx="338400" cy="183960"/>
                  <a:chOff x="6838920" y="1676520"/>
                  <a:chExt cx="338400" cy="18396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V="1">
                    <a:off x="6859800" y="1677960"/>
                    <a:ext cx="6480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>
                    <a:off x="6964560" y="1677960"/>
                    <a:ext cx="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7053480" y="167652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838920" y="17924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946920" y="17859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035840" y="178452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150320" y="17924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 flipV="1">
                    <a:off x="7080480" y="1677960"/>
                    <a:ext cx="9504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6838920" y="1414440"/>
                  <a:ext cx="338400" cy="173160"/>
                  <a:chOff x="6838920" y="1414440"/>
                  <a:chExt cx="338400" cy="1731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6859800" y="1497240"/>
                    <a:ext cx="648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6964560" y="150660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053480" y="150192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6838920" y="142092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6946920" y="141444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035840" y="141768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150320" y="142092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>
                    <a:off x="7080480" y="1497240"/>
                    <a:ext cx="9504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8" name=""/>
            <p:cNvSpPr/>
            <p:nvPr/>
          </p:nvSpPr>
          <p:spPr>
            <a:xfrm>
              <a:off x="717696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ta-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100240" y="1268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F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724880" y="5124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950-7C37-47C1-9A41-F3F42C0BC6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e hourglass concept of Globu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4932360" y="1981080"/>
            <a:ext cx="2247840" cy="3780000"/>
            <a:chOff x="4932360" y="1981080"/>
            <a:chExt cx="2247840" cy="3780000"/>
          </a:xfrm>
        </p:grpSpPr>
        <p:sp>
          <p:nvSpPr>
            <p:cNvPr id="924" name=""/>
            <p:cNvSpPr/>
            <p:nvPr/>
          </p:nvSpPr>
          <p:spPr>
            <a:xfrm>
              <a:off x="4932360" y="3460680"/>
              <a:ext cx="1011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Nex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11800" y="4775040"/>
              <a:ext cx="18684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ssage passing, Shared memory, IP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11800" y="1981080"/>
              <a:ext cx="16462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PI, CC++, HPC++, CORBA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5691240" y="2967120"/>
              <a:ext cx="885600" cy="1807560"/>
              <a:chOff x="5691240" y="2967120"/>
              <a:chExt cx="885600" cy="1807560"/>
            </a:xfrm>
          </p:grpSpPr>
          <p:sp>
            <p:nvSpPr>
              <p:cNvPr id="928" name=""/>
              <p:cNvSpPr/>
              <p:nvPr/>
            </p:nvSpPr>
            <p:spPr>
              <a:xfrm>
                <a:off x="5691240" y="2967120"/>
                <a:ext cx="885600" cy="657360"/>
              </a:xfrm>
              <a:custGeom>
                <a:avLst/>
                <a:gdLst>
                  <a:gd name="textAreaLeft" fmla="*/ 213840 w 885600"/>
                  <a:gd name="textAreaRight" fmla="*/ 671760 w 8856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943960" y="3624480"/>
                <a:ext cx="379440" cy="4928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691240" y="4117320"/>
                <a:ext cx="885600" cy="657360"/>
              </a:xfrm>
              <a:custGeom>
                <a:avLst/>
                <a:gdLst>
                  <a:gd name="textAreaLeft" fmla="*/ 213840 w 885600"/>
                  <a:gd name="textAreaRight" fmla="*/ 671760 w 8856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1676520" y="2146320"/>
            <a:ext cx="2415960" cy="3451320"/>
            <a:chOff x="1676520" y="2146320"/>
            <a:chExt cx="2415960" cy="3451320"/>
          </a:xfrm>
        </p:grpSpPr>
        <p:sp>
          <p:nvSpPr>
            <p:cNvPr id="932" name=""/>
            <p:cNvSpPr/>
            <p:nvPr/>
          </p:nvSpPr>
          <p:spPr>
            <a:xfrm>
              <a:off x="1676520" y="3460680"/>
              <a:ext cx="121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643120" y="2967120"/>
              <a:ext cx="885960" cy="1807560"/>
              <a:chOff x="2643120" y="2967120"/>
              <a:chExt cx="885960" cy="1807560"/>
            </a:xfrm>
          </p:grpSpPr>
          <p:sp>
            <p:nvSpPr>
              <p:cNvPr id="934" name=""/>
              <p:cNvSpPr/>
              <p:nvPr/>
            </p:nvSpPr>
            <p:spPr>
              <a:xfrm>
                <a:off x="2643120" y="2967120"/>
                <a:ext cx="885960" cy="657360"/>
              </a:xfrm>
              <a:custGeom>
                <a:avLst/>
                <a:gdLst>
                  <a:gd name="textAreaLeft" fmla="*/ 213840 w 885960"/>
                  <a:gd name="textAreaRight" fmla="*/ 672120 w 88596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96200" y="3624480"/>
                <a:ext cx="379440" cy="492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2643120" y="4117320"/>
                <a:ext cx="885960" cy="657360"/>
              </a:xfrm>
              <a:custGeom>
                <a:avLst/>
                <a:gdLst>
                  <a:gd name="textAreaLeft" fmla="*/ 213840 w 885960"/>
                  <a:gd name="textAreaRight" fmla="*/ 672120 w 88596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262240" y="2146320"/>
              <a:ext cx="16462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CP, FTP, HTTP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62240" y="4940280"/>
              <a:ext cx="18302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thernet, ATM, FDDI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673680" y="1817640"/>
            <a:ext cx="2470320" cy="3943440"/>
            <a:chOff x="6673680" y="1817640"/>
            <a:chExt cx="2470320" cy="3943440"/>
          </a:xfrm>
        </p:grpSpPr>
        <p:sp>
          <p:nvSpPr>
            <p:cNvPr id="940" name=""/>
            <p:cNvSpPr/>
            <p:nvPr/>
          </p:nvSpPr>
          <p:spPr>
            <a:xfrm>
              <a:off x="6673680" y="3460680"/>
              <a:ext cx="1200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80200" y="4775040"/>
              <a:ext cx="19638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ondor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SF, NQE, LoadLeveler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80200" y="1817640"/>
              <a:ext cx="16462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source brokers, Resource co-alloc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7559640" y="2967120"/>
              <a:ext cx="887400" cy="1807560"/>
              <a:chOff x="7559640" y="2967120"/>
              <a:chExt cx="887400" cy="1807560"/>
            </a:xfrm>
          </p:grpSpPr>
          <p:sp>
            <p:nvSpPr>
              <p:cNvPr id="944" name=""/>
              <p:cNvSpPr/>
              <p:nvPr/>
            </p:nvSpPr>
            <p:spPr>
              <a:xfrm>
                <a:off x="7559640" y="2967120"/>
                <a:ext cx="887400" cy="657360"/>
              </a:xfrm>
              <a:custGeom>
                <a:avLst/>
                <a:gdLst>
                  <a:gd name="textAreaLeft" fmla="*/ 214200 w 887400"/>
                  <a:gd name="textAreaRight" fmla="*/ 673200 w 8874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813080" y="3624480"/>
                <a:ext cx="380160" cy="492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7559640" y="4117320"/>
                <a:ext cx="887400" cy="657360"/>
              </a:xfrm>
              <a:custGeom>
                <a:avLst/>
                <a:gdLst>
                  <a:gd name="textAreaLeft" fmla="*/ 214200 w 887400"/>
                  <a:gd name="textAreaRight" fmla="*/ 673200 w 8874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3747960" y="36241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05120" y="1600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High leve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905120" y="5761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ow leve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716-F921-4437-9078-7B83F8BA1C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78168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lobus hierarchical resource management architecture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014560" y="914400"/>
            <a:ext cx="3589200" cy="1916280"/>
            <a:chOff x="2014560" y="914400"/>
            <a:chExt cx="3589200" cy="1916280"/>
          </a:xfrm>
        </p:grpSpPr>
        <p:sp>
          <p:nvSpPr>
            <p:cNvPr id="952" name=""/>
            <p:cNvSpPr/>
            <p:nvPr/>
          </p:nvSpPr>
          <p:spPr>
            <a:xfrm>
              <a:off x="3533760" y="1871640"/>
              <a:ext cx="6890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90680" y="2297160"/>
              <a:ext cx="124308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38600" y="1143000"/>
              <a:ext cx="965160" cy="409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4560" y="914400"/>
              <a:ext cx="1657440" cy="851040"/>
            </a:xfrm>
            <a:prstGeom prst="cloudCallout">
              <a:avLst>
                <a:gd name="adj1" fmla="val 62500"/>
                <a:gd name="adj2" fmla="val 530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DIS with 100K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533760" y="1552320"/>
              <a:ext cx="110484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498920" y="1552680"/>
            <a:ext cx="3654360" cy="2448000"/>
            <a:chOff x="4498920" y="1552680"/>
            <a:chExt cx="3654360" cy="2448000"/>
          </a:xfrm>
        </p:grpSpPr>
        <p:sp>
          <p:nvSpPr>
            <p:cNvPr id="958" name=""/>
            <p:cNvSpPr/>
            <p:nvPr/>
          </p:nvSpPr>
          <p:spPr>
            <a:xfrm>
              <a:off x="6707160" y="2190600"/>
              <a:ext cx="1446120" cy="74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nformation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98920" y="3681360"/>
              <a:ext cx="1381320" cy="3193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o-alloc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03760" y="1552680"/>
              <a:ext cx="110340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879880" y="2830680"/>
              <a:ext cx="82692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430360" y="3892680"/>
            <a:ext cx="6485040" cy="2022480"/>
            <a:chOff x="2430360" y="3892680"/>
            <a:chExt cx="6485040" cy="2022480"/>
          </a:xfrm>
        </p:grpSpPr>
        <p:sp>
          <p:nvSpPr>
            <p:cNvPr id="963" name=""/>
            <p:cNvSpPr/>
            <p:nvPr/>
          </p:nvSpPr>
          <p:spPr>
            <a:xfrm>
              <a:off x="4638600" y="4106880"/>
              <a:ext cx="1241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Simple ground 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30360" y="5064120"/>
              <a:ext cx="12416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07160" y="5064120"/>
              <a:ext cx="124128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119040" y="4000680"/>
              <a:ext cx="193212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27640" y="4000680"/>
              <a:ext cx="207000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86360" y="5064120"/>
              <a:ext cx="1793880" cy="851040"/>
            </a:xfrm>
            <a:prstGeom prst="cloudCallout">
              <a:avLst>
                <a:gd name="adj1" fmla="val -71949"/>
                <a:gd name="adj2" fmla="val -7929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SF-express on 80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21520" y="3892680"/>
              <a:ext cx="1793880" cy="852480"/>
            </a:xfrm>
            <a:prstGeom prst="cloudCallout">
              <a:avLst>
                <a:gd name="adj1" fmla="val -89745"/>
                <a:gd name="adj2" fmla="val 29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SF-express on 256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430360" y="1552680"/>
            <a:ext cx="2897280" cy="2554200"/>
            <a:chOff x="2430360" y="1552680"/>
            <a:chExt cx="2897280" cy="2554200"/>
          </a:xfrm>
        </p:grpSpPr>
        <p:sp>
          <p:nvSpPr>
            <p:cNvPr id="971" name=""/>
            <p:cNvSpPr/>
            <p:nvPr/>
          </p:nvSpPr>
          <p:spPr>
            <a:xfrm>
              <a:off x="4222800" y="2298600"/>
              <a:ext cx="11048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Ground 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30360" y="2936880"/>
              <a:ext cx="2314800" cy="1170000"/>
            </a:xfrm>
            <a:prstGeom prst="cloudCallout">
              <a:avLst>
                <a:gd name="adj1" fmla="val 61796"/>
                <a:gd name="adj2" fmla="val -411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80 nodes on Arg SP-2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56 nodes on CIT Exemp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89400" y="1552680"/>
              <a:ext cx="0" cy="21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430360" y="5383080"/>
            <a:ext cx="5518080" cy="1262160"/>
            <a:chOff x="2430360" y="5383080"/>
            <a:chExt cx="5518080" cy="1262160"/>
          </a:xfrm>
        </p:grpSpPr>
        <p:sp>
          <p:nvSpPr>
            <p:cNvPr id="975" name=""/>
            <p:cNvSpPr/>
            <p:nvPr/>
          </p:nvSpPr>
          <p:spPr>
            <a:xfrm>
              <a:off x="2430360" y="5702400"/>
              <a:ext cx="1241640" cy="942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rgonne Resource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707160" y="5702400"/>
              <a:ext cx="1241280" cy="942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IT Resource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19400" y="538308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97640" y="538308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86360" y="6127920"/>
              <a:ext cx="23446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Local resourc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994-63AD-4E46-B028-C9708E75D4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egion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3048120"/>
            <a:ext cx="6781680" cy="304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ilds higher level system functionality on top of a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single unified object mod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s are themselves processes providing the basis for distribution, scheduling, and resour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s software IC concept represents a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macro-dataflo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43880" y="1447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wid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4191120" y="1447920"/>
            <a:ext cx="2590560" cy="1143000"/>
            <a:chOff x="4191120" y="1447920"/>
            <a:chExt cx="2590560" cy="1143000"/>
          </a:xfrm>
        </p:grpSpPr>
        <p:sp>
          <p:nvSpPr>
            <p:cNvPr id="984" name=""/>
            <p:cNvSpPr/>
            <p:nvPr/>
          </p:nvSpPr>
          <p:spPr>
            <a:xfrm>
              <a:off x="4191120" y="144792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O 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nviron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62640" y="18288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2095560" y="1447920"/>
            <a:ext cx="2095560" cy="1143000"/>
            <a:chOff x="2095560" y="1447920"/>
            <a:chExt cx="2095560" cy="1143000"/>
          </a:xfrm>
        </p:grpSpPr>
        <p:sp>
          <p:nvSpPr>
            <p:cNvPr id="987" name=""/>
            <p:cNvSpPr/>
            <p:nvPr/>
          </p:nvSpPr>
          <p:spPr>
            <a:xfrm>
              <a:off x="2095560" y="1447920"/>
              <a:ext cx="1676520" cy="11430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72080" y="18288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F4E-AA93-470A-91FD-907A7080C6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modity three-tier architectur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590920" y="1447920"/>
            <a:ext cx="5715000" cy="1143000"/>
            <a:chOff x="2590920" y="1447920"/>
            <a:chExt cx="5715000" cy="1143000"/>
          </a:xfrm>
        </p:grpSpPr>
        <p:sp>
          <p:nvSpPr>
            <p:cNvPr id="991" name=""/>
            <p:cNvSpPr/>
            <p:nvPr/>
          </p:nvSpPr>
          <p:spPr>
            <a:xfrm>
              <a:off x="2590920" y="1447920"/>
              <a:ext cx="1904760" cy="114300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ribu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00800" y="1447920"/>
              <a:ext cx="1905120" cy="114300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590920" y="2590920"/>
            <a:ext cx="5715000" cy="1752480"/>
            <a:chOff x="2590920" y="2590920"/>
            <a:chExt cx="5715000" cy="1752480"/>
          </a:xfrm>
        </p:grpSpPr>
        <p:grpSp>
          <p:nvGrpSpPr>
            <p:cNvPr id="994" name=""/>
            <p:cNvGrpSpPr/>
            <p:nvPr/>
          </p:nvGrpSpPr>
          <p:grpSpPr>
            <a:xfrm>
              <a:off x="2590920" y="3200400"/>
              <a:ext cx="5715000" cy="1143000"/>
              <a:chOff x="2590920" y="3200400"/>
              <a:chExt cx="5715000" cy="1143000"/>
            </a:xfrm>
          </p:grpSpPr>
          <p:sp>
            <p:nvSpPr>
              <p:cNvPr id="995" name=""/>
              <p:cNvSpPr/>
              <p:nvPr/>
            </p:nvSpPr>
            <p:spPr>
              <a:xfrm>
                <a:off x="2590920" y="3200400"/>
                <a:ext cx="1904760" cy="1143000"/>
              </a:xfrm>
              <a:prstGeom prst="flowChartAlternateProcess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RBA base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ing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system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400800" y="3200400"/>
                <a:ext cx="1905120" cy="1143000"/>
              </a:xfrm>
              <a:prstGeom prst="flowChartAlternateProcess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Java base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mmodity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3505320" y="25909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5200" y="25909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657600" y="4343400"/>
            <a:ext cx="3657600" cy="1600200"/>
            <a:chOff x="3657600" y="4343400"/>
            <a:chExt cx="3657600" cy="1600200"/>
          </a:xfrm>
        </p:grpSpPr>
        <p:sp>
          <p:nvSpPr>
            <p:cNvPr id="1000" name=""/>
            <p:cNvSpPr/>
            <p:nvPr/>
          </p:nvSpPr>
          <p:spPr>
            <a:xfrm>
              <a:off x="4495680" y="4800600"/>
              <a:ext cx="1905120" cy="1143000"/>
            </a:xfrm>
            <a:prstGeom prst="flowChartAlternateProcess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ree-t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ta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57600" y="4343400"/>
              <a:ext cx="83808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400800" y="4343400"/>
              <a:ext cx="91440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D37-F9B8-4DF5-BBC1-AA81F58045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752120" y="255600"/>
            <a:ext cx="7162920" cy="582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Unified three-tier metacomputer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649600" y="1276200"/>
            <a:ext cx="2925720" cy="3108600"/>
            <a:chOff x="2649600" y="1276200"/>
            <a:chExt cx="2925720" cy="3108600"/>
          </a:xfrm>
        </p:grpSpPr>
        <p:sp>
          <p:nvSpPr>
            <p:cNvPr id="1005" name=""/>
            <p:cNvSpPr/>
            <p:nvPr/>
          </p:nvSpPr>
          <p:spPr>
            <a:xfrm>
              <a:off x="4753080" y="1916280"/>
              <a:ext cx="8222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2649600" y="1276200"/>
              <a:ext cx="2835360" cy="3108600"/>
              <a:chOff x="2649600" y="1276200"/>
              <a:chExt cx="2835360" cy="3108600"/>
            </a:xfrm>
          </p:grpSpPr>
          <p:sp>
            <p:nvSpPr>
              <p:cNvPr id="1007" name=""/>
              <p:cNvSpPr/>
              <p:nvPr/>
            </p:nvSpPr>
            <p:spPr>
              <a:xfrm>
                <a:off x="4321080" y="2830680"/>
                <a:ext cx="822600" cy="27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118120" y="1733400"/>
                <a:ext cx="366840" cy="8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9" name=""/>
              <p:cNvGrpSpPr/>
              <p:nvPr/>
            </p:nvGrpSpPr>
            <p:grpSpPr>
              <a:xfrm>
                <a:off x="2649600" y="1276200"/>
                <a:ext cx="2468520" cy="3108600"/>
                <a:chOff x="2649600" y="1276200"/>
                <a:chExt cx="2468520" cy="310860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3016080" y="2647800"/>
                  <a:ext cx="1279800" cy="1097280"/>
                </a:xfrm>
                <a:custGeom>
                  <a:avLst/>
                  <a:gdLst>
                    <a:gd name="textAreaLeft" fmla="*/ 254520 w 1279800"/>
                    <a:gd name="textAreaRight" fmla="*/ 1025280 w 1279800"/>
                    <a:gd name="textAreaTop" fmla="*/ 218160 h 1097280"/>
                    <a:gd name="textAreaBottom" fmla="*/ 879120 h 109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776" y="12554"/>
                      </a:lnTo>
                      <a:lnTo>
                        <a:pt x="786" y="14846"/>
                      </a:lnTo>
                      <a:lnTo>
                        <a:pt x="3090" y="15807"/>
                      </a:lnTo>
                      <a:lnTo>
                        <a:pt x="3163" y="18437"/>
                      </a:lnTo>
                      <a:lnTo>
                        <a:pt x="5659" y="18421"/>
                      </a:lnTo>
                      <a:lnTo>
                        <a:pt x="6580" y="20741"/>
                      </a:lnTo>
                      <a:lnTo>
                        <a:pt x="8889" y="19792"/>
                      </a:lnTo>
                      <a:lnTo>
                        <a:pt x="10800" y="21600"/>
                      </a:lnTo>
                      <a:lnTo>
                        <a:pt x="12554" y="19824"/>
                      </a:lnTo>
                      <a:lnTo>
                        <a:pt x="14846" y="20814"/>
                      </a:lnTo>
                      <a:lnTo>
                        <a:pt x="15807" y="18510"/>
                      </a:lnTo>
                      <a:lnTo>
                        <a:pt x="18437" y="18437"/>
                      </a:lnTo>
                      <a:lnTo>
                        <a:pt x="18421" y="15941"/>
                      </a:lnTo>
                      <a:lnTo>
                        <a:pt x="20741" y="15020"/>
                      </a:lnTo>
                      <a:lnTo>
                        <a:pt x="19792" y="12711"/>
                      </a:lnTo>
                      <a:lnTo>
                        <a:pt x="21600" y="10800"/>
                      </a:lnTo>
                      <a:lnTo>
                        <a:pt x="19824" y="9046"/>
                      </a:lnTo>
                      <a:lnTo>
                        <a:pt x="20814" y="6754"/>
                      </a:lnTo>
                      <a:lnTo>
                        <a:pt x="18510" y="5793"/>
                      </a:lnTo>
                      <a:lnTo>
                        <a:pt x="18437" y="3163"/>
                      </a:lnTo>
                      <a:lnTo>
                        <a:pt x="15941" y="3179"/>
                      </a:lnTo>
                      <a:lnTo>
                        <a:pt x="15020" y="859"/>
                      </a:lnTo>
                      <a:lnTo>
                        <a:pt x="12711" y="1808"/>
                      </a:lnTo>
                      <a:lnTo>
                        <a:pt x="10800" y="0"/>
                      </a:lnTo>
                      <a:lnTo>
                        <a:pt x="9046" y="1776"/>
                      </a:lnTo>
                      <a:lnTo>
                        <a:pt x="6754" y="786"/>
                      </a:lnTo>
                      <a:lnTo>
                        <a:pt x="5793" y="3090"/>
                      </a:lnTo>
                      <a:lnTo>
                        <a:pt x="3163" y="3163"/>
                      </a:lnTo>
                      <a:lnTo>
                        <a:pt x="3179" y="5659"/>
                      </a:lnTo>
                      <a:lnTo>
                        <a:pt x="859" y="6580"/>
                      </a:lnTo>
                      <a:lnTo>
                        <a:pt x="1808" y="8889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98960" y="3013200"/>
                  <a:ext cx="823680" cy="4572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TT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2" name=""/>
                <p:cNvGrpSpPr/>
                <p:nvPr/>
              </p:nvGrpSpPr>
              <p:grpSpPr>
                <a:xfrm>
                  <a:off x="4021200" y="1916280"/>
                  <a:ext cx="639720" cy="549000"/>
                  <a:chOff x="4021200" y="1916280"/>
                  <a:chExt cx="639720" cy="5490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>
                    <a:off x="4021200" y="1916280"/>
                    <a:ext cx="639720" cy="5490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4112280" y="2099160"/>
                    <a:ext cx="456840" cy="2743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5" name=""/>
                <p:cNvSpPr/>
                <p:nvPr/>
              </p:nvSpPr>
              <p:spPr>
                <a:xfrm>
                  <a:off x="2741760" y="191628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833560" y="2098800"/>
                  <a:ext cx="457200" cy="2746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200" spc="-1" strike="noStrike">
                      <a:solidFill>
                        <a:srgbClr val="000000"/>
                      </a:solidFill>
                      <a:latin typeface="Times New Roman"/>
                    </a:rPr>
                    <a:t>W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7" name=""/>
                <p:cNvGrpSpPr/>
                <p:nvPr/>
              </p:nvGrpSpPr>
              <p:grpSpPr>
                <a:xfrm>
                  <a:off x="3930480" y="3836880"/>
                  <a:ext cx="640080" cy="547920"/>
                  <a:chOff x="3930480" y="3836880"/>
                  <a:chExt cx="640080" cy="54792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930480" y="3836880"/>
                    <a:ext cx="640080" cy="5479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021920" y="4019400"/>
                    <a:ext cx="457200" cy="2739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0" name=""/>
                <p:cNvSpPr/>
                <p:nvPr/>
              </p:nvSpPr>
              <p:spPr>
                <a:xfrm>
                  <a:off x="3198960" y="2465280"/>
                  <a:ext cx="1825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4020840" y="2465280"/>
                  <a:ext cx="274680" cy="36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3016080" y="3470400"/>
                  <a:ext cx="182880" cy="36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H="1" flipV="1">
                  <a:off x="4113000" y="3470400"/>
                  <a:ext cx="182520" cy="36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108240" y="1276200"/>
                  <a:ext cx="914400" cy="54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Web 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2649600" y="3836880"/>
                  <a:ext cx="639720" cy="547920"/>
                  <a:chOff x="2649600" y="3836880"/>
                  <a:chExt cx="639720" cy="54792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2649600" y="3836880"/>
                    <a:ext cx="639720" cy="5479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740680" y="4019400"/>
                    <a:ext cx="456840" cy="2739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8" name=""/>
                <p:cNvSpPr/>
                <p:nvPr/>
              </p:nvSpPr>
              <p:spPr>
                <a:xfrm>
                  <a:off x="4295880" y="3197160"/>
                  <a:ext cx="822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9" name=""/>
          <p:cNvGrpSpPr/>
          <p:nvPr/>
        </p:nvGrpSpPr>
        <p:grpSpPr>
          <a:xfrm>
            <a:off x="5027760" y="1066680"/>
            <a:ext cx="3290760" cy="2860920"/>
            <a:chOff x="5027760" y="1066680"/>
            <a:chExt cx="3290760" cy="2860920"/>
          </a:xfrm>
        </p:grpSpPr>
        <p:sp>
          <p:nvSpPr>
            <p:cNvPr id="1030" name=""/>
            <p:cNvSpPr/>
            <p:nvPr/>
          </p:nvSpPr>
          <p:spPr>
            <a:xfrm>
              <a:off x="5575320" y="1916280"/>
              <a:ext cx="63972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99360" y="2739960"/>
              <a:ext cx="155412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MPI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27760" y="2556000"/>
              <a:ext cx="1279440" cy="914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otocol     perf.op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27760" y="1066680"/>
              <a:ext cx="1279440" cy="666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lient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6672240" y="3379680"/>
              <a:ext cx="641520" cy="547920"/>
              <a:chOff x="6672240" y="3379680"/>
              <a:chExt cx="641520" cy="547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672240" y="3379680"/>
                <a:ext cx="641520" cy="54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763680" y="3562200"/>
                <a:ext cx="458280" cy="273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946920" y="2098800"/>
              <a:ext cx="639720" cy="549000"/>
              <a:chOff x="6946920" y="2098800"/>
              <a:chExt cx="639720" cy="549000"/>
            </a:xfrm>
          </p:grpSpPr>
          <p:sp>
            <p:nvSpPr>
              <p:cNvPr id="1038" name=""/>
              <p:cNvSpPr/>
              <p:nvPr/>
            </p:nvSpPr>
            <p:spPr>
              <a:xfrm>
                <a:off x="6946920" y="2098800"/>
                <a:ext cx="639720" cy="549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38000" y="2281680"/>
                <a:ext cx="456840" cy="274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7678800" y="2739960"/>
              <a:ext cx="639720" cy="547920"/>
              <a:chOff x="7678800" y="2739960"/>
              <a:chExt cx="639720" cy="547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7678800" y="2739960"/>
                <a:ext cx="639720" cy="54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2922480"/>
                <a:ext cx="456840" cy="273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5667480" y="173340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6307200" y="2556000"/>
              <a:ext cx="73188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07200" y="3105000"/>
              <a:ext cx="45720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86640" y="2465280"/>
              <a:ext cx="36684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7221600" y="3196800"/>
              <a:ext cx="54756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56560" y="1276200"/>
              <a:ext cx="13698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Distributed computing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7038720" y="2647800"/>
              <a:ext cx="18252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07200" y="3013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558880" y="1733400"/>
            <a:ext cx="6356520" cy="4114800"/>
            <a:chOff x="2558880" y="1733400"/>
            <a:chExt cx="6356520" cy="4114800"/>
          </a:xfrm>
        </p:grpSpPr>
        <p:grpSp>
          <p:nvGrpSpPr>
            <p:cNvPr id="1052" name=""/>
            <p:cNvGrpSpPr/>
            <p:nvPr/>
          </p:nvGrpSpPr>
          <p:grpSpPr>
            <a:xfrm>
              <a:off x="2558880" y="1733400"/>
              <a:ext cx="6356520" cy="4114800"/>
              <a:chOff x="2558880" y="1733400"/>
              <a:chExt cx="6356520" cy="4114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7040520" y="4751280"/>
                <a:ext cx="187488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Networked computer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942160" y="2190600"/>
                <a:ext cx="1006200" cy="27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CORB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558880" y="5116680"/>
                <a:ext cx="731880" cy="27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MP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757840" y="5025960"/>
                <a:ext cx="1006560" cy="36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18120" y="4019400"/>
                <a:ext cx="1281240" cy="1097280"/>
              </a:xfrm>
              <a:custGeom>
                <a:avLst/>
                <a:gdLst>
                  <a:gd name="textAreaLeft" fmla="*/ 254880 w 1281240"/>
                  <a:gd name="textAreaRight" fmla="*/ 1026360 w 1281240"/>
                  <a:gd name="textAreaTop" fmla="*/ 218160 h 1097280"/>
                  <a:gd name="textAreaBottom" fmla="*/ 879120 h 109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776" y="12554"/>
                    </a:lnTo>
                    <a:lnTo>
                      <a:pt x="786" y="14846"/>
                    </a:lnTo>
                    <a:lnTo>
                      <a:pt x="3090" y="15807"/>
                    </a:lnTo>
                    <a:lnTo>
                      <a:pt x="3163" y="18437"/>
                    </a:lnTo>
                    <a:lnTo>
                      <a:pt x="5659" y="18421"/>
                    </a:lnTo>
                    <a:lnTo>
                      <a:pt x="6580" y="20741"/>
                    </a:lnTo>
                    <a:lnTo>
                      <a:pt x="8889" y="19792"/>
                    </a:lnTo>
                    <a:lnTo>
                      <a:pt x="10800" y="21600"/>
                    </a:lnTo>
                    <a:lnTo>
                      <a:pt x="12554" y="19824"/>
                    </a:lnTo>
                    <a:lnTo>
                      <a:pt x="14846" y="20814"/>
                    </a:lnTo>
                    <a:lnTo>
                      <a:pt x="15807" y="18510"/>
                    </a:lnTo>
                    <a:lnTo>
                      <a:pt x="18437" y="18437"/>
                    </a:lnTo>
                    <a:lnTo>
                      <a:pt x="18421" y="15941"/>
                    </a:lnTo>
                    <a:lnTo>
                      <a:pt x="20741" y="15020"/>
                    </a:lnTo>
                    <a:lnTo>
                      <a:pt x="19792" y="12711"/>
                    </a:lnTo>
                    <a:lnTo>
                      <a:pt x="21600" y="10800"/>
                    </a:lnTo>
                    <a:lnTo>
                      <a:pt x="19824" y="9046"/>
                    </a:lnTo>
                    <a:lnTo>
                      <a:pt x="20814" y="6754"/>
                    </a:lnTo>
                    <a:lnTo>
                      <a:pt x="18510" y="5793"/>
                    </a:lnTo>
                    <a:lnTo>
                      <a:pt x="18437" y="3163"/>
                    </a:lnTo>
                    <a:lnTo>
                      <a:pt x="15941" y="3179"/>
                    </a:lnTo>
                    <a:lnTo>
                      <a:pt x="15020" y="859"/>
                    </a:lnTo>
                    <a:lnTo>
                      <a:pt x="12711" y="1808"/>
                    </a:lnTo>
                    <a:lnTo>
                      <a:pt x="10800" y="0"/>
                    </a:lnTo>
                    <a:lnTo>
                      <a:pt x="9046" y="1776"/>
                    </a:lnTo>
                    <a:lnTo>
                      <a:pt x="6754" y="786"/>
                    </a:lnTo>
                    <a:lnTo>
                      <a:pt x="5793" y="3090"/>
                    </a:lnTo>
                    <a:lnTo>
                      <a:pt x="3163" y="3163"/>
                    </a:lnTo>
                    <a:lnTo>
                      <a:pt x="3179" y="5659"/>
                    </a:lnTo>
                    <a:lnTo>
                      <a:pt x="859" y="6580"/>
                    </a:lnTo>
                    <a:lnTo>
                      <a:pt x="1808" y="8889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4203720" y="5299200"/>
                <a:ext cx="641160" cy="549000"/>
                <a:chOff x="4203720" y="5299200"/>
                <a:chExt cx="641160" cy="5490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4203720" y="5299200"/>
                  <a:ext cx="64116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5160" y="5482080"/>
                  <a:ext cx="45792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6856560" y="5299200"/>
                <a:ext cx="639720" cy="549000"/>
                <a:chOff x="6856560" y="5299200"/>
                <a:chExt cx="639720" cy="5490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6856560" y="529920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947640" y="5482080"/>
                  <a:ext cx="45684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198960" y="4933800"/>
                <a:ext cx="731520" cy="731880"/>
                <a:chOff x="3198960" y="4933800"/>
                <a:chExt cx="731520" cy="731880"/>
              </a:xfrm>
            </p:grpSpPr>
            <p:grpSp>
              <p:nvGrpSpPr>
                <p:cNvPr id="1065" name=""/>
                <p:cNvGrpSpPr/>
                <p:nvPr/>
              </p:nvGrpSpPr>
              <p:grpSpPr>
                <a:xfrm>
                  <a:off x="3198960" y="4933800"/>
                  <a:ext cx="731520" cy="182520"/>
                  <a:chOff x="3198960" y="4933800"/>
                  <a:chExt cx="731520" cy="182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319896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47328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74760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381840" y="502488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656160" y="502488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3198960" y="5208480"/>
                  <a:ext cx="731520" cy="182520"/>
                  <a:chOff x="3198960" y="5208480"/>
                  <a:chExt cx="731520" cy="182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319896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47328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74760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381840" y="529956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656160" y="529956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3198960" y="5482800"/>
                  <a:ext cx="731520" cy="182880"/>
                  <a:chOff x="3198960" y="5482800"/>
                  <a:chExt cx="731520" cy="18288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319896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47328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74760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1840" y="557424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656160" y="557424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3" name=""/>
                <p:cNvSpPr/>
                <p:nvPr/>
              </p:nvSpPr>
              <p:spPr>
                <a:xfrm>
                  <a:off x="329076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29076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56400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56400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83832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83832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5392800" y="4294080"/>
                <a:ext cx="822240" cy="5479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t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I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kelet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15040" y="3836880"/>
                <a:ext cx="549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306840" y="3287880"/>
                <a:ext cx="1646280" cy="14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4660920" y="4842000"/>
                <a:ext cx="641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757840" y="51163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6214680" y="4841640"/>
                <a:ext cx="731880" cy="54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570560" y="4202280"/>
                <a:ext cx="731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198960" y="4294080"/>
                <a:ext cx="2011320" cy="3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30480" y="5575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322880" y="53910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5484960" y="5299200"/>
                <a:ext cx="639720" cy="549000"/>
                <a:chOff x="5484960" y="5299200"/>
                <a:chExt cx="639720" cy="5490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5484960" y="529920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576040" y="5482080"/>
                  <a:ext cx="45684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5667480" y="5391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949800" y="54198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N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5850000" y="1733400"/>
                <a:ext cx="365040" cy="8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5667480" y="3470400"/>
              <a:ext cx="182520" cy="549000"/>
            </a:xfrm>
            <a:prstGeom prst="upDownArrow">
              <a:avLst>
                <a:gd name="adj1" fmla="val 50000"/>
                <a:gd name="adj2" fmla="val 5987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11760" y="3562200"/>
              <a:ext cx="103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RBA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3C3-39E4-4380-9E09-8D3B1BDD16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amming environment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78168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kit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Paderborn toolk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US communicatio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urce and Service Description (R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grated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isualGri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etacomputing version of P-G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pplication specifi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Net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798-C2A4-4883-998B-257AE5CD52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NetSolv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608880" y="4417920"/>
            <a:ext cx="83808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570040" y="2862360"/>
            <a:ext cx="5259600" cy="2652120"/>
            <a:chOff x="2570040" y="2862360"/>
            <a:chExt cx="5259600" cy="2652120"/>
          </a:xfrm>
        </p:grpSpPr>
        <p:sp>
          <p:nvSpPr>
            <p:cNvPr id="1112" name=""/>
            <p:cNvSpPr/>
            <p:nvPr/>
          </p:nvSpPr>
          <p:spPr>
            <a:xfrm>
              <a:off x="6991200" y="5160960"/>
              <a:ext cx="838440" cy="35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930920" y="4098960"/>
              <a:ext cx="838080" cy="3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70040" y="2862360"/>
              <a:ext cx="257040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Network of 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62640" y="4913280"/>
              <a:ext cx="628560" cy="42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67400" y="5021280"/>
              <a:ext cx="419040" cy="21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162320" y="3959280"/>
              <a:ext cx="209520" cy="212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38520" y="3214440"/>
              <a:ext cx="209520" cy="212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371840" y="3214440"/>
              <a:ext cx="209520" cy="212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43280" y="3427200"/>
              <a:ext cx="52380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48040" y="332100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267080" y="3426840"/>
              <a:ext cx="21132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4511520" y="3463920"/>
              <a:ext cx="188784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616280" y="3216240"/>
            <a:ext cx="1992600" cy="777960"/>
            <a:chOff x="4616280" y="3216240"/>
            <a:chExt cx="1992600" cy="777960"/>
          </a:xfrm>
        </p:grpSpPr>
        <p:sp>
          <p:nvSpPr>
            <p:cNvPr id="1125" name=""/>
            <p:cNvSpPr/>
            <p:nvPr/>
          </p:nvSpPr>
          <p:spPr>
            <a:xfrm>
              <a:off x="4930920" y="3216240"/>
              <a:ext cx="94428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16280" y="3355920"/>
              <a:ext cx="199260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3149640" y="2825640"/>
            <a:ext cx="4906800" cy="3398760"/>
            <a:chOff x="3149640" y="2825640"/>
            <a:chExt cx="4906800" cy="3398760"/>
          </a:xfrm>
        </p:grpSpPr>
        <p:sp>
          <p:nvSpPr>
            <p:cNvPr id="1128" name=""/>
            <p:cNvSpPr/>
            <p:nvPr/>
          </p:nvSpPr>
          <p:spPr>
            <a:xfrm>
              <a:off x="5769000" y="2825640"/>
              <a:ext cx="22874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MPP parallel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153120" y="3109680"/>
              <a:ext cx="20952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72160" y="3109680"/>
              <a:ext cx="21132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91200" y="3109680"/>
              <a:ext cx="20988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62640" y="32162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83480" y="32162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53120" y="3533760"/>
              <a:ext cx="20952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572160" y="3533760"/>
              <a:ext cx="21132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91200" y="3533760"/>
              <a:ext cx="20988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62640" y="363996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83480" y="363996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153120" y="3959280"/>
              <a:ext cx="20952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72160" y="3959280"/>
              <a:ext cx="21132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91200" y="3959280"/>
              <a:ext cx="20988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62640" y="406548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783480" y="406548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5968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25968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67692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67692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09776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09776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676920" y="4171680"/>
              <a:ext cx="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84720" y="5905440"/>
              <a:ext cx="157176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54400" y="5905440"/>
              <a:ext cx="157176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87720" y="5160960"/>
              <a:ext cx="8384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429000" y="4913280"/>
              <a:ext cx="62856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33760" y="5021280"/>
              <a:ext cx="420840" cy="210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673080" y="4206600"/>
              <a:ext cx="523800" cy="743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92480" y="5160960"/>
              <a:ext cx="230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03800" y="5798880"/>
              <a:ext cx="20772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149640" y="5798880"/>
              <a:ext cx="20952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84720" y="5798880"/>
              <a:ext cx="20808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36000" y="5798880"/>
              <a:ext cx="21096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254400" y="5375160"/>
              <a:ext cx="41904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flipV="1">
              <a:off x="3779640" y="5374800"/>
              <a:ext cx="62676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6188040" y="5374800"/>
              <a:ext cx="42084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6711480" y="5374800"/>
              <a:ext cx="63036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1905120" y="1066680"/>
            <a:ext cx="6781680" cy="138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network-enabled solver to allow the use of network resources for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numerica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ncepts: clients - servers -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D66-6B5C-4B2A-B076-A7F4A2D5C7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2095560" y="228600"/>
            <a:ext cx="514512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Sol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65040" y="1839960"/>
            <a:ext cx="2431080" cy="3917880"/>
            <a:chOff x="365040" y="1839960"/>
            <a:chExt cx="2431080" cy="3917880"/>
          </a:xfrm>
        </p:grpSpPr>
        <p:sp>
          <p:nvSpPr>
            <p:cNvPr id="1169" name=""/>
            <p:cNvSpPr/>
            <p:nvPr/>
          </p:nvSpPr>
          <p:spPr>
            <a:xfrm>
              <a:off x="1272960" y="2252520"/>
              <a:ext cx="1523160" cy="350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838"/>
                </a:path>
              </a:pathLst>
            </a:custGeom>
            <a:noFill/>
            <a:ln cap="rnd" w="7632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5040" y="1839960"/>
              <a:ext cx="1203120" cy="579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ep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048040" y="1228680"/>
            <a:ext cx="6992280" cy="4755960"/>
            <a:chOff x="2048040" y="1228680"/>
            <a:chExt cx="6992280" cy="4755960"/>
          </a:xfrm>
        </p:grpSpPr>
        <p:grpSp>
          <p:nvGrpSpPr>
            <p:cNvPr id="1172" name=""/>
            <p:cNvGrpSpPr/>
            <p:nvPr/>
          </p:nvGrpSpPr>
          <p:grpSpPr>
            <a:xfrm>
              <a:off x="6326640" y="1609560"/>
              <a:ext cx="2713680" cy="4375080"/>
              <a:chOff x="6326640" y="1609560"/>
              <a:chExt cx="2713680" cy="4375080"/>
            </a:xfrm>
          </p:grpSpPr>
          <p:sp>
            <p:nvSpPr>
              <p:cNvPr id="1173" name=""/>
              <p:cNvSpPr/>
              <p:nvPr/>
            </p:nvSpPr>
            <p:spPr>
              <a:xfrm>
                <a:off x="6326640" y="2174760"/>
                <a:ext cx="2351160" cy="380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76320">
                <a:solidFill>
                  <a:srgbClr val="80808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55760" y="1609560"/>
                <a:ext cx="1384560" cy="5799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Choic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2048040" y="1228680"/>
              <a:ext cx="5191920" cy="2457360"/>
              <a:chOff x="2048040" y="1228680"/>
              <a:chExt cx="5191920" cy="2457360"/>
            </a:xfrm>
          </p:grpSpPr>
          <p:sp>
            <p:nvSpPr>
              <p:cNvPr id="1176" name=""/>
              <p:cNvSpPr/>
              <p:nvPr/>
            </p:nvSpPr>
            <p:spPr>
              <a:xfrm>
                <a:off x="2048040" y="1265040"/>
                <a:ext cx="5191920" cy="2273400"/>
              </a:xfrm>
              <a:prstGeom prst="rect">
                <a:avLst/>
              </a:prstGeom>
              <a:solidFill>
                <a:srgbClr val="6601b4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77" name=""/>
              <p:cNvGraphicFramePr/>
              <p:nvPr/>
            </p:nvGraphicFramePr>
            <p:xfrm>
              <a:off x="2292480" y="1715760"/>
              <a:ext cx="842760" cy="84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92480" y="1715760"/>
                        <a:ext cx="842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9" name=""/>
              <p:cNvGraphicFramePr/>
              <p:nvPr/>
            </p:nvGraphicFramePr>
            <p:xfrm>
              <a:off x="3300120" y="1944360"/>
              <a:ext cx="1175400" cy="744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00120" y="1944360"/>
                        <a:ext cx="1175400" cy="74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81" name=""/>
              <p:cNvGraphicFramePr/>
              <p:nvPr/>
            </p:nvGraphicFramePr>
            <p:xfrm>
              <a:off x="2208600" y="2325600"/>
              <a:ext cx="1259280" cy="1019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8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08600" y="2325600"/>
                        <a:ext cx="1259280" cy="101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83" name=""/>
              <p:cNvSpPr/>
              <p:nvPr/>
            </p:nvSpPr>
            <p:spPr>
              <a:xfrm>
                <a:off x="2309760" y="1228680"/>
                <a:ext cx="4676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ccff"/>
                    </a:solidFill>
                    <a:latin typeface="Times New Roman"/>
                  </a:rPr>
                  <a:t>Computational Resourc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811760" y="1868400"/>
                <a:ext cx="2265480" cy="181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Hardware: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Software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Clusters     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Routi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MPP          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Libra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Workstations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 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Globus,Condor, MPI,PV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5" name=""/>
          <p:cNvGrpSpPr/>
          <p:nvPr/>
        </p:nvGrpSpPr>
        <p:grpSpPr>
          <a:xfrm>
            <a:off x="-164520" y="4086000"/>
            <a:ext cx="3574080" cy="2448720"/>
            <a:chOff x="-164520" y="4086000"/>
            <a:chExt cx="3574080" cy="2448720"/>
          </a:xfrm>
        </p:grpSpPr>
        <p:grpSp>
          <p:nvGrpSpPr>
            <p:cNvPr id="1186" name=""/>
            <p:cNvGrpSpPr/>
            <p:nvPr/>
          </p:nvGrpSpPr>
          <p:grpSpPr>
            <a:xfrm>
              <a:off x="-164520" y="4196880"/>
              <a:ext cx="2806560" cy="2337840"/>
              <a:chOff x="-164520" y="4196880"/>
              <a:chExt cx="2806560" cy="2337840"/>
            </a:xfrm>
          </p:grpSpPr>
          <p:sp>
            <p:nvSpPr>
              <p:cNvPr id="1187" name=""/>
              <p:cNvSpPr/>
              <p:nvPr/>
            </p:nvSpPr>
            <p:spPr>
              <a:xfrm>
                <a:off x="218880" y="4196880"/>
                <a:ext cx="2423160" cy="2337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8" name="AG_dataentry1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200" y="4352760"/>
                <a:ext cx="1798200" cy="164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"/>
              <p:cNvSpPr/>
              <p:nvPr/>
            </p:nvSpPr>
            <p:spPr>
              <a:xfrm>
                <a:off x="-164520" y="6049440"/>
                <a:ext cx="247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 - RPC lik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1931760" y="4086000"/>
              <a:ext cx="147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hema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, Fortra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, 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 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3411360" y="3975120"/>
            <a:ext cx="5632200" cy="2882880"/>
            <a:chOff x="3411360" y="3975120"/>
            <a:chExt cx="5632200" cy="2882880"/>
          </a:xfrm>
        </p:grpSpPr>
        <p:grpSp>
          <p:nvGrpSpPr>
            <p:cNvPr id="1192" name=""/>
            <p:cNvGrpSpPr/>
            <p:nvPr/>
          </p:nvGrpSpPr>
          <p:grpSpPr>
            <a:xfrm>
              <a:off x="3411360" y="4883040"/>
              <a:ext cx="2514600" cy="914400"/>
              <a:chOff x="3411360" y="4883040"/>
              <a:chExt cx="2514600" cy="914400"/>
            </a:xfrm>
          </p:grpSpPr>
          <p:sp>
            <p:nvSpPr>
              <p:cNvPr id="1193" name=""/>
              <p:cNvSpPr/>
              <p:nvPr/>
            </p:nvSpPr>
            <p:spPr>
              <a:xfrm>
                <a:off x="3411360" y="5797440"/>
                <a:ext cx="2514600" cy="0"/>
              </a:xfrm>
              <a:prstGeom prst="line">
                <a:avLst/>
              </a:prstGeom>
              <a:ln w="10152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866760" y="4883040"/>
                <a:ext cx="1587240" cy="579960"/>
              </a:xfrm>
              <a:prstGeom prst="rect">
                <a:avLst/>
              </a:prstGeom>
              <a:solidFill>
                <a:srgbClr val="95c2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equ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6084720" y="3975120"/>
              <a:ext cx="2958840" cy="2882880"/>
              <a:chOff x="6084720" y="3975120"/>
              <a:chExt cx="2958840" cy="2882880"/>
            </a:xfrm>
          </p:grpSpPr>
          <p:sp>
            <p:nvSpPr>
              <p:cNvPr id="1196" name=""/>
              <p:cNvSpPr/>
              <p:nvPr/>
            </p:nvSpPr>
            <p:spPr>
              <a:xfrm>
                <a:off x="6084720" y="3975120"/>
                <a:ext cx="2958840" cy="2882880"/>
              </a:xfrm>
              <a:custGeom>
                <a:avLst/>
                <a:gdLst>
                  <a:gd name="textAreaLeft" fmla="*/ 675360 w 2958840"/>
                  <a:gd name="textAreaRight" fmla="*/ 2283480 w 2958840"/>
                  <a:gd name="textAreaTop" fmla="*/ 658080 h 2882880"/>
                  <a:gd name="textAreaBottom" fmla="*/ 2224800 h 28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5c2eb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40360" y="4349520"/>
                <a:ext cx="1447560" cy="519120"/>
              </a:xfrm>
              <a:prstGeom prst="rect">
                <a:avLst/>
              </a:prstGeom>
              <a:solidFill>
                <a:srgbClr val="95c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5003"/>
                    </a:solidFill>
                    <a:latin typeface="Times New Roman"/>
                  </a:rPr>
                  <a:t>Age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59120" y="5187960"/>
                <a:ext cx="990720" cy="631440"/>
              </a:xfrm>
              <a:prstGeom prst="rect">
                <a:avLst/>
              </a:prstGeom>
              <a:solidFill>
                <a:srgbClr val="95c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d5003"/>
                    </a:solidFill>
                    <a:latin typeface="Times New Roman"/>
                  </a:rPr>
                  <a:t>Schedul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d5003"/>
                    </a:solidFill>
                    <a:latin typeface="Times New Roman"/>
                  </a:rPr>
                  <a:t>Datab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9" name="bd07153_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4806720"/>
                <a:ext cx="1228680" cy="13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122-04F6-4B3B-AAE4-53C0F68861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158840" y="4508640"/>
            <a:ext cx="7238880" cy="20574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tSolve Infrastructur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930240" y="23749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930240" y="4432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3444840" y="1994040"/>
            <a:ext cx="2361960" cy="838080"/>
            <a:chOff x="3444840" y="1994040"/>
            <a:chExt cx="2361960" cy="838080"/>
          </a:xfrm>
        </p:grpSpPr>
        <p:grpSp>
          <p:nvGrpSpPr>
            <p:cNvPr id="1205" name=""/>
            <p:cNvGrpSpPr/>
            <p:nvPr/>
          </p:nvGrpSpPr>
          <p:grpSpPr>
            <a:xfrm>
              <a:off x="3749400" y="2451240"/>
              <a:ext cx="2057400" cy="380880"/>
              <a:chOff x="3749400" y="2451240"/>
              <a:chExt cx="2057400" cy="38088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49400" y="2451240"/>
                <a:ext cx="91440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92400" y="2451240"/>
                <a:ext cx="91440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rtr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3444840" y="1994040"/>
              <a:ext cx="2209680" cy="457200"/>
              <a:chOff x="3444840" y="1994040"/>
              <a:chExt cx="2209680" cy="457200"/>
            </a:xfrm>
          </p:grpSpPr>
          <p:sp>
            <p:nvSpPr>
              <p:cNvPr id="1209" name=""/>
              <p:cNvSpPr/>
              <p:nvPr/>
            </p:nvSpPr>
            <p:spPr>
              <a:xfrm>
                <a:off x="3444840" y="1994040"/>
                <a:ext cx="45720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4663800" y="1994040"/>
                <a:ext cx="60984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5273640" y="1994040"/>
                <a:ext cx="38088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206600" y="1994040"/>
                <a:ext cx="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765360" y="1079640"/>
            <a:ext cx="5574600" cy="914400"/>
            <a:chOff x="765360" y="1079640"/>
            <a:chExt cx="5574600" cy="914400"/>
          </a:xfrm>
        </p:grpSpPr>
        <p:sp>
          <p:nvSpPr>
            <p:cNvPr id="1214" name=""/>
            <p:cNvSpPr/>
            <p:nvPr/>
          </p:nvSpPr>
          <p:spPr>
            <a:xfrm>
              <a:off x="2759040" y="1536840"/>
              <a:ext cx="10663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78000" y="1536840"/>
              <a:ext cx="10666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CIR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73640" y="1536840"/>
              <a:ext cx="10663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ust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65360" y="107964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SEs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23640" y="4508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comp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149560" y="3822840"/>
            <a:ext cx="1143000" cy="1675800"/>
            <a:chOff x="2149560" y="3822840"/>
            <a:chExt cx="1143000" cy="1675800"/>
          </a:xfrm>
        </p:grpSpPr>
        <p:sp>
          <p:nvSpPr>
            <p:cNvPr id="1220" name=""/>
            <p:cNvSpPr/>
            <p:nvPr/>
          </p:nvSpPr>
          <p:spPr>
            <a:xfrm>
              <a:off x="2149560" y="4889160"/>
              <a:ext cx="1143000" cy="609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64040" y="3822840"/>
              <a:ext cx="9144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2" name=""/>
            <p:cNvCxnSpPr>
              <a:stCxn id="1221" idx="4"/>
              <a:endCxn id="1220" idx="0"/>
            </p:cNvCxnSpPr>
            <p:nvPr/>
          </p:nvCxnSpPr>
          <p:spPr>
            <a:xfrm>
              <a:off x="2720880" y="4356000"/>
              <a:ext cx="1080" cy="53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3" name=""/>
          <p:cNvGrpSpPr/>
          <p:nvPr/>
        </p:nvGrpSpPr>
        <p:grpSpPr>
          <a:xfrm>
            <a:off x="4889520" y="3822840"/>
            <a:ext cx="1143000" cy="1676160"/>
            <a:chOff x="4889520" y="3822840"/>
            <a:chExt cx="1143000" cy="1676160"/>
          </a:xfrm>
        </p:grpSpPr>
        <p:sp>
          <p:nvSpPr>
            <p:cNvPr id="1224" name=""/>
            <p:cNvSpPr/>
            <p:nvPr/>
          </p:nvSpPr>
          <p:spPr>
            <a:xfrm>
              <a:off x="4889520" y="4889520"/>
              <a:ext cx="1143000" cy="609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04000" y="3822840"/>
              <a:ext cx="9144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6" name=""/>
            <p:cNvCxnSpPr>
              <a:stCxn id="1225" idx="4"/>
              <a:endCxn id="1224" idx="0"/>
            </p:cNvCxnSpPr>
            <p:nvPr/>
          </p:nvCxnSpPr>
          <p:spPr>
            <a:xfrm>
              <a:off x="5460840" y="435600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7" name=""/>
          <p:cNvGrpSpPr/>
          <p:nvPr/>
        </p:nvGrpSpPr>
        <p:grpSpPr>
          <a:xfrm>
            <a:off x="324360" y="2908440"/>
            <a:ext cx="6930000" cy="2590200"/>
            <a:chOff x="324360" y="2908440"/>
            <a:chExt cx="6930000" cy="2590200"/>
          </a:xfrm>
        </p:grpSpPr>
        <p:sp>
          <p:nvSpPr>
            <p:cNvPr id="1228" name=""/>
            <p:cNvSpPr/>
            <p:nvPr/>
          </p:nvSpPr>
          <p:spPr>
            <a:xfrm>
              <a:off x="2301840" y="2908440"/>
              <a:ext cx="49525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20800" y="4889160"/>
              <a:ext cx="11426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35280" y="3822480"/>
              <a:ext cx="9140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24360" y="313668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2" name=""/>
            <p:cNvCxnSpPr>
              <a:stCxn id="1230" idx="4"/>
              <a:endCxn id="1229" idx="0"/>
            </p:cNvCxnSpPr>
            <p:nvPr/>
          </p:nvCxnSpPr>
          <p:spPr>
            <a:xfrm>
              <a:off x="4092120" y="4356000"/>
              <a:ext cx="1080" cy="53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3" name=""/>
            <p:cNvSpPr/>
            <p:nvPr/>
          </p:nvSpPr>
          <p:spPr>
            <a:xfrm>
              <a:off x="2300400" y="2908440"/>
              <a:ext cx="162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source Disco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88760" y="3213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ystem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330520" y="328896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source 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1600" y="2908440"/>
              <a:ext cx="130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ault 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3139920" y="5584680"/>
            <a:ext cx="735120" cy="752400"/>
            <a:chOff x="3139920" y="5584680"/>
            <a:chExt cx="735120" cy="752400"/>
          </a:xfrm>
        </p:grpSpPr>
        <p:sp>
          <p:nvSpPr>
            <p:cNvPr id="1238" name=""/>
            <p:cNvSpPr/>
            <p:nvPr/>
          </p:nvSpPr>
          <p:spPr>
            <a:xfrm>
              <a:off x="3268800" y="5987880"/>
              <a:ext cx="504720" cy="162000"/>
            </a:xfrm>
            <a:custGeom>
              <a:avLst/>
              <a:gdLst/>
              <a:ahLst/>
              <a:rect l="l" t="t" r="r" b="b"/>
              <a:pathLst>
                <a:path w="9870" h="3161">
                  <a:moveTo>
                    <a:pt x="9774" y="3161"/>
                  </a:moveTo>
                  <a:lnTo>
                    <a:pt x="9774" y="97"/>
                  </a:lnTo>
                  <a:lnTo>
                    <a:pt x="96" y="97"/>
                  </a:lnTo>
                  <a:lnTo>
                    <a:pt x="96" y="3161"/>
                  </a:lnTo>
                  <a:lnTo>
                    <a:pt x="0" y="3161"/>
                  </a:lnTo>
                  <a:lnTo>
                    <a:pt x="0" y="0"/>
                  </a:lnTo>
                  <a:lnTo>
                    <a:pt x="9870" y="0"/>
                  </a:lnTo>
                  <a:lnTo>
                    <a:pt x="9870" y="3161"/>
                  </a:lnTo>
                  <a:lnTo>
                    <a:pt x="9774" y="3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68800" y="5776920"/>
              <a:ext cx="504720" cy="161640"/>
            </a:xfrm>
            <a:custGeom>
              <a:avLst/>
              <a:gdLst/>
              <a:ahLst/>
              <a:rect l="l" t="t" r="r" b="b"/>
              <a:pathLst>
                <a:path w="9870" h="3161">
                  <a:moveTo>
                    <a:pt x="9870" y="0"/>
                  </a:moveTo>
                  <a:lnTo>
                    <a:pt x="9870" y="3161"/>
                  </a:lnTo>
                  <a:lnTo>
                    <a:pt x="0" y="3161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3064"/>
                  </a:lnTo>
                  <a:lnTo>
                    <a:pt x="9774" y="3064"/>
                  </a:lnTo>
                  <a:lnTo>
                    <a:pt x="9774" y="0"/>
                  </a:lnTo>
                  <a:lnTo>
                    <a:pt x="98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641760" y="5702040"/>
              <a:ext cx="233280" cy="125640"/>
            </a:xfrm>
            <a:custGeom>
              <a:avLst/>
              <a:gdLst/>
              <a:ahLst/>
              <a:rect l="l" t="t" r="r" b="b"/>
              <a:pathLst>
                <a:path w="4559" h="2450">
                  <a:moveTo>
                    <a:pt x="4559" y="444"/>
                  </a:moveTo>
                  <a:lnTo>
                    <a:pt x="4559" y="1445"/>
                  </a:lnTo>
                  <a:lnTo>
                    <a:pt x="3438" y="2450"/>
                  </a:lnTo>
                  <a:lnTo>
                    <a:pt x="0" y="1778"/>
                  </a:lnTo>
                  <a:lnTo>
                    <a:pt x="0" y="711"/>
                  </a:lnTo>
                  <a:lnTo>
                    <a:pt x="1441" y="0"/>
                  </a:lnTo>
                  <a:lnTo>
                    <a:pt x="4559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53000" y="5762520"/>
              <a:ext cx="586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53000" y="5789520"/>
              <a:ext cx="58680" cy="2844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10"/>
                  </a:moveTo>
                  <a:lnTo>
                    <a:pt x="0" y="0"/>
                  </a:lnTo>
                  <a:lnTo>
                    <a:pt x="0" y="339"/>
                  </a:lnTo>
                  <a:lnTo>
                    <a:pt x="1159" y="565"/>
                  </a:lnTo>
                  <a:lnTo>
                    <a:pt x="115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9600" y="5736960"/>
              <a:ext cx="46080" cy="76320"/>
            </a:xfrm>
            <a:custGeom>
              <a:avLst/>
              <a:gdLst/>
              <a:ahLst/>
              <a:rect l="l" t="t" r="r" b="b"/>
              <a:pathLst>
                <a:path w="904" h="1506">
                  <a:moveTo>
                    <a:pt x="904" y="0"/>
                  </a:moveTo>
                  <a:lnTo>
                    <a:pt x="0" y="686"/>
                  </a:lnTo>
                  <a:lnTo>
                    <a:pt x="0" y="1506"/>
                  </a:lnTo>
                  <a:lnTo>
                    <a:pt x="904" y="698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49680" y="5744880"/>
              <a:ext cx="95400" cy="604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2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60840" y="5589360"/>
              <a:ext cx="195120" cy="168480"/>
            </a:xfrm>
            <a:custGeom>
              <a:avLst/>
              <a:gdLst/>
              <a:ahLst/>
              <a:rect l="l" t="t" r="r" b="b"/>
              <a:pathLst>
                <a:path w="3822" h="3300">
                  <a:moveTo>
                    <a:pt x="3554" y="2899"/>
                  </a:moveTo>
                  <a:lnTo>
                    <a:pt x="3046" y="3300"/>
                  </a:lnTo>
                  <a:lnTo>
                    <a:pt x="0" y="2768"/>
                  </a:lnTo>
                  <a:lnTo>
                    <a:pt x="0" y="356"/>
                  </a:lnTo>
                  <a:lnTo>
                    <a:pt x="657" y="144"/>
                  </a:lnTo>
                  <a:lnTo>
                    <a:pt x="1246" y="204"/>
                  </a:lnTo>
                  <a:lnTo>
                    <a:pt x="1805" y="0"/>
                  </a:lnTo>
                  <a:lnTo>
                    <a:pt x="3822" y="191"/>
                  </a:lnTo>
                  <a:lnTo>
                    <a:pt x="3822" y="2267"/>
                  </a:lnTo>
                  <a:lnTo>
                    <a:pt x="3554" y="2467"/>
                  </a:lnTo>
                  <a:lnTo>
                    <a:pt x="3554" y="2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19600" y="5621040"/>
              <a:ext cx="14400" cy="123840"/>
            </a:xfrm>
            <a:custGeom>
              <a:avLst/>
              <a:gdLst/>
              <a:ahLst/>
              <a:rect l="l" t="t" r="r" b="b"/>
              <a:pathLst>
                <a:path w="286" h="2405">
                  <a:moveTo>
                    <a:pt x="286" y="2180"/>
                  </a:moveTo>
                  <a:lnTo>
                    <a:pt x="286" y="0"/>
                  </a:lnTo>
                  <a:lnTo>
                    <a:pt x="0" y="142"/>
                  </a:lnTo>
                  <a:lnTo>
                    <a:pt x="0" y="2405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41920" y="5608440"/>
              <a:ext cx="6120" cy="96840"/>
            </a:xfrm>
            <a:custGeom>
              <a:avLst/>
              <a:gdLst/>
              <a:ahLst/>
              <a:rect l="l" t="t" r="r" b="b"/>
              <a:pathLst>
                <a:path w="106" h="1875">
                  <a:moveTo>
                    <a:pt x="0" y="50"/>
                  </a:moveTo>
                  <a:lnTo>
                    <a:pt x="0" y="1875"/>
                  </a:lnTo>
                  <a:lnTo>
                    <a:pt x="106" y="1795"/>
                  </a:lnTo>
                  <a:lnTo>
                    <a:pt x="10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68760" y="5614920"/>
              <a:ext cx="142920" cy="133200"/>
            </a:xfrm>
            <a:custGeom>
              <a:avLst/>
              <a:gdLst/>
              <a:ahLst/>
              <a:rect l="l" t="t" r="r" b="b"/>
              <a:pathLst>
                <a:path w="2785" h="2614">
                  <a:moveTo>
                    <a:pt x="0" y="0"/>
                  </a:moveTo>
                  <a:lnTo>
                    <a:pt x="0" y="2128"/>
                  </a:lnTo>
                  <a:lnTo>
                    <a:pt x="2785" y="2614"/>
                  </a:lnTo>
                  <a:lnTo>
                    <a:pt x="2785" y="3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81360" y="5627520"/>
              <a:ext cx="115920" cy="106200"/>
            </a:xfrm>
            <a:custGeom>
              <a:avLst/>
              <a:gdLst/>
              <a:ahLst/>
              <a:rect l="l" t="t" r="r" b="b"/>
              <a:pathLst>
                <a:path w="2269" h="2051">
                  <a:moveTo>
                    <a:pt x="0" y="1678"/>
                  </a:moveTo>
                  <a:lnTo>
                    <a:pt x="0" y="0"/>
                  </a:lnTo>
                  <a:lnTo>
                    <a:pt x="2269" y="261"/>
                  </a:lnTo>
                  <a:lnTo>
                    <a:pt x="2269" y="2051"/>
                  </a:lnTo>
                  <a:lnTo>
                    <a:pt x="0" y="1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89280" y="5636880"/>
              <a:ext cx="100080" cy="86040"/>
            </a:xfrm>
            <a:custGeom>
              <a:avLst/>
              <a:gdLst/>
              <a:ahLst/>
              <a:rect l="l" t="t" r="r" b="b"/>
              <a:pathLst>
                <a:path w="1947" h="1680">
                  <a:moveTo>
                    <a:pt x="0" y="1360"/>
                  </a:moveTo>
                  <a:lnTo>
                    <a:pt x="1947" y="1680"/>
                  </a:lnTo>
                  <a:lnTo>
                    <a:pt x="1947" y="224"/>
                  </a:lnTo>
                  <a:lnTo>
                    <a:pt x="0" y="0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139920" y="5697360"/>
              <a:ext cx="233640" cy="125280"/>
            </a:xfrm>
            <a:custGeom>
              <a:avLst/>
              <a:gdLst/>
              <a:ahLst/>
              <a:rect l="l" t="t" r="r" b="b"/>
              <a:pathLst>
                <a:path w="4559" h="2449">
                  <a:moveTo>
                    <a:pt x="4559" y="443"/>
                  </a:moveTo>
                  <a:lnTo>
                    <a:pt x="4559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1"/>
                  </a:lnTo>
                  <a:lnTo>
                    <a:pt x="1441" y="0"/>
                  </a:lnTo>
                  <a:lnTo>
                    <a:pt x="4559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51160" y="5759280"/>
              <a:ext cx="60480" cy="2700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51160" y="578484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10"/>
                  </a:moveTo>
                  <a:lnTo>
                    <a:pt x="0" y="0"/>
                  </a:lnTo>
                  <a:lnTo>
                    <a:pt x="0" y="339"/>
                  </a:lnTo>
                  <a:lnTo>
                    <a:pt x="1159" y="565"/>
                  </a:lnTo>
                  <a:lnTo>
                    <a:pt x="115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319560" y="5732280"/>
              <a:ext cx="46080" cy="77760"/>
            </a:xfrm>
            <a:custGeom>
              <a:avLst/>
              <a:gdLst/>
              <a:ahLst/>
              <a:rect l="l" t="t" r="r" b="b"/>
              <a:pathLst>
                <a:path w="903" h="1506">
                  <a:moveTo>
                    <a:pt x="903" y="0"/>
                  </a:moveTo>
                  <a:lnTo>
                    <a:pt x="0" y="685"/>
                  </a:lnTo>
                  <a:lnTo>
                    <a:pt x="0" y="1506"/>
                  </a:lnTo>
                  <a:lnTo>
                    <a:pt x="903" y="697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49640" y="5742000"/>
              <a:ext cx="93600" cy="586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59000" y="5584680"/>
              <a:ext cx="196920" cy="168120"/>
            </a:xfrm>
            <a:custGeom>
              <a:avLst/>
              <a:gdLst/>
              <a:ahLst/>
              <a:rect l="l" t="t" r="r" b="b"/>
              <a:pathLst>
                <a:path w="3822" h="3300">
                  <a:moveTo>
                    <a:pt x="3554" y="2899"/>
                  </a:moveTo>
                  <a:lnTo>
                    <a:pt x="3046" y="3300"/>
                  </a:lnTo>
                  <a:lnTo>
                    <a:pt x="0" y="2768"/>
                  </a:lnTo>
                  <a:lnTo>
                    <a:pt x="0" y="356"/>
                  </a:lnTo>
                  <a:lnTo>
                    <a:pt x="657" y="143"/>
                  </a:lnTo>
                  <a:lnTo>
                    <a:pt x="1246" y="204"/>
                  </a:lnTo>
                  <a:lnTo>
                    <a:pt x="1805" y="0"/>
                  </a:lnTo>
                  <a:lnTo>
                    <a:pt x="3822" y="191"/>
                  </a:lnTo>
                  <a:lnTo>
                    <a:pt x="3822" y="2266"/>
                  </a:lnTo>
                  <a:lnTo>
                    <a:pt x="3554" y="2466"/>
                  </a:lnTo>
                  <a:lnTo>
                    <a:pt x="3554" y="2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7760" y="5618160"/>
              <a:ext cx="15840" cy="122040"/>
            </a:xfrm>
            <a:custGeom>
              <a:avLst/>
              <a:gdLst/>
              <a:ahLst/>
              <a:rect l="l" t="t" r="r" b="b"/>
              <a:pathLst>
                <a:path w="286" h="2405">
                  <a:moveTo>
                    <a:pt x="286" y="2180"/>
                  </a:moveTo>
                  <a:lnTo>
                    <a:pt x="286" y="0"/>
                  </a:lnTo>
                  <a:lnTo>
                    <a:pt x="0" y="143"/>
                  </a:lnTo>
                  <a:lnTo>
                    <a:pt x="0" y="2405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341880" y="5605200"/>
              <a:ext cx="4680" cy="95400"/>
            </a:xfrm>
            <a:custGeom>
              <a:avLst/>
              <a:gdLst/>
              <a:ahLst/>
              <a:rect l="l" t="t" r="r" b="b"/>
              <a:pathLst>
                <a:path w="106" h="1874">
                  <a:moveTo>
                    <a:pt x="0" y="50"/>
                  </a:moveTo>
                  <a:lnTo>
                    <a:pt x="0" y="1874"/>
                  </a:lnTo>
                  <a:lnTo>
                    <a:pt x="106" y="1795"/>
                  </a:lnTo>
                  <a:lnTo>
                    <a:pt x="10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166920" y="5609880"/>
              <a:ext cx="142920" cy="135000"/>
            </a:xfrm>
            <a:custGeom>
              <a:avLst/>
              <a:gdLst/>
              <a:ahLst/>
              <a:rect l="l" t="t" r="r" b="b"/>
              <a:pathLst>
                <a:path w="2785" h="2615">
                  <a:moveTo>
                    <a:pt x="0" y="0"/>
                  </a:moveTo>
                  <a:lnTo>
                    <a:pt x="0" y="2128"/>
                  </a:lnTo>
                  <a:lnTo>
                    <a:pt x="2785" y="2615"/>
                  </a:lnTo>
                  <a:lnTo>
                    <a:pt x="2785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181320" y="5624280"/>
              <a:ext cx="115920" cy="104760"/>
            </a:xfrm>
            <a:custGeom>
              <a:avLst/>
              <a:gdLst/>
              <a:ahLst/>
              <a:rect l="l" t="t" r="r" b="b"/>
              <a:pathLst>
                <a:path w="2270" h="2050">
                  <a:moveTo>
                    <a:pt x="0" y="1677"/>
                  </a:moveTo>
                  <a:lnTo>
                    <a:pt x="0" y="0"/>
                  </a:lnTo>
                  <a:lnTo>
                    <a:pt x="2270" y="260"/>
                  </a:lnTo>
                  <a:lnTo>
                    <a:pt x="2270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89240" y="5634000"/>
              <a:ext cx="100080" cy="85680"/>
            </a:xfrm>
            <a:custGeom>
              <a:avLst/>
              <a:gdLst/>
              <a:ahLst/>
              <a:rect l="l" t="t" r="r" b="b"/>
              <a:pathLst>
                <a:path w="1947" h="1679">
                  <a:moveTo>
                    <a:pt x="0" y="1358"/>
                  </a:moveTo>
                  <a:lnTo>
                    <a:pt x="1947" y="1679"/>
                  </a:lnTo>
                  <a:lnTo>
                    <a:pt x="1947" y="223"/>
                  </a:lnTo>
                  <a:lnTo>
                    <a:pt x="0" y="0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37080" y="6211800"/>
              <a:ext cx="233280" cy="125280"/>
            </a:xfrm>
            <a:custGeom>
              <a:avLst/>
              <a:gdLst/>
              <a:ahLst/>
              <a:rect l="l" t="t" r="r" b="b"/>
              <a:pathLst>
                <a:path w="4560" h="2449">
                  <a:moveTo>
                    <a:pt x="4560" y="444"/>
                  </a:moveTo>
                  <a:lnTo>
                    <a:pt x="4560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0"/>
                  </a:lnTo>
                  <a:lnTo>
                    <a:pt x="1441" y="0"/>
                  </a:lnTo>
                  <a:lnTo>
                    <a:pt x="456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47960" y="627372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47960" y="6298920"/>
              <a:ext cx="60480" cy="2880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09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1159" y="565"/>
                  </a:lnTo>
                  <a:lnTo>
                    <a:pt x="1159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16360" y="6246720"/>
              <a:ext cx="46080" cy="77760"/>
            </a:xfrm>
            <a:custGeom>
              <a:avLst/>
              <a:gdLst/>
              <a:ahLst/>
              <a:rect l="l" t="t" r="r" b="b"/>
              <a:pathLst>
                <a:path w="904" h="1505">
                  <a:moveTo>
                    <a:pt x="904" y="0"/>
                  </a:moveTo>
                  <a:lnTo>
                    <a:pt x="0" y="685"/>
                  </a:lnTo>
                  <a:lnTo>
                    <a:pt x="0" y="1505"/>
                  </a:lnTo>
                  <a:lnTo>
                    <a:pt x="904" y="697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45000" y="6256080"/>
              <a:ext cx="95040" cy="58680"/>
            </a:xfrm>
            <a:custGeom>
              <a:avLst/>
              <a:gdLst/>
              <a:ahLst/>
              <a:rect l="l" t="t" r="r" b="b"/>
              <a:pathLst>
                <a:path w="1853" h="1151">
                  <a:moveTo>
                    <a:pt x="1853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3" y="1151"/>
                  </a:lnTo>
                  <a:lnTo>
                    <a:pt x="1853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656160" y="6099120"/>
              <a:ext cx="195120" cy="169920"/>
            </a:xfrm>
            <a:custGeom>
              <a:avLst/>
              <a:gdLst/>
              <a:ahLst/>
              <a:rect l="l" t="t" r="r" b="b"/>
              <a:pathLst>
                <a:path w="3822" h="3299">
                  <a:moveTo>
                    <a:pt x="3553" y="2898"/>
                  </a:moveTo>
                  <a:lnTo>
                    <a:pt x="3045" y="3299"/>
                  </a:lnTo>
                  <a:lnTo>
                    <a:pt x="0" y="2769"/>
                  </a:lnTo>
                  <a:lnTo>
                    <a:pt x="0" y="355"/>
                  </a:lnTo>
                  <a:lnTo>
                    <a:pt x="656" y="144"/>
                  </a:lnTo>
                  <a:lnTo>
                    <a:pt x="1245" y="203"/>
                  </a:lnTo>
                  <a:lnTo>
                    <a:pt x="1805" y="0"/>
                  </a:lnTo>
                  <a:lnTo>
                    <a:pt x="3822" y="190"/>
                  </a:lnTo>
                  <a:lnTo>
                    <a:pt x="3822" y="2267"/>
                  </a:lnTo>
                  <a:lnTo>
                    <a:pt x="3553" y="2466"/>
                  </a:lnTo>
                  <a:lnTo>
                    <a:pt x="3553" y="28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14920" y="6132240"/>
              <a:ext cx="14040" cy="122400"/>
            </a:xfrm>
            <a:custGeom>
              <a:avLst/>
              <a:gdLst/>
              <a:ahLst/>
              <a:rect l="l" t="t" r="r" b="b"/>
              <a:pathLst>
                <a:path w="285" h="2406">
                  <a:moveTo>
                    <a:pt x="285" y="2180"/>
                  </a:moveTo>
                  <a:lnTo>
                    <a:pt x="285" y="0"/>
                  </a:lnTo>
                  <a:lnTo>
                    <a:pt x="0" y="143"/>
                  </a:lnTo>
                  <a:lnTo>
                    <a:pt x="0" y="2406"/>
                  </a:lnTo>
                  <a:lnTo>
                    <a:pt x="285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38680" y="6119640"/>
              <a:ext cx="4680" cy="95400"/>
            </a:xfrm>
            <a:custGeom>
              <a:avLst/>
              <a:gdLst/>
              <a:ahLst/>
              <a:rect l="l" t="t" r="r" b="b"/>
              <a:pathLst>
                <a:path w="107" h="1874">
                  <a:moveTo>
                    <a:pt x="0" y="51"/>
                  </a:moveTo>
                  <a:lnTo>
                    <a:pt x="0" y="1874"/>
                  </a:lnTo>
                  <a:lnTo>
                    <a:pt x="107" y="1794"/>
                  </a:lnTo>
                  <a:lnTo>
                    <a:pt x="10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64080" y="6124320"/>
              <a:ext cx="142920" cy="135000"/>
            </a:xfrm>
            <a:custGeom>
              <a:avLst/>
              <a:gdLst/>
              <a:ahLst/>
              <a:rect l="l" t="t" r="r" b="b"/>
              <a:pathLst>
                <a:path w="2786" h="2614">
                  <a:moveTo>
                    <a:pt x="0" y="0"/>
                  </a:moveTo>
                  <a:lnTo>
                    <a:pt x="0" y="2129"/>
                  </a:lnTo>
                  <a:lnTo>
                    <a:pt x="2786" y="2614"/>
                  </a:lnTo>
                  <a:lnTo>
                    <a:pt x="2786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76680" y="6138720"/>
              <a:ext cx="117360" cy="104760"/>
            </a:xfrm>
            <a:custGeom>
              <a:avLst/>
              <a:gdLst/>
              <a:ahLst/>
              <a:rect l="l" t="t" r="r" b="b"/>
              <a:pathLst>
                <a:path w="2268" h="2050">
                  <a:moveTo>
                    <a:pt x="0" y="1677"/>
                  </a:moveTo>
                  <a:lnTo>
                    <a:pt x="0" y="0"/>
                  </a:lnTo>
                  <a:lnTo>
                    <a:pt x="2268" y="261"/>
                  </a:lnTo>
                  <a:lnTo>
                    <a:pt x="2268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6040" y="6148080"/>
              <a:ext cx="98640" cy="86040"/>
            </a:xfrm>
            <a:custGeom>
              <a:avLst/>
              <a:gdLst/>
              <a:ahLst/>
              <a:rect l="l" t="t" r="r" b="b"/>
              <a:pathLst>
                <a:path w="1946" h="1679">
                  <a:moveTo>
                    <a:pt x="0" y="1359"/>
                  </a:moveTo>
                  <a:lnTo>
                    <a:pt x="1946" y="1679"/>
                  </a:lnTo>
                  <a:lnTo>
                    <a:pt x="1946" y="224"/>
                  </a:lnTo>
                  <a:lnTo>
                    <a:pt x="0" y="0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139920" y="6211800"/>
              <a:ext cx="233640" cy="125280"/>
            </a:xfrm>
            <a:custGeom>
              <a:avLst/>
              <a:gdLst/>
              <a:ahLst/>
              <a:rect l="l" t="t" r="r" b="b"/>
              <a:pathLst>
                <a:path w="4559" h="2449">
                  <a:moveTo>
                    <a:pt x="4559" y="444"/>
                  </a:moveTo>
                  <a:lnTo>
                    <a:pt x="4559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0"/>
                  </a:lnTo>
                  <a:lnTo>
                    <a:pt x="1441" y="0"/>
                  </a:lnTo>
                  <a:lnTo>
                    <a:pt x="4559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51160" y="627372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51160" y="6298920"/>
              <a:ext cx="60480" cy="2880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09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1159" y="565"/>
                  </a:lnTo>
                  <a:lnTo>
                    <a:pt x="1159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19560" y="6246720"/>
              <a:ext cx="46080" cy="77760"/>
            </a:xfrm>
            <a:custGeom>
              <a:avLst/>
              <a:gdLst/>
              <a:ahLst/>
              <a:rect l="l" t="t" r="r" b="b"/>
              <a:pathLst>
                <a:path w="903" h="1505">
                  <a:moveTo>
                    <a:pt x="903" y="0"/>
                  </a:moveTo>
                  <a:lnTo>
                    <a:pt x="0" y="685"/>
                  </a:lnTo>
                  <a:lnTo>
                    <a:pt x="0" y="1505"/>
                  </a:lnTo>
                  <a:lnTo>
                    <a:pt x="903" y="697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9640" y="6256080"/>
              <a:ext cx="93600" cy="586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9000" y="6099120"/>
              <a:ext cx="196920" cy="169920"/>
            </a:xfrm>
            <a:custGeom>
              <a:avLst/>
              <a:gdLst/>
              <a:ahLst/>
              <a:rect l="l" t="t" r="r" b="b"/>
              <a:pathLst>
                <a:path w="3822" h="3299">
                  <a:moveTo>
                    <a:pt x="3554" y="2898"/>
                  </a:moveTo>
                  <a:lnTo>
                    <a:pt x="3046" y="3299"/>
                  </a:lnTo>
                  <a:lnTo>
                    <a:pt x="0" y="2769"/>
                  </a:lnTo>
                  <a:lnTo>
                    <a:pt x="0" y="355"/>
                  </a:lnTo>
                  <a:lnTo>
                    <a:pt x="657" y="144"/>
                  </a:lnTo>
                  <a:lnTo>
                    <a:pt x="1246" y="203"/>
                  </a:lnTo>
                  <a:lnTo>
                    <a:pt x="1805" y="0"/>
                  </a:lnTo>
                  <a:lnTo>
                    <a:pt x="3822" y="190"/>
                  </a:lnTo>
                  <a:lnTo>
                    <a:pt x="3822" y="2267"/>
                  </a:lnTo>
                  <a:lnTo>
                    <a:pt x="3554" y="2466"/>
                  </a:lnTo>
                  <a:lnTo>
                    <a:pt x="3554" y="28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17760" y="6132240"/>
              <a:ext cx="15840" cy="122400"/>
            </a:xfrm>
            <a:custGeom>
              <a:avLst/>
              <a:gdLst/>
              <a:ahLst/>
              <a:rect l="l" t="t" r="r" b="b"/>
              <a:pathLst>
                <a:path w="286" h="2406">
                  <a:moveTo>
                    <a:pt x="286" y="2180"/>
                  </a:moveTo>
                  <a:lnTo>
                    <a:pt x="286" y="0"/>
                  </a:lnTo>
                  <a:lnTo>
                    <a:pt x="0" y="143"/>
                  </a:lnTo>
                  <a:lnTo>
                    <a:pt x="0" y="2406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41880" y="6119640"/>
              <a:ext cx="4680" cy="95400"/>
            </a:xfrm>
            <a:custGeom>
              <a:avLst/>
              <a:gdLst/>
              <a:ahLst/>
              <a:rect l="l" t="t" r="r" b="b"/>
              <a:pathLst>
                <a:path w="106" h="1874">
                  <a:moveTo>
                    <a:pt x="0" y="51"/>
                  </a:moveTo>
                  <a:lnTo>
                    <a:pt x="0" y="1874"/>
                  </a:lnTo>
                  <a:lnTo>
                    <a:pt x="106" y="1794"/>
                  </a:lnTo>
                  <a:lnTo>
                    <a:pt x="106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166920" y="6124320"/>
              <a:ext cx="142920" cy="135000"/>
            </a:xfrm>
            <a:custGeom>
              <a:avLst/>
              <a:gdLst/>
              <a:ahLst/>
              <a:rect l="l" t="t" r="r" b="b"/>
              <a:pathLst>
                <a:path w="2785" h="2614">
                  <a:moveTo>
                    <a:pt x="0" y="0"/>
                  </a:moveTo>
                  <a:lnTo>
                    <a:pt x="0" y="2129"/>
                  </a:lnTo>
                  <a:lnTo>
                    <a:pt x="2785" y="2614"/>
                  </a:lnTo>
                  <a:lnTo>
                    <a:pt x="2785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181320" y="6138720"/>
              <a:ext cx="115920" cy="104760"/>
            </a:xfrm>
            <a:custGeom>
              <a:avLst/>
              <a:gdLst/>
              <a:ahLst/>
              <a:rect l="l" t="t" r="r" b="b"/>
              <a:pathLst>
                <a:path w="2270" h="2050">
                  <a:moveTo>
                    <a:pt x="0" y="1677"/>
                  </a:moveTo>
                  <a:lnTo>
                    <a:pt x="0" y="0"/>
                  </a:lnTo>
                  <a:lnTo>
                    <a:pt x="2270" y="261"/>
                  </a:lnTo>
                  <a:lnTo>
                    <a:pt x="2270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189240" y="6148080"/>
              <a:ext cx="100080" cy="86040"/>
            </a:xfrm>
            <a:custGeom>
              <a:avLst/>
              <a:gdLst/>
              <a:ahLst/>
              <a:rect l="l" t="t" r="r" b="b"/>
              <a:pathLst>
                <a:path w="1947" h="1679">
                  <a:moveTo>
                    <a:pt x="0" y="1359"/>
                  </a:moveTo>
                  <a:lnTo>
                    <a:pt x="1947" y="1679"/>
                  </a:lnTo>
                  <a:lnTo>
                    <a:pt x="1947" y="224"/>
                  </a:lnTo>
                  <a:lnTo>
                    <a:pt x="0" y="0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22520" y="5794200"/>
              <a:ext cx="198720" cy="297000"/>
            </a:xfrm>
            <a:custGeom>
              <a:avLst/>
              <a:gdLst/>
              <a:ahLst/>
              <a:rect l="l" t="t" r="r" b="b"/>
              <a:pathLst>
                <a:path w="3862" h="5813">
                  <a:moveTo>
                    <a:pt x="3862" y="4120"/>
                  </a:moveTo>
                  <a:lnTo>
                    <a:pt x="2151" y="5813"/>
                  </a:lnTo>
                  <a:lnTo>
                    <a:pt x="0" y="5449"/>
                  </a:lnTo>
                  <a:lnTo>
                    <a:pt x="0" y="925"/>
                  </a:lnTo>
                  <a:lnTo>
                    <a:pt x="1942" y="0"/>
                  </a:lnTo>
                  <a:lnTo>
                    <a:pt x="3862" y="175"/>
                  </a:lnTo>
                  <a:lnTo>
                    <a:pt x="3862" y="4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30440" y="5848200"/>
              <a:ext cx="96840" cy="233280"/>
            </a:xfrm>
            <a:custGeom>
              <a:avLst/>
              <a:gdLst/>
              <a:ahLst/>
              <a:rect l="l" t="t" r="r" b="b"/>
              <a:pathLst>
                <a:path w="1882" h="4566">
                  <a:moveTo>
                    <a:pt x="1882" y="184"/>
                  </a:moveTo>
                  <a:lnTo>
                    <a:pt x="0" y="0"/>
                  </a:lnTo>
                  <a:lnTo>
                    <a:pt x="0" y="4248"/>
                  </a:lnTo>
                  <a:lnTo>
                    <a:pt x="1882" y="4566"/>
                  </a:lnTo>
                  <a:lnTo>
                    <a:pt x="1882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35200" y="5813280"/>
              <a:ext cx="76320" cy="263520"/>
            </a:xfrm>
            <a:custGeom>
              <a:avLst/>
              <a:gdLst/>
              <a:ahLst/>
              <a:rect l="l" t="t" r="r" b="b"/>
              <a:pathLst>
                <a:path w="1497" h="5149">
                  <a:moveTo>
                    <a:pt x="1497" y="0"/>
                  </a:moveTo>
                  <a:lnTo>
                    <a:pt x="0" y="838"/>
                  </a:lnTo>
                  <a:lnTo>
                    <a:pt x="0" y="5149"/>
                  </a:lnTo>
                  <a:lnTo>
                    <a:pt x="1497" y="3668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40160" y="5859360"/>
              <a:ext cx="76320" cy="101520"/>
            </a:xfrm>
            <a:custGeom>
              <a:avLst/>
              <a:gdLst/>
              <a:ahLst/>
              <a:rect l="l" t="t" r="r" b="b"/>
              <a:pathLst>
                <a:path w="1480" h="1963">
                  <a:moveTo>
                    <a:pt x="0" y="0"/>
                  </a:moveTo>
                  <a:lnTo>
                    <a:pt x="1480" y="154"/>
                  </a:lnTo>
                  <a:lnTo>
                    <a:pt x="1480" y="1963"/>
                  </a:lnTo>
                  <a:lnTo>
                    <a:pt x="0" y="17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448080" y="5910120"/>
              <a:ext cx="58680" cy="20520"/>
            </a:xfrm>
            <a:custGeom>
              <a:avLst/>
              <a:gdLst/>
              <a:ahLst/>
              <a:rect l="l" t="t" r="r" b="b"/>
              <a:pathLst>
                <a:path w="1158" h="383">
                  <a:moveTo>
                    <a:pt x="1158" y="136"/>
                  </a:moveTo>
                  <a:lnTo>
                    <a:pt x="0" y="0"/>
                  </a:lnTo>
                  <a:lnTo>
                    <a:pt x="0" y="241"/>
                  </a:lnTo>
                  <a:lnTo>
                    <a:pt x="1158" y="383"/>
                  </a:lnTo>
                  <a:lnTo>
                    <a:pt x="115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448080" y="5889600"/>
              <a:ext cx="58680" cy="19080"/>
            </a:xfrm>
            <a:custGeom>
              <a:avLst/>
              <a:gdLst/>
              <a:ahLst/>
              <a:rect l="l" t="t" r="r" b="b"/>
              <a:pathLst>
                <a:path w="1158" h="377">
                  <a:moveTo>
                    <a:pt x="0" y="240"/>
                  </a:moveTo>
                  <a:lnTo>
                    <a:pt x="1158" y="377"/>
                  </a:lnTo>
                  <a:lnTo>
                    <a:pt x="1158" y="128"/>
                  </a:lnTo>
                  <a:lnTo>
                    <a:pt x="0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448080" y="5868720"/>
              <a:ext cx="58680" cy="19080"/>
            </a:xfrm>
            <a:custGeom>
              <a:avLst/>
              <a:gdLst/>
              <a:ahLst/>
              <a:rect l="l" t="t" r="r" b="b"/>
              <a:pathLst>
                <a:path w="1158" h="369">
                  <a:moveTo>
                    <a:pt x="0" y="242"/>
                  </a:moveTo>
                  <a:lnTo>
                    <a:pt x="1158" y="369"/>
                  </a:lnTo>
                  <a:lnTo>
                    <a:pt x="1158" y="121"/>
                  </a:lnTo>
                  <a:lnTo>
                    <a:pt x="0" y="0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448080" y="5930640"/>
              <a:ext cx="58680" cy="20880"/>
            </a:xfrm>
            <a:custGeom>
              <a:avLst/>
              <a:gdLst/>
              <a:ahLst/>
              <a:rect l="l" t="t" r="r" b="b"/>
              <a:pathLst>
                <a:path w="1158" h="391">
                  <a:moveTo>
                    <a:pt x="0" y="0"/>
                  </a:moveTo>
                  <a:lnTo>
                    <a:pt x="0" y="241"/>
                  </a:lnTo>
                  <a:lnTo>
                    <a:pt x="1158" y="391"/>
                  </a:lnTo>
                  <a:lnTo>
                    <a:pt x="1158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2" name="bs01635_" descr=""/>
          <p:cNvPicPr/>
          <p:nvPr/>
        </p:nvPicPr>
        <p:blipFill>
          <a:blip r:embed="rId1"/>
          <a:stretch/>
        </p:blipFill>
        <p:spPr>
          <a:xfrm>
            <a:off x="6340320" y="5499000"/>
            <a:ext cx="860760" cy="851040"/>
          </a:xfrm>
          <a:prstGeom prst="rect">
            <a:avLst/>
          </a:prstGeom>
          <a:ln w="0">
            <a:noFill/>
          </a:ln>
        </p:spPr>
      </p:pic>
      <p:grpSp>
        <p:nvGrpSpPr>
          <p:cNvPr id="1293" name=""/>
          <p:cNvGrpSpPr/>
          <p:nvPr/>
        </p:nvGrpSpPr>
        <p:grpSpPr>
          <a:xfrm>
            <a:off x="4816440" y="5651640"/>
            <a:ext cx="762120" cy="914040"/>
            <a:chOff x="4816440" y="5651640"/>
            <a:chExt cx="762120" cy="914040"/>
          </a:xfrm>
        </p:grpSpPr>
        <p:sp>
          <p:nvSpPr>
            <p:cNvPr id="1294" name=""/>
            <p:cNvSpPr/>
            <p:nvPr/>
          </p:nvSpPr>
          <p:spPr>
            <a:xfrm>
              <a:off x="4888800" y="565164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179320" y="582552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816440" y="599976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3B4-DF25-48FC-8EFD-86A916C61B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GRID application are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05120" y="1363320"/>
            <a:ext cx="5333760" cy="290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igh throughpu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irtual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ata intenz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mining, 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eographical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7147080" y="3886200"/>
            <a:ext cx="1596600" cy="1766880"/>
            <a:chOff x="7147080" y="3886200"/>
            <a:chExt cx="1596600" cy="1766880"/>
          </a:xfrm>
        </p:grpSpPr>
        <p:grpSp>
          <p:nvGrpSpPr>
            <p:cNvPr id="1300" name=""/>
            <p:cNvGrpSpPr/>
            <p:nvPr/>
          </p:nvGrpSpPr>
          <p:grpSpPr>
            <a:xfrm>
              <a:off x="7358040" y="3886200"/>
              <a:ext cx="1385640" cy="1766880"/>
              <a:chOff x="7358040" y="3886200"/>
              <a:chExt cx="1385640" cy="1766880"/>
            </a:xfrm>
          </p:grpSpPr>
          <p:sp>
            <p:nvSpPr>
              <p:cNvPr id="1301" name=""/>
              <p:cNvSpPr/>
              <p:nvPr/>
            </p:nvSpPr>
            <p:spPr>
              <a:xfrm>
                <a:off x="7358040" y="3942000"/>
                <a:ext cx="138564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7401960" y="5265360"/>
                <a:ext cx="114120" cy="2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8178480" y="4035240"/>
                <a:ext cx="12240" cy="9828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516440" y="5515200"/>
                <a:ext cx="80928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8253000" y="3886200"/>
                <a:ext cx="15480" cy="10656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7147080" y="4051440"/>
              <a:ext cx="1441080" cy="1338120"/>
              <a:chOff x="7147080" y="4051440"/>
              <a:chExt cx="1441080" cy="1338120"/>
            </a:xfrm>
          </p:grpSpPr>
          <p:sp>
            <p:nvSpPr>
              <p:cNvPr id="1307" name=""/>
              <p:cNvSpPr/>
              <p:nvPr/>
            </p:nvSpPr>
            <p:spPr>
              <a:xfrm>
                <a:off x="7147080" y="4051440"/>
                <a:ext cx="144108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7147080" y="4191120"/>
                <a:ext cx="1341000" cy="993600"/>
                <a:chOff x="7147080" y="4191120"/>
                <a:chExt cx="1341000" cy="99360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7335720" y="455472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361280" y="4581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435800" y="4546800"/>
                  <a:ext cx="5040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147080" y="4579920"/>
                  <a:ext cx="43308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150040" y="471168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067600" y="4819680"/>
                  <a:ext cx="6480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197920" y="4853160"/>
                  <a:ext cx="11232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412120" y="5024520"/>
                  <a:ext cx="7596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281720" y="4411800"/>
                  <a:ext cx="3780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269120" y="443088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238880" y="4395960"/>
                  <a:ext cx="24732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343640" y="4191120"/>
                  <a:ext cx="104760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8172360" y="4473720"/>
                  <a:ext cx="9000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829640" y="4848480"/>
                  <a:ext cx="1692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967520" y="4881600"/>
                  <a:ext cx="21096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136000" y="4950000"/>
                  <a:ext cx="22824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316720" y="515952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524720" y="4934160"/>
                  <a:ext cx="2520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7" name=""/>
          <p:cNvSpPr/>
          <p:nvPr/>
        </p:nvSpPr>
        <p:spPr>
          <a:xfrm>
            <a:off x="1905120" y="5257800"/>
            <a:ext cx="53337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ele-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terpri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DC0-D4AF-401D-80B1-2DB3DF603C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otivation for super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Grand challenge proble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un weeks and months even on mainframe single processor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343400"/>
            <a:ext cx="693396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everal processo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igh-speed specialised internal networ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rder to solve grand challenge problems in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3657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007-2677-40E7-84DA-D037E9228A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152280"/>
            <a:ext cx="16002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066680" y="1981080"/>
            <a:ext cx="2666880" cy="1143000"/>
            <a:chOff x="1066680" y="1981080"/>
            <a:chExt cx="2666880" cy="1143000"/>
          </a:xfrm>
        </p:grpSpPr>
        <p:sp>
          <p:nvSpPr>
            <p:cNvPr id="1330" name=""/>
            <p:cNvSpPr/>
            <p:nvPr/>
          </p:nvSpPr>
          <p:spPr>
            <a:xfrm>
              <a:off x="1066680" y="281916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447560" y="1981080"/>
              <a:ext cx="2286000" cy="60948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1066680" y="3962520"/>
            <a:ext cx="2514600" cy="2771640"/>
            <a:chOff x="1066680" y="3962520"/>
            <a:chExt cx="2514600" cy="2771640"/>
          </a:xfrm>
        </p:grpSpPr>
        <p:sp>
          <p:nvSpPr>
            <p:cNvPr id="1333" name=""/>
            <p:cNvSpPr/>
            <p:nvPr/>
          </p:nvSpPr>
          <p:spPr>
            <a:xfrm>
              <a:off x="1066680" y="4724280"/>
              <a:ext cx="2219400" cy="2009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1143000" y="4952880"/>
              <a:ext cx="1905120" cy="1676520"/>
              <a:chOff x="1143000" y="4952880"/>
              <a:chExt cx="1905120" cy="1676520"/>
            </a:xfrm>
          </p:grpSpPr>
          <p:sp>
            <p:nvSpPr>
              <p:cNvPr id="1335" name=""/>
              <p:cNvSpPr/>
              <p:nvPr/>
            </p:nvSpPr>
            <p:spPr>
              <a:xfrm>
                <a:off x="114300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676520" y="4952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1430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76520" y="5410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20968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7432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20968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74320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4300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676520" y="5867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14300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676520" y="6324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20968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74320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20968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74320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>
              <a:off x="1752480" y="3962520"/>
              <a:ext cx="1828800" cy="609480"/>
            </a:xfrm>
            <a:prstGeom prst="wedgeEllipseCallout">
              <a:avLst>
                <a:gd name="adj1" fmla="val -20138"/>
                <a:gd name="adj2" fmla="val 9323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iendly Co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066680" y="1981080"/>
            <a:ext cx="2666880" cy="1143000"/>
            <a:chOff x="1066680" y="1981080"/>
            <a:chExt cx="2666880" cy="1143000"/>
          </a:xfrm>
        </p:grpSpPr>
        <p:sp>
          <p:nvSpPr>
            <p:cNvPr id="1353" name=""/>
            <p:cNvSpPr/>
            <p:nvPr/>
          </p:nvSpPr>
          <p:spPr>
            <a:xfrm>
              <a:off x="1066680" y="281916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47560" y="1981080"/>
              <a:ext cx="2286000" cy="60948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rs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380880" y="0"/>
            <a:ext cx="2210040" cy="3076560"/>
            <a:chOff x="380880" y="0"/>
            <a:chExt cx="2210040" cy="3076560"/>
          </a:xfrm>
        </p:grpSpPr>
        <p:grpSp>
          <p:nvGrpSpPr>
            <p:cNvPr id="1356" name=""/>
            <p:cNvGrpSpPr/>
            <p:nvPr/>
          </p:nvGrpSpPr>
          <p:grpSpPr>
            <a:xfrm>
              <a:off x="380880" y="0"/>
              <a:ext cx="2210040" cy="2895480"/>
              <a:chOff x="380880" y="0"/>
              <a:chExt cx="2210040" cy="289548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380880" y="2286000"/>
                <a:ext cx="304920" cy="609480"/>
                <a:chOff x="380880" y="2286000"/>
                <a:chExt cx="304920" cy="60948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380880" y="22860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80880" y="23623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80880" y="2438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80880" y="25146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80880" y="25909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80880" y="2666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80880" y="2743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80880" y="2819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762120" y="1295280"/>
                <a:ext cx="1828800" cy="609840"/>
              </a:xfrm>
              <a:prstGeom prst="wedgeEllipseCallout">
                <a:avLst>
                  <a:gd name="adj1" fmla="val -60416"/>
                  <a:gd name="adj2" fmla="val 106773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o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jo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7" name=""/>
              <p:cNvGrpSpPr/>
              <p:nvPr/>
            </p:nvGrpSpPr>
            <p:grpSpPr>
              <a:xfrm>
                <a:off x="380880" y="1676520"/>
                <a:ext cx="304920" cy="609480"/>
                <a:chOff x="380880" y="1676520"/>
                <a:chExt cx="304920" cy="6094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380880" y="16765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0880" y="17528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80880" y="18288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80880" y="19051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80880" y="19814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80880" y="20574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380880" y="21337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80880" y="22100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380880" y="1066680"/>
                <a:ext cx="304920" cy="609480"/>
                <a:chOff x="380880" y="1066680"/>
                <a:chExt cx="304920" cy="6094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80880" y="10666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80880" y="11430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80880" y="121896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80880" y="1295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80880" y="13716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0880" y="144756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80880" y="1523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80880" y="16002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380880" y="457200"/>
                <a:ext cx="304920" cy="609480"/>
                <a:chOff x="380880" y="457200"/>
                <a:chExt cx="304920" cy="60948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80880" y="457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80880" y="533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380880" y="6094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80880" y="6858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80880" y="7621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80880" y="8380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380880" y="9144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80880" y="9907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380880" y="0"/>
                <a:ext cx="304920" cy="609480"/>
                <a:chOff x="380880" y="0"/>
                <a:chExt cx="304920" cy="6094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380880" y="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80880" y="763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80880" y="152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380880" y="2286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80880" y="3049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80880" y="380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80880" y="457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380880" y="533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3" name=""/>
            <p:cNvSpPr/>
            <p:nvPr/>
          </p:nvSpPr>
          <p:spPr>
            <a:xfrm>
              <a:off x="685800" y="2743200"/>
              <a:ext cx="380880" cy="333360"/>
            </a:xfrm>
            <a:prstGeom prst="rightArrow">
              <a:avLst>
                <a:gd name="adj1" fmla="val 20259"/>
                <a:gd name="adj2" fmla="val 2332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09880" y="380880"/>
            <a:ext cx="5105520" cy="5791320"/>
            <a:chOff x="3809880" y="380880"/>
            <a:chExt cx="5105520" cy="5791320"/>
          </a:xfrm>
        </p:grpSpPr>
        <p:sp>
          <p:nvSpPr>
            <p:cNvPr id="1405" name=""/>
            <p:cNvSpPr/>
            <p:nvPr/>
          </p:nvSpPr>
          <p:spPr>
            <a:xfrm>
              <a:off x="3809880" y="1295280"/>
              <a:ext cx="5105520" cy="4876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6200" y="1752480"/>
              <a:ext cx="2219400" cy="2444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87640" y="4459320"/>
              <a:ext cx="17528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3963960" y="4735440"/>
              <a:ext cx="1371600" cy="1219320"/>
              <a:chOff x="3963960" y="4735440"/>
              <a:chExt cx="1371600" cy="1219320"/>
            </a:xfrm>
          </p:grpSpPr>
          <p:sp>
            <p:nvSpPr>
              <p:cNvPr id="1409" name=""/>
              <p:cNvSpPr/>
              <p:nvPr/>
            </p:nvSpPr>
            <p:spPr>
              <a:xfrm>
                <a:off x="3963960" y="47354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497480" y="47354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030640" y="47354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63960" y="51926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497480" y="51926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963960" y="56498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97480" y="56498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030640" y="51926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030640" y="56498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6400800" y="1752480"/>
              <a:ext cx="2219400" cy="423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3962520" y="1981080"/>
              <a:ext cx="1904760" cy="2133720"/>
              <a:chOff x="3962520" y="1981080"/>
              <a:chExt cx="1904760" cy="2133720"/>
            </a:xfrm>
          </p:grpSpPr>
          <p:sp>
            <p:nvSpPr>
              <p:cNvPr id="1420" name=""/>
              <p:cNvSpPr/>
              <p:nvPr/>
            </p:nvSpPr>
            <p:spPr>
              <a:xfrm>
                <a:off x="39625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49568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49568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2920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56272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02920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627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96252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49568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96252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49568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2920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56272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02920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6272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6252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49568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02920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56272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6553080" y="1981080"/>
              <a:ext cx="1904760" cy="3962520"/>
              <a:chOff x="6553080" y="1981080"/>
              <a:chExt cx="1904760" cy="3962520"/>
            </a:xfrm>
          </p:grpSpPr>
          <p:sp>
            <p:nvSpPr>
              <p:cNvPr id="1441" name=""/>
              <p:cNvSpPr/>
              <p:nvPr/>
            </p:nvSpPr>
            <p:spPr>
              <a:xfrm>
                <a:off x="655308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8624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55308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8624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1976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15328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61976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15328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55308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624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5530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08624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61976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815328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61976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1532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55308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08624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55308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086240" y="4267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61976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15328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619760" y="4267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15328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553080" y="4724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086240" y="4724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55308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086240" y="5181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619760" y="4724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153280" y="4724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619760" y="5181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15328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5530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086240" y="5638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619760" y="5638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1532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6477120" y="380880"/>
              <a:ext cx="2361960" cy="609840"/>
            </a:xfrm>
            <a:prstGeom prst="wedgeEllipseCallout">
              <a:avLst>
                <a:gd name="adj1" fmla="val -53560"/>
                <a:gd name="adj2" fmla="val 1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430520" y="19051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PB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071480" y="1828800"/>
              <a:ext cx="90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LS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56200" y="421956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on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1066680" y="2819520"/>
            <a:ext cx="304920" cy="304560"/>
            <a:chOff x="1066680" y="2819520"/>
            <a:chExt cx="304920" cy="304560"/>
          </a:xfrm>
        </p:grpSpPr>
        <p:sp>
          <p:nvSpPr>
            <p:cNvPr id="1482" name=""/>
            <p:cNvSpPr/>
            <p:nvPr/>
          </p:nvSpPr>
          <p:spPr>
            <a:xfrm>
              <a:off x="1066680" y="28195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095480" y="2857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143000" y="4952880"/>
            <a:ext cx="1905120" cy="1219320"/>
            <a:chOff x="1143000" y="4952880"/>
            <a:chExt cx="1905120" cy="1219320"/>
          </a:xfrm>
        </p:grpSpPr>
        <p:grpSp>
          <p:nvGrpSpPr>
            <p:cNvPr id="1485" name=""/>
            <p:cNvGrpSpPr/>
            <p:nvPr/>
          </p:nvGrpSpPr>
          <p:grpSpPr>
            <a:xfrm>
              <a:off x="1143000" y="5486400"/>
              <a:ext cx="304920" cy="304920"/>
              <a:chOff x="1143000" y="5486400"/>
              <a:chExt cx="304920" cy="304920"/>
            </a:xfrm>
          </p:grpSpPr>
          <p:sp>
            <p:nvSpPr>
              <p:cNvPr id="1486" name=""/>
              <p:cNvSpPr/>
              <p:nvPr/>
            </p:nvSpPr>
            <p:spPr>
              <a:xfrm>
                <a:off x="1143000" y="548640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171440" y="5524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2209680" y="5867280"/>
              <a:ext cx="304920" cy="304920"/>
              <a:chOff x="2209680" y="5867280"/>
              <a:chExt cx="304920" cy="304920"/>
            </a:xfrm>
          </p:grpSpPr>
          <p:sp>
            <p:nvSpPr>
              <p:cNvPr id="1489" name=""/>
              <p:cNvSpPr/>
              <p:nvPr/>
            </p:nvSpPr>
            <p:spPr>
              <a:xfrm>
                <a:off x="220968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238120" y="5905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2743200" y="4952880"/>
              <a:ext cx="304920" cy="304920"/>
              <a:chOff x="2743200" y="4952880"/>
              <a:chExt cx="304920" cy="304920"/>
            </a:xfrm>
          </p:grpSpPr>
          <p:sp>
            <p:nvSpPr>
              <p:cNvPr id="1492" name=""/>
              <p:cNvSpPr/>
              <p:nvPr/>
            </p:nvSpPr>
            <p:spPr>
              <a:xfrm>
                <a:off x="27432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771640" y="49910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4" name=""/>
          <p:cNvGrpSpPr/>
          <p:nvPr/>
        </p:nvGrpSpPr>
        <p:grpSpPr>
          <a:xfrm>
            <a:off x="4495680" y="2438280"/>
            <a:ext cx="3962160" cy="3505320"/>
            <a:chOff x="4495680" y="2438280"/>
            <a:chExt cx="3962160" cy="3505320"/>
          </a:xfrm>
        </p:grpSpPr>
        <p:grpSp>
          <p:nvGrpSpPr>
            <p:cNvPr id="1495" name=""/>
            <p:cNvGrpSpPr/>
            <p:nvPr/>
          </p:nvGrpSpPr>
          <p:grpSpPr>
            <a:xfrm>
              <a:off x="4495680" y="3352680"/>
              <a:ext cx="304560" cy="304920"/>
              <a:chOff x="4495680" y="3352680"/>
              <a:chExt cx="304560" cy="304920"/>
            </a:xfrm>
          </p:grpSpPr>
          <p:sp>
            <p:nvSpPr>
              <p:cNvPr id="1496" name=""/>
              <p:cNvSpPr/>
              <p:nvPr/>
            </p:nvSpPr>
            <p:spPr>
              <a:xfrm>
                <a:off x="44956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524120" y="3390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6553080" y="3352680"/>
              <a:ext cx="304560" cy="304920"/>
              <a:chOff x="6553080" y="3352680"/>
              <a:chExt cx="304560" cy="304920"/>
            </a:xfrm>
          </p:grpSpPr>
          <p:sp>
            <p:nvSpPr>
              <p:cNvPr id="1499" name=""/>
              <p:cNvSpPr/>
              <p:nvPr/>
            </p:nvSpPr>
            <p:spPr>
              <a:xfrm>
                <a:off x="65530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581520" y="3390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5562720" y="2438280"/>
              <a:ext cx="304560" cy="304920"/>
              <a:chOff x="5562720" y="2438280"/>
              <a:chExt cx="304560" cy="304920"/>
            </a:xfrm>
          </p:grpSpPr>
          <p:sp>
            <p:nvSpPr>
              <p:cNvPr id="1502" name=""/>
              <p:cNvSpPr/>
              <p:nvPr/>
            </p:nvSpPr>
            <p:spPr>
              <a:xfrm>
                <a:off x="55627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591160" y="24764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7620120" y="4267080"/>
              <a:ext cx="304560" cy="304920"/>
              <a:chOff x="7620120" y="4267080"/>
              <a:chExt cx="304560" cy="304920"/>
            </a:xfrm>
          </p:grpSpPr>
          <p:sp>
            <p:nvSpPr>
              <p:cNvPr id="1505" name=""/>
              <p:cNvSpPr/>
              <p:nvPr/>
            </p:nvSpPr>
            <p:spPr>
              <a:xfrm>
                <a:off x="762012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648560" y="43052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5029200" y="5181480"/>
              <a:ext cx="304560" cy="304920"/>
              <a:chOff x="5029200" y="5181480"/>
              <a:chExt cx="304560" cy="304920"/>
            </a:xfrm>
          </p:grpSpPr>
          <p:sp>
            <p:nvSpPr>
              <p:cNvPr id="1508" name=""/>
              <p:cNvSpPr/>
              <p:nvPr/>
            </p:nvSpPr>
            <p:spPr>
              <a:xfrm>
                <a:off x="502920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057640" y="52196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8153280" y="5638680"/>
              <a:ext cx="304560" cy="304920"/>
              <a:chOff x="8153280" y="5638680"/>
              <a:chExt cx="304560" cy="304920"/>
            </a:xfrm>
          </p:grpSpPr>
          <p:sp>
            <p:nvSpPr>
              <p:cNvPr id="1511" name=""/>
              <p:cNvSpPr/>
              <p:nvPr/>
            </p:nvSpPr>
            <p:spPr>
              <a:xfrm>
                <a:off x="81532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181720" y="5676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7086600" y="2438280"/>
              <a:ext cx="304560" cy="304920"/>
              <a:chOff x="7086600" y="2438280"/>
              <a:chExt cx="304560" cy="3049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08660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115040" y="24764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6" name=""/>
          <p:cNvGrpSpPr/>
          <p:nvPr/>
        </p:nvGrpSpPr>
        <p:grpSpPr>
          <a:xfrm>
            <a:off x="4495680" y="2438280"/>
            <a:ext cx="3962520" cy="3505320"/>
            <a:chOff x="4495680" y="2438280"/>
            <a:chExt cx="3962520" cy="3505320"/>
          </a:xfrm>
        </p:grpSpPr>
        <p:sp>
          <p:nvSpPr>
            <p:cNvPr id="1517" name=""/>
            <p:cNvSpPr/>
            <p:nvPr/>
          </p:nvSpPr>
          <p:spPr>
            <a:xfrm>
              <a:off x="4495680" y="3352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562720" y="24382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086600" y="24382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553080" y="3352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153280" y="5638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029200" y="51814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4495680" y="2438280"/>
            <a:ext cx="3962520" cy="3504960"/>
            <a:chOff x="4495680" y="2438280"/>
            <a:chExt cx="3962520" cy="3504960"/>
          </a:xfrm>
        </p:grpSpPr>
        <p:grpSp>
          <p:nvGrpSpPr>
            <p:cNvPr id="1525" name=""/>
            <p:cNvGrpSpPr/>
            <p:nvPr/>
          </p:nvGrpSpPr>
          <p:grpSpPr>
            <a:xfrm>
              <a:off x="4495680" y="3352680"/>
              <a:ext cx="304920" cy="304560"/>
              <a:chOff x="4495680" y="3352680"/>
              <a:chExt cx="304920" cy="304560"/>
            </a:xfrm>
          </p:grpSpPr>
          <p:sp>
            <p:nvSpPr>
              <p:cNvPr id="1526" name=""/>
              <p:cNvSpPr/>
              <p:nvPr/>
            </p:nvSpPr>
            <p:spPr>
              <a:xfrm>
                <a:off x="4495680" y="3352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524480" y="3390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5562720" y="2438280"/>
              <a:ext cx="304560" cy="304560"/>
              <a:chOff x="5562720" y="2438280"/>
              <a:chExt cx="304560" cy="304560"/>
            </a:xfrm>
          </p:grpSpPr>
          <p:sp>
            <p:nvSpPr>
              <p:cNvPr id="1529" name=""/>
              <p:cNvSpPr/>
              <p:nvPr/>
            </p:nvSpPr>
            <p:spPr>
              <a:xfrm>
                <a:off x="5562720" y="243828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591160" y="247644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7086600" y="2438280"/>
              <a:ext cx="304920" cy="304560"/>
              <a:chOff x="7086600" y="2438280"/>
              <a:chExt cx="304920" cy="304560"/>
            </a:xfrm>
          </p:grpSpPr>
          <p:sp>
            <p:nvSpPr>
              <p:cNvPr id="1532" name=""/>
              <p:cNvSpPr/>
              <p:nvPr/>
            </p:nvSpPr>
            <p:spPr>
              <a:xfrm>
                <a:off x="7086600" y="24382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15400" y="2476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6553080" y="3352680"/>
              <a:ext cx="304920" cy="304560"/>
              <a:chOff x="6553080" y="3352680"/>
              <a:chExt cx="304920" cy="304560"/>
            </a:xfrm>
          </p:grpSpPr>
          <p:sp>
            <p:nvSpPr>
              <p:cNvPr id="1535" name=""/>
              <p:cNvSpPr/>
              <p:nvPr/>
            </p:nvSpPr>
            <p:spPr>
              <a:xfrm>
                <a:off x="6553080" y="3352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581880" y="3390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7620120" y="4267080"/>
              <a:ext cx="304560" cy="304560"/>
              <a:chOff x="7620120" y="4267080"/>
              <a:chExt cx="304560" cy="304560"/>
            </a:xfrm>
          </p:grpSpPr>
          <p:sp>
            <p:nvSpPr>
              <p:cNvPr id="1538" name=""/>
              <p:cNvSpPr/>
              <p:nvPr/>
            </p:nvSpPr>
            <p:spPr>
              <a:xfrm>
                <a:off x="7620120" y="426708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648560" y="430524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153280" y="5638680"/>
              <a:ext cx="304920" cy="304560"/>
              <a:chOff x="8153280" y="5638680"/>
              <a:chExt cx="304920" cy="304560"/>
            </a:xfrm>
          </p:grpSpPr>
          <p:sp>
            <p:nvSpPr>
              <p:cNvPr id="1541" name=""/>
              <p:cNvSpPr/>
              <p:nvPr/>
            </p:nvSpPr>
            <p:spPr>
              <a:xfrm>
                <a:off x="8153280" y="5638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182080" y="5676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029200" y="5181480"/>
              <a:ext cx="304920" cy="304560"/>
              <a:chOff x="5029200" y="5181480"/>
              <a:chExt cx="304920" cy="304560"/>
            </a:xfrm>
          </p:grpSpPr>
          <p:sp>
            <p:nvSpPr>
              <p:cNvPr id="1544" name=""/>
              <p:cNvSpPr/>
              <p:nvPr/>
            </p:nvSpPr>
            <p:spPr>
              <a:xfrm>
                <a:off x="5029200" y="51814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058000" y="5219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"/>
          <p:cNvGrpSpPr/>
          <p:nvPr/>
        </p:nvGrpSpPr>
        <p:grpSpPr>
          <a:xfrm>
            <a:off x="990720" y="1981080"/>
            <a:ext cx="2743200" cy="1676520"/>
            <a:chOff x="990720" y="1981080"/>
            <a:chExt cx="2743200" cy="1676520"/>
          </a:xfrm>
        </p:grpSpPr>
        <p:sp>
          <p:nvSpPr>
            <p:cNvPr id="1547" name=""/>
            <p:cNvSpPr/>
            <p:nvPr/>
          </p:nvSpPr>
          <p:spPr>
            <a:xfrm>
              <a:off x="990720" y="2590920"/>
              <a:ext cx="2209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1600200" y="2819520"/>
              <a:ext cx="1371600" cy="761760"/>
              <a:chOff x="1600200" y="2819520"/>
              <a:chExt cx="1371600" cy="761760"/>
            </a:xfrm>
          </p:grpSpPr>
          <p:sp>
            <p:nvSpPr>
              <p:cNvPr id="1549" name=""/>
              <p:cNvSpPr/>
              <p:nvPr/>
            </p:nvSpPr>
            <p:spPr>
              <a:xfrm>
                <a:off x="160020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00200" y="32767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133720" y="28195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6668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33720" y="32767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666880" y="32767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1066680" y="28195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6" name=""/>
            <p:cNvGrpSpPr/>
            <p:nvPr/>
          </p:nvGrpSpPr>
          <p:grpSpPr>
            <a:xfrm>
              <a:off x="1066680" y="2819520"/>
              <a:ext cx="304920" cy="304560"/>
              <a:chOff x="1066680" y="2819520"/>
              <a:chExt cx="304920" cy="304560"/>
            </a:xfrm>
          </p:grpSpPr>
          <p:sp>
            <p:nvSpPr>
              <p:cNvPr id="1557" name=""/>
              <p:cNvSpPr/>
              <p:nvPr/>
            </p:nvSpPr>
            <p:spPr>
              <a:xfrm>
                <a:off x="10666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095480" y="28576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9" name=""/>
            <p:cNvSpPr/>
            <p:nvPr/>
          </p:nvSpPr>
          <p:spPr>
            <a:xfrm>
              <a:off x="1447920" y="1981080"/>
              <a:ext cx="2286000" cy="60984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1219320" y="3124080"/>
            <a:ext cx="0" cy="160020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2133720" y="2819520"/>
            <a:ext cx="838080" cy="761760"/>
            <a:chOff x="2133720" y="2819520"/>
            <a:chExt cx="838080" cy="761760"/>
          </a:xfrm>
        </p:grpSpPr>
        <p:grpSp>
          <p:nvGrpSpPr>
            <p:cNvPr id="1562" name=""/>
            <p:cNvGrpSpPr/>
            <p:nvPr/>
          </p:nvGrpSpPr>
          <p:grpSpPr>
            <a:xfrm>
              <a:off x="2133720" y="3276720"/>
              <a:ext cx="304560" cy="304560"/>
              <a:chOff x="2133720" y="3276720"/>
              <a:chExt cx="304560" cy="304560"/>
            </a:xfrm>
          </p:grpSpPr>
          <p:sp>
            <p:nvSpPr>
              <p:cNvPr id="1563" name=""/>
              <p:cNvSpPr/>
              <p:nvPr/>
            </p:nvSpPr>
            <p:spPr>
              <a:xfrm>
                <a:off x="2133720" y="32767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162160" y="331488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2666880" y="2819520"/>
              <a:ext cx="304920" cy="304560"/>
              <a:chOff x="2666880" y="2819520"/>
              <a:chExt cx="304920" cy="304560"/>
            </a:xfrm>
          </p:grpSpPr>
          <p:sp>
            <p:nvSpPr>
              <p:cNvPr id="1566" name=""/>
              <p:cNvSpPr/>
              <p:nvPr/>
            </p:nvSpPr>
            <p:spPr>
              <a:xfrm>
                <a:off x="26668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695680" y="28576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8" name=""/>
          <p:cNvGrpSpPr/>
          <p:nvPr/>
        </p:nvGrpSpPr>
        <p:grpSpPr>
          <a:xfrm>
            <a:off x="380880" y="2895480"/>
            <a:ext cx="2286000" cy="3962520"/>
            <a:chOff x="380880" y="2895480"/>
            <a:chExt cx="2286000" cy="3962520"/>
          </a:xfrm>
        </p:grpSpPr>
        <p:grpSp>
          <p:nvGrpSpPr>
            <p:cNvPr id="1569" name=""/>
            <p:cNvGrpSpPr/>
            <p:nvPr/>
          </p:nvGrpSpPr>
          <p:grpSpPr>
            <a:xfrm>
              <a:off x="380880" y="5943600"/>
              <a:ext cx="304920" cy="609480"/>
              <a:chOff x="380880" y="5943600"/>
              <a:chExt cx="304920" cy="609480"/>
            </a:xfrm>
          </p:grpSpPr>
          <p:sp>
            <p:nvSpPr>
              <p:cNvPr id="1570" name=""/>
              <p:cNvSpPr/>
              <p:nvPr/>
            </p:nvSpPr>
            <p:spPr>
              <a:xfrm>
                <a:off x="380880" y="59436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80880" y="60199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80880" y="609588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80880" y="61722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0880" y="62485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80880" y="632448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880" y="64008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0880" y="64771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80880" y="2895480"/>
              <a:ext cx="2286000" cy="3962520"/>
              <a:chOff x="380880" y="2895480"/>
              <a:chExt cx="2286000" cy="3962520"/>
            </a:xfrm>
          </p:grpSpPr>
          <p:grpSp>
            <p:nvGrpSpPr>
              <p:cNvPr id="1579" name=""/>
              <p:cNvGrpSpPr/>
              <p:nvPr/>
            </p:nvGrpSpPr>
            <p:grpSpPr>
              <a:xfrm>
                <a:off x="380880" y="4114800"/>
                <a:ext cx="304920" cy="609480"/>
                <a:chOff x="380880" y="4114800"/>
                <a:chExt cx="304920" cy="60948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380880" y="41148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80880" y="41911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80880" y="42670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80880" y="4343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80880" y="44197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80880" y="44956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80880" y="45720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80880" y="46483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8" name=""/>
              <p:cNvSpPr/>
              <p:nvPr/>
            </p:nvSpPr>
            <p:spPr>
              <a:xfrm>
                <a:off x="838080" y="3276720"/>
                <a:ext cx="1828800" cy="609480"/>
              </a:xfrm>
              <a:prstGeom prst="wedgeEllipseCallout">
                <a:avLst>
                  <a:gd name="adj1" fmla="val -64236"/>
                  <a:gd name="adj2" fmla="val 69273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glide-i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9" name=""/>
              <p:cNvGrpSpPr/>
              <p:nvPr/>
            </p:nvGrpSpPr>
            <p:grpSpPr>
              <a:xfrm>
                <a:off x="380880" y="2895480"/>
                <a:ext cx="304920" cy="609480"/>
                <a:chOff x="380880" y="2895480"/>
                <a:chExt cx="304920" cy="60948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380880" y="28954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80880" y="29718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80880" y="30477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80880" y="31240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80880" y="32004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80880" y="32763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80880" y="33526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80880" y="34290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380880" y="3505320"/>
                <a:ext cx="304920" cy="609480"/>
                <a:chOff x="380880" y="3505320"/>
                <a:chExt cx="304920" cy="60948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380880" y="35053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80880" y="35816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80880" y="36576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80880" y="37339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80880" y="38102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80880" y="38862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80880" y="39625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80880" y="40388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380880" y="4724280"/>
                <a:ext cx="304920" cy="609480"/>
                <a:chOff x="380880" y="4724280"/>
                <a:chExt cx="304920" cy="60948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380880" y="47242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80880" y="48006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80880" y="48765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80880" y="49528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80880" y="50292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80880" y="51051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80880" y="51814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80880" y="52578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380880" y="5334120"/>
                <a:ext cx="304920" cy="609480"/>
                <a:chOff x="380880" y="5334120"/>
                <a:chExt cx="304920" cy="60948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380880" y="53341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80880" y="54104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80880" y="5486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80880" y="55627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80880" y="56390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80880" y="57150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80880" y="57913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80880" y="58676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380880" y="6248520"/>
                <a:ext cx="304920" cy="609480"/>
                <a:chOff x="380880" y="6248520"/>
                <a:chExt cx="304920" cy="60948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380880" y="62485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80880" y="63248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80880" y="64008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80880" y="64771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80880" y="65534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80880" y="6629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80880" y="67057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80880" y="67820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4" name=""/>
          <p:cNvSpPr/>
          <p:nvPr/>
        </p:nvSpPr>
        <p:spPr>
          <a:xfrm>
            <a:off x="1447920" y="2895480"/>
            <a:ext cx="236196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66680" y="152280"/>
            <a:ext cx="5334120" cy="1068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Times New Roman"/>
              </a:rPr>
              <a:t>High throughput Computing: Co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E44-92B1-4E85-84C1-E7FCFDCD80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0866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current state of the Grid in the US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7" name="PACIall" descr=""/>
          <p:cNvPicPr/>
          <p:nvPr/>
        </p:nvPicPr>
        <p:blipFill>
          <a:blip r:embed="rId1"/>
          <a:stretch/>
        </p:blipFill>
        <p:spPr>
          <a:xfrm>
            <a:off x="1752480" y="1663560"/>
            <a:ext cx="7391520" cy="44323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3198240" y="609588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NSF National Technology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AFD-489B-4048-AEF2-8F919EC2DA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2" name="logo_s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164-0E6B-4800-B33B-AE340E56927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593-EE37-4676-BB0F-BC60E2DA20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e European DataGrid Projec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-7437240" y="1057320"/>
            <a:ext cx="16246080" cy="5025240"/>
            <a:chOff x="-7437240" y="1057320"/>
            <a:chExt cx="16246080" cy="5025240"/>
          </a:xfrm>
        </p:grpSpPr>
        <p:grpSp>
          <p:nvGrpSpPr>
            <p:cNvPr id="1648" name=""/>
            <p:cNvGrpSpPr/>
            <p:nvPr/>
          </p:nvGrpSpPr>
          <p:grpSpPr>
            <a:xfrm>
              <a:off x="838800" y="5005440"/>
              <a:ext cx="5385600" cy="530280"/>
              <a:chOff x="838800" y="5005440"/>
              <a:chExt cx="5385600" cy="530280"/>
            </a:xfrm>
          </p:grpSpPr>
          <p:sp>
            <p:nvSpPr>
              <p:cNvPr id="1649" name=""/>
              <p:cNvSpPr/>
              <p:nvPr/>
            </p:nvSpPr>
            <p:spPr>
              <a:xfrm>
                <a:off x="838800" y="5156280"/>
                <a:ext cx="158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epart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346280" y="5041800"/>
                <a:ext cx="366840" cy="3542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852800" y="5181480"/>
                <a:ext cx="366840" cy="3542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857560" y="5005440"/>
                <a:ext cx="366840" cy="35388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4969440" y="5144400"/>
                <a:ext cx="7545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4578120" y="4700520"/>
              <a:ext cx="1414440" cy="493560"/>
              <a:chOff x="4578120" y="4700520"/>
              <a:chExt cx="1414440" cy="493560"/>
            </a:xfrm>
          </p:grpSpPr>
          <p:sp>
            <p:nvSpPr>
              <p:cNvPr id="1655" name=""/>
              <p:cNvSpPr/>
              <p:nvPr/>
            </p:nvSpPr>
            <p:spPr>
              <a:xfrm flipH="1">
                <a:off x="4578120" y="4700520"/>
                <a:ext cx="31752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974840" y="4706640"/>
                <a:ext cx="158760" cy="48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457600" y="4700520"/>
                <a:ext cx="5349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1833480" y="5558040"/>
              <a:ext cx="3877920" cy="524520"/>
              <a:chOff x="1833480" y="5558040"/>
              <a:chExt cx="3877920" cy="524520"/>
            </a:xfrm>
          </p:grpSpPr>
          <p:sp>
            <p:nvSpPr>
              <p:cNvPr id="1659" name=""/>
              <p:cNvSpPr/>
              <p:nvPr/>
            </p:nvSpPr>
            <p:spPr>
              <a:xfrm>
                <a:off x="1833480" y="5686200"/>
                <a:ext cx="112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eskt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4500360" y="5562360"/>
                <a:ext cx="3542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4744800" y="5578200"/>
                <a:ext cx="23976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114880" y="5558040"/>
                <a:ext cx="34920" cy="26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97320" y="5573520"/>
                <a:ext cx="274680" cy="17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4" name=""/>
              <p:cNvGrpSpPr/>
              <p:nvPr/>
            </p:nvGrpSpPr>
            <p:grpSpPr>
              <a:xfrm>
                <a:off x="4192560" y="5641920"/>
                <a:ext cx="250560" cy="272160"/>
                <a:chOff x="4192560" y="5641920"/>
                <a:chExt cx="250560" cy="27216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4203720" y="5641920"/>
                  <a:ext cx="239400" cy="205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4192560" y="5871600"/>
                  <a:ext cx="249120" cy="4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4549680" y="5794200"/>
                <a:ext cx="250560" cy="272520"/>
                <a:chOff x="4549680" y="5794200"/>
                <a:chExt cx="250560" cy="27252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4560840" y="5794200"/>
                  <a:ext cx="23940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V="1">
                  <a:off x="4549680" y="6023520"/>
                  <a:ext cx="2491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5057640" y="5810040"/>
                <a:ext cx="250560" cy="272520"/>
                <a:chOff x="5057640" y="5810040"/>
                <a:chExt cx="250560" cy="2725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5068800" y="5810040"/>
                  <a:ext cx="23940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V="1">
                  <a:off x="5057640" y="6039360"/>
                  <a:ext cx="2491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5460840" y="5641920"/>
                <a:ext cx="250560" cy="272160"/>
                <a:chOff x="5460840" y="5641920"/>
                <a:chExt cx="250560" cy="27216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5472000" y="5641920"/>
                  <a:ext cx="239400" cy="205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5460840" y="5871600"/>
                  <a:ext cx="249120" cy="4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6" name=""/>
            <p:cNvSpPr/>
            <p:nvPr/>
          </p:nvSpPr>
          <p:spPr>
            <a:xfrm>
              <a:off x="3659040" y="1546200"/>
              <a:ext cx="2041560" cy="8683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RN – Tier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-7437240" y="1057320"/>
              <a:ext cx="16246080" cy="2546280"/>
              <a:chOff x="-7437240" y="1057320"/>
              <a:chExt cx="16246080" cy="2546280"/>
            </a:xfrm>
          </p:grpSpPr>
          <p:sp>
            <p:nvSpPr>
              <p:cNvPr id="1678" name=""/>
              <p:cNvSpPr/>
              <p:nvPr/>
            </p:nvSpPr>
            <p:spPr>
              <a:xfrm flipV="1">
                <a:off x="-7437240" y="1056960"/>
                <a:ext cx="16246080" cy="22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09" y="2416"/>
                    </a:moveTo>
                    <a:arcTo wR="10800" hR="10800" stAng="-3055126" swAng="5605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09" y="2416"/>
                    </a:moveTo>
                    <a:arcTo wR="10800" hR="10800" stAng="-3055126" swAng="560557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36200" y="3079440"/>
                <a:ext cx="81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103120" y="2977920"/>
                <a:ext cx="1295640" cy="625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86200" y="2825640"/>
                <a:ext cx="1295280" cy="62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R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391160" y="2276280"/>
                <a:ext cx="1295640" cy="625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N2P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573280" y="2010600"/>
              <a:ext cx="4817880" cy="1022760"/>
              <a:chOff x="2573280" y="2010600"/>
              <a:chExt cx="4817880" cy="1022760"/>
            </a:xfrm>
          </p:grpSpPr>
          <p:sp>
            <p:nvSpPr>
              <p:cNvPr id="1684" name=""/>
              <p:cNvSpPr/>
              <p:nvPr/>
            </p:nvSpPr>
            <p:spPr>
              <a:xfrm flipH="1">
                <a:off x="2895120" y="2307960"/>
                <a:ext cx="762120" cy="66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916080" y="2414520"/>
                <a:ext cx="42732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700600" y="2263680"/>
                <a:ext cx="169056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19144800">
                <a:off x="2549880" y="2431080"/>
                <a:ext cx="10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22 M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514800">
                <a:off x="6191280" y="2077560"/>
                <a:ext cx="92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.5 G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3170160" y="3189240"/>
              <a:ext cx="3324240" cy="1216440"/>
              <a:chOff x="3170160" y="3189240"/>
              <a:chExt cx="3324240" cy="1216440"/>
            </a:xfrm>
          </p:grpSpPr>
          <p:sp>
            <p:nvSpPr>
              <p:cNvPr id="1690" name=""/>
              <p:cNvSpPr/>
              <p:nvPr/>
            </p:nvSpPr>
            <p:spPr>
              <a:xfrm flipH="1">
                <a:off x="4165200" y="3457440"/>
                <a:ext cx="220680" cy="86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3348000" y="3334680"/>
                <a:ext cx="669960" cy="62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 flipV="1">
                <a:off x="4779720" y="3427200"/>
                <a:ext cx="379440" cy="8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 flipV="1">
                <a:off x="5176800" y="3189240"/>
                <a:ext cx="13176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7046600">
                <a:off x="3622680" y="3722400"/>
                <a:ext cx="10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22 M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18832800">
                <a:off x="3131640" y="347220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55 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4008000">
                <a:off x="4616640" y="3401280"/>
                <a:ext cx="366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 vert="eaVer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1374000">
                <a:off x="5214960" y="340020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55 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746640" y="3756240"/>
              <a:ext cx="6092280" cy="932760"/>
              <a:chOff x="746640" y="3756240"/>
              <a:chExt cx="6092280" cy="932760"/>
            </a:xfrm>
          </p:grpSpPr>
          <p:sp>
            <p:nvSpPr>
              <p:cNvPr id="1699" name=""/>
              <p:cNvSpPr/>
              <p:nvPr/>
            </p:nvSpPr>
            <p:spPr>
              <a:xfrm>
                <a:off x="746640" y="403524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08080" y="395604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878280" y="432900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808520" y="433548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156000" y="3756240"/>
                <a:ext cx="68292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212080" y="4015800"/>
                <a:ext cx="999360" cy="44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230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230045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F31-62FD-4EEF-BB33-F5B7C43215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959120" y="151920"/>
            <a:ext cx="678168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939680" y="1222200"/>
            <a:ext cx="6824520" cy="221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computing is a new technology which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integr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-area network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6943680" y="1695600"/>
            <a:ext cx="1847880" cy="1993680"/>
            <a:chOff x="6943680" y="1695600"/>
            <a:chExt cx="1847880" cy="1993680"/>
          </a:xfrm>
        </p:grpSpPr>
        <p:pic>
          <p:nvPicPr>
            <p:cNvPr id="1708" name="" descr=""/>
            <p:cNvPicPr/>
            <p:nvPr/>
          </p:nvPicPr>
          <p:blipFill>
            <a:blip r:embed="rId1"/>
            <a:stretch/>
          </p:blipFill>
          <p:spPr>
            <a:xfrm>
              <a:off x="7204320" y="2181240"/>
              <a:ext cx="1360440" cy="102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9" name=""/>
            <p:cNvGrpSpPr/>
            <p:nvPr/>
          </p:nvGrpSpPr>
          <p:grpSpPr>
            <a:xfrm>
              <a:off x="7743960" y="1695600"/>
              <a:ext cx="338040" cy="447480"/>
              <a:chOff x="7743960" y="1695600"/>
              <a:chExt cx="338040" cy="447480"/>
            </a:xfrm>
          </p:grpSpPr>
          <p:sp>
            <p:nvSpPr>
              <p:cNvPr id="1710" name=""/>
              <p:cNvSpPr/>
              <p:nvPr/>
            </p:nvSpPr>
            <p:spPr>
              <a:xfrm>
                <a:off x="7844040" y="189072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1" name=""/>
              <p:cNvGrpSpPr/>
              <p:nvPr/>
            </p:nvGrpSpPr>
            <p:grpSpPr>
              <a:xfrm>
                <a:off x="7743960" y="1956960"/>
                <a:ext cx="338040" cy="186120"/>
                <a:chOff x="7743960" y="1956960"/>
                <a:chExt cx="338040" cy="186120"/>
              </a:xfrm>
            </p:grpSpPr>
            <p:sp>
              <p:nvSpPr>
                <p:cNvPr id="1712" name=""/>
                <p:cNvSpPr/>
                <p:nvPr/>
              </p:nvSpPr>
              <p:spPr>
                <a:xfrm flipV="1">
                  <a:off x="7764480" y="195876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869240" y="1958760"/>
                  <a:ext cx="0" cy="10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V="1">
                  <a:off x="7959960" y="1956960"/>
                  <a:ext cx="0" cy="10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7743960" y="2073240"/>
                  <a:ext cx="2844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7851960" y="2067120"/>
                  <a:ext cx="3312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7940880" y="2065320"/>
                  <a:ext cx="2988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8055000" y="207324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7984800" y="195876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7743960" y="1695600"/>
                <a:ext cx="338040" cy="173160"/>
                <a:chOff x="7743960" y="1695600"/>
                <a:chExt cx="338040" cy="173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7764480" y="1778040"/>
                  <a:ext cx="6516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869240" y="17877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959960" y="1782720"/>
                  <a:ext cx="0" cy="8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743960" y="1702080"/>
                  <a:ext cx="2844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851960" y="1695600"/>
                  <a:ext cx="3312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940880" y="1698840"/>
                  <a:ext cx="2988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8055000" y="170208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>
                  <a:off x="7984800" y="1778040"/>
                  <a:ext cx="9540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9" name=""/>
            <p:cNvGrpSpPr/>
            <p:nvPr/>
          </p:nvGrpSpPr>
          <p:grpSpPr>
            <a:xfrm>
              <a:off x="8453520" y="1970280"/>
              <a:ext cx="338040" cy="446040"/>
              <a:chOff x="8453520" y="1970280"/>
              <a:chExt cx="338040" cy="446040"/>
            </a:xfrm>
          </p:grpSpPr>
          <p:sp>
            <p:nvSpPr>
              <p:cNvPr id="1730" name=""/>
              <p:cNvSpPr/>
              <p:nvPr/>
            </p:nvSpPr>
            <p:spPr>
              <a:xfrm>
                <a:off x="8553600" y="216540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1" name=""/>
              <p:cNvGrpSpPr/>
              <p:nvPr/>
            </p:nvGrpSpPr>
            <p:grpSpPr>
              <a:xfrm>
                <a:off x="8453520" y="2231640"/>
                <a:ext cx="338040" cy="184680"/>
                <a:chOff x="8453520" y="2231640"/>
                <a:chExt cx="338040" cy="184680"/>
              </a:xfrm>
            </p:grpSpPr>
            <p:sp>
              <p:nvSpPr>
                <p:cNvPr id="1732" name=""/>
                <p:cNvSpPr/>
                <p:nvPr/>
              </p:nvSpPr>
              <p:spPr>
                <a:xfrm flipV="1">
                  <a:off x="8474040" y="2232000"/>
                  <a:ext cx="6516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V="1">
                  <a:off x="8578800" y="223344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V="1">
                  <a:off x="8666280" y="2231640"/>
                  <a:ext cx="0" cy="10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8453520" y="234792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8561520" y="234180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8650440" y="2338560"/>
                  <a:ext cx="2844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8764560" y="234792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flipV="1">
                  <a:off x="8694360" y="2232000"/>
                  <a:ext cx="9540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8453520" y="1970280"/>
                <a:ext cx="338040" cy="172800"/>
                <a:chOff x="8453520" y="1970280"/>
                <a:chExt cx="338040" cy="17280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474040" y="205272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578800" y="206064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666280" y="2057400"/>
                  <a:ext cx="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8453520" y="197496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8561520" y="197028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8650440" y="197352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8764560" y="197496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>
                  <a:off x="8694360" y="205272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9" name=""/>
            <p:cNvGrpSpPr/>
            <p:nvPr/>
          </p:nvGrpSpPr>
          <p:grpSpPr>
            <a:xfrm>
              <a:off x="8453520" y="2957760"/>
              <a:ext cx="338040" cy="447480"/>
              <a:chOff x="8453520" y="2957760"/>
              <a:chExt cx="338040" cy="447480"/>
            </a:xfrm>
          </p:grpSpPr>
          <p:sp>
            <p:nvSpPr>
              <p:cNvPr id="1750" name=""/>
              <p:cNvSpPr/>
              <p:nvPr/>
            </p:nvSpPr>
            <p:spPr>
              <a:xfrm>
                <a:off x="8553600" y="315288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1" name=""/>
              <p:cNvGrpSpPr/>
              <p:nvPr/>
            </p:nvGrpSpPr>
            <p:grpSpPr>
              <a:xfrm>
                <a:off x="8453520" y="3219480"/>
                <a:ext cx="338040" cy="185760"/>
                <a:chOff x="8453520" y="3219480"/>
                <a:chExt cx="338040" cy="185760"/>
              </a:xfrm>
            </p:grpSpPr>
            <p:sp>
              <p:nvSpPr>
                <p:cNvPr id="1752" name=""/>
                <p:cNvSpPr/>
                <p:nvPr/>
              </p:nvSpPr>
              <p:spPr>
                <a:xfrm flipV="1">
                  <a:off x="8474040" y="322092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V="1">
                  <a:off x="8578800" y="3220920"/>
                  <a:ext cx="0" cy="10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V="1">
                  <a:off x="8666280" y="32194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8453520" y="333540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561520" y="3328920"/>
                  <a:ext cx="3168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650440" y="332748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764560" y="333540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>
                  <a:off x="8694360" y="322092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8453520" y="2957760"/>
                <a:ext cx="338040" cy="172800"/>
                <a:chOff x="8453520" y="2957760"/>
                <a:chExt cx="338040" cy="17280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8474040" y="304020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578800" y="3049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8666280" y="3046680"/>
                  <a:ext cx="0" cy="8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8453520" y="296388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8561520" y="2957760"/>
                  <a:ext cx="3168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8650440" y="2960640"/>
                  <a:ext cx="284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8764560" y="296388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8694360" y="304020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9" name=""/>
            <p:cNvGrpSpPr/>
            <p:nvPr/>
          </p:nvGrpSpPr>
          <p:grpSpPr>
            <a:xfrm>
              <a:off x="7755120" y="3241800"/>
              <a:ext cx="336600" cy="447480"/>
              <a:chOff x="7755120" y="3241800"/>
              <a:chExt cx="336600" cy="447480"/>
            </a:xfrm>
          </p:grpSpPr>
          <p:sp>
            <p:nvSpPr>
              <p:cNvPr id="1770" name=""/>
              <p:cNvSpPr/>
              <p:nvPr/>
            </p:nvSpPr>
            <p:spPr>
              <a:xfrm>
                <a:off x="7851960" y="3438720"/>
                <a:ext cx="150840" cy="65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7755120" y="3503880"/>
                <a:ext cx="336600" cy="185400"/>
                <a:chOff x="7755120" y="3503880"/>
                <a:chExt cx="336600" cy="185400"/>
              </a:xfrm>
            </p:grpSpPr>
            <p:sp>
              <p:nvSpPr>
                <p:cNvPr id="1772" name=""/>
                <p:cNvSpPr/>
                <p:nvPr/>
              </p:nvSpPr>
              <p:spPr>
                <a:xfrm flipV="1">
                  <a:off x="7774200" y="3504960"/>
                  <a:ext cx="648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V="1">
                  <a:off x="7880400" y="350640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V="1">
                  <a:off x="7967880" y="3503880"/>
                  <a:ext cx="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755120" y="361944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863120" y="361476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7950240" y="3611520"/>
                  <a:ext cx="284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062920" y="3619440"/>
                  <a:ext cx="288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flipV="1">
                  <a:off x="7994880" y="3504960"/>
                  <a:ext cx="950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7755120" y="3241800"/>
                <a:ext cx="336600" cy="173160"/>
                <a:chOff x="7755120" y="3241800"/>
                <a:chExt cx="336600" cy="1731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7774200" y="3324240"/>
                  <a:ext cx="6480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880400" y="33339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967880" y="3330720"/>
                  <a:ext cx="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755120" y="324828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863120" y="3241800"/>
                  <a:ext cx="3168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950240" y="324648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8062920" y="3248280"/>
                  <a:ext cx="288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7994880" y="3324240"/>
                  <a:ext cx="9504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9" name=""/>
            <p:cNvGrpSpPr/>
            <p:nvPr/>
          </p:nvGrpSpPr>
          <p:grpSpPr>
            <a:xfrm>
              <a:off x="7010640" y="3013200"/>
              <a:ext cx="336240" cy="446040"/>
              <a:chOff x="7010640" y="3013200"/>
              <a:chExt cx="336240" cy="446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7108920" y="3208320"/>
                <a:ext cx="149040" cy="6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1" name=""/>
              <p:cNvGrpSpPr/>
              <p:nvPr/>
            </p:nvGrpSpPr>
            <p:grpSpPr>
              <a:xfrm>
                <a:off x="7010640" y="3274920"/>
                <a:ext cx="336240" cy="184320"/>
                <a:chOff x="7010640" y="3274920"/>
                <a:chExt cx="336240" cy="184320"/>
              </a:xfrm>
            </p:grpSpPr>
            <p:sp>
              <p:nvSpPr>
                <p:cNvPr id="1792" name=""/>
                <p:cNvSpPr/>
                <p:nvPr/>
              </p:nvSpPr>
              <p:spPr>
                <a:xfrm flipV="1">
                  <a:off x="7031160" y="327492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7135920" y="327636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7224840" y="3275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7010640" y="3389400"/>
                  <a:ext cx="284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118280" y="3384720"/>
                  <a:ext cx="334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7205760" y="3381480"/>
                  <a:ext cx="302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7319880" y="338940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H="1" flipV="1">
                  <a:off x="7249680" y="3274920"/>
                  <a:ext cx="968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7010640" y="3013200"/>
                <a:ext cx="336240" cy="171360"/>
                <a:chOff x="7010640" y="3013200"/>
                <a:chExt cx="336240" cy="17136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7031160" y="3095640"/>
                  <a:ext cx="651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135920" y="310356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224840" y="3100320"/>
                  <a:ext cx="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010640" y="3017880"/>
                  <a:ext cx="284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118280" y="3013200"/>
                  <a:ext cx="334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205760" y="3016440"/>
                  <a:ext cx="30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19880" y="301788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>
                  <a:off x="7249680" y="3095640"/>
                  <a:ext cx="9684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9" name=""/>
            <p:cNvGrpSpPr/>
            <p:nvPr/>
          </p:nvGrpSpPr>
          <p:grpSpPr>
            <a:xfrm>
              <a:off x="6943680" y="2014560"/>
              <a:ext cx="338400" cy="446040"/>
              <a:chOff x="6943680" y="2014560"/>
              <a:chExt cx="338400" cy="446040"/>
            </a:xfrm>
          </p:grpSpPr>
          <p:sp>
            <p:nvSpPr>
              <p:cNvPr id="1810" name=""/>
              <p:cNvSpPr/>
              <p:nvPr/>
            </p:nvSpPr>
            <p:spPr>
              <a:xfrm>
                <a:off x="7043760" y="221004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6943680" y="2276640"/>
                <a:ext cx="338400" cy="183960"/>
                <a:chOff x="6943680" y="2276640"/>
                <a:chExt cx="338400" cy="18396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6964560" y="2278080"/>
                  <a:ext cx="6480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7069320" y="2278080"/>
                  <a:ext cx="0" cy="10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V="1">
                  <a:off x="7158240" y="2276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943680" y="239256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051680" y="238608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140600" y="2384640"/>
                  <a:ext cx="30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55080" y="239256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 flipV="1">
                  <a:off x="7185240" y="2278080"/>
                  <a:ext cx="950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6943680" y="2014560"/>
                <a:ext cx="338400" cy="173160"/>
                <a:chOff x="6943680" y="2014560"/>
                <a:chExt cx="338400" cy="17316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6964560" y="2097360"/>
                  <a:ext cx="648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069320" y="210672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158240" y="2102040"/>
                  <a:ext cx="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6943680" y="202104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051680" y="201456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140600" y="2017800"/>
                  <a:ext cx="302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255080" y="202104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>
                  <a:off x="7185240" y="2097360"/>
                  <a:ext cx="9504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9" name=""/>
          <p:cNvSpPr/>
          <p:nvPr/>
        </p:nvSpPr>
        <p:spPr>
          <a:xfrm>
            <a:off x="1938240" y="4343400"/>
            <a:ext cx="685188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he computational Grid will lead to a new infrastructure similar to the electrical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his infrastructure will have a tremendous influence on the Informatio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257800" y="3687840"/>
            <a:ext cx="53352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B93-B88C-41CA-AC1A-95F57EB342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2" name=""/>
          <p:cNvGrpSpPr/>
          <p:nvPr/>
        </p:nvGrpSpPr>
        <p:grpSpPr>
          <a:xfrm>
            <a:off x="3276720" y="762120"/>
            <a:ext cx="4101480" cy="5208480"/>
            <a:chOff x="3276720" y="762120"/>
            <a:chExt cx="4101480" cy="5208480"/>
          </a:xfrm>
        </p:grpSpPr>
        <p:sp>
          <p:nvSpPr>
            <p:cNvPr id="1833" name=""/>
            <p:cNvSpPr/>
            <p:nvPr/>
          </p:nvSpPr>
          <p:spPr>
            <a:xfrm>
              <a:off x="3276720" y="762120"/>
              <a:ext cx="4101480" cy="5208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adaf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4" name=""/>
            <p:cNvGraphicFramePr/>
            <p:nvPr/>
          </p:nvGraphicFramePr>
          <p:xfrm>
            <a:off x="3384720" y="1017360"/>
            <a:ext cx="3867840" cy="468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84720" y="1017360"/>
                      <a:ext cx="3867840" cy="46800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836" name=""/>
          <p:cNvSpPr/>
          <p:nvPr/>
        </p:nvSpPr>
        <p:spPr>
          <a:xfrm>
            <a:off x="3048120" y="304920"/>
            <a:ext cx="4572000" cy="10638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Monotype Corsiva"/>
              </a:rPr>
              <a:t>Thanks for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167160" y="99864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209680" y="5638680"/>
            <a:ext cx="6248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Further information: www.lpds.sztak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E45-4CC9-4A69-96F6-6D3AD2E8EFD5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678168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pplication areas of super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19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ther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ientific 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llar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5721480" y="2286000"/>
          <a:ext cx="224784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1480" y="2286000"/>
                    <a:ext cx="2247840" cy="137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2179800" y="4954680"/>
            <a:ext cx="6507000" cy="1439280"/>
            <a:chOff x="2179800" y="4954680"/>
            <a:chExt cx="6507000" cy="1439280"/>
          </a:xfrm>
        </p:grpSpPr>
        <p:grpSp>
          <p:nvGrpSpPr>
            <p:cNvPr id="530" name=""/>
            <p:cNvGrpSpPr/>
            <p:nvPr/>
          </p:nvGrpSpPr>
          <p:grpSpPr>
            <a:xfrm>
              <a:off x="2179800" y="4954680"/>
              <a:ext cx="6507000" cy="1308960"/>
              <a:chOff x="2179800" y="4954680"/>
              <a:chExt cx="6507000" cy="130896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3882960" y="4954680"/>
                <a:ext cx="4464000" cy="514080"/>
                <a:chOff x="3882960" y="4954680"/>
                <a:chExt cx="4464000" cy="51408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395960" y="5008320"/>
                  <a:ext cx="2384280" cy="453600"/>
                  <a:chOff x="4395960" y="5008320"/>
                  <a:chExt cx="2384280" cy="453600"/>
                </a:xfrm>
              </p:grpSpPr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4732560" y="5025600"/>
                    <a:ext cx="1519200" cy="389880"/>
                    <a:chOff x="4732560" y="5025600"/>
                    <a:chExt cx="1519200" cy="38988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89680" y="5025600"/>
                      <a:ext cx="262080" cy="31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732560" y="5203080"/>
                      <a:ext cx="24120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" name=""/>
                  <p:cNvSpPr/>
                  <p:nvPr/>
                </p:nvSpPr>
                <p:spPr>
                  <a:xfrm>
                    <a:off x="4395960" y="5008320"/>
                    <a:ext cx="2384280" cy="45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3882960" y="4954680"/>
                  <a:ext cx="4464000" cy="51408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2184480" y="5456160"/>
                <a:ext cx="6037200" cy="80748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2179800" y="5121000"/>
                <a:ext cx="6507000" cy="1024920"/>
                <a:chOff x="2179800" y="5121000"/>
                <a:chExt cx="6507000" cy="102492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305920" y="5452560"/>
                  <a:ext cx="380880" cy="575640"/>
                  <a:chOff x="8305920" y="5452560"/>
                  <a:chExt cx="380880" cy="575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8515440" y="5576040"/>
                    <a:ext cx="138240" cy="9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8515440" y="5452560"/>
                    <a:ext cx="138240" cy="39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515440" y="5529960"/>
                    <a:ext cx="138240" cy="7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379000" y="5497200"/>
                    <a:ext cx="2790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8305920" y="5972760"/>
                    <a:ext cx="380880" cy="9360"/>
                    <a:chOff x="8305920" y="5972760"/>
                    <a:chExt cx="380880" cy="93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305920" y="5972760"/>
                      <a:ext cx="363600" cy="9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8655120" y="5972760"/>
                      <a:ext cx="31680" cy="93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8305920" y="6018840"/>
                    <a:ext cx="380880" cy="9360"/>
                    <a:chOff x="8305920" y="6018840"/>
                    <a:chExt cx="380880" cy="93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8305920" y="6018840"/>
                      <a:ext cx="363600" cy="9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8655120" y="6018840"/>
                      <a:ext cx="31680" cy="93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8305920" y="5926680"/>
                    <a:ext cx="380880" cy="7920"/>
                    <a:chOff x="8305920" y="5926680"/>
                    <a:chExt cx="380880" cy="79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8305920" y="5926680"/>
                      <a:ext cx="363600" cy="7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8655120" y="5926680"/>
                      <a:ext cx="31680" cy="79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54" name=""/>
                <p:cNvSpPr/>
                <p:nvPr/>
              </p:nvSpPr>
              <p:spPr>
                <a:xfrm>
                  <a:off x="2179800" y="5293800"/>
                  <a:ext cx="6475320" cy="85212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745160" y="5365080"/>
                  <a:ext cx="1306440" cy="76500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4911840" y="5121000"/>
                  <a:ext cx="2192400" cy="870480"/>
                  <a:chOff x="4911840" y="5121000"/>
                  <a:chExt cx="2192400" cy="87048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6865920" y="5121000"/>
                    <a:ext cx="238320" cy="1076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034400" y="5162040"/>
                    <a:ext cx="23760" cy="18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911840" y="5468400"/>
                    <a:ext cx="1382760" cy="523080"/>
                    <a:chOff x="4911840" y="5468400"/>
                    <a:chExt cx="1382760" cy="52308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4911840" y="5821920"/>
                      <a:ext cx="138276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4925880" y="5468400"/>
                      <a:ext cx="136872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4925880" y="5585400"/>
                      <a:ext cx="1368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4911840" y="5695200"/>
                      <a:ext cx="138276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911840" y="5780880"/>
                      <a:ext cx="13827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5" name=""/>
            <p:cNvGrpSpPr/>
            <p:nvPr/>
          </p:nvGrpSpPr>
          <p:grpSpPr>
            <a:xfrm>
              <a:off x="3245040" y="5514840"/>
              <a:ext cx="1009440" cy="879120"/>
              <a:chOff x="3245040" y="5514840"/>
              <a:chExt cx="1009440" cy="879120"/>
            </a:xfrm>
          </p:grpSpPr>
          <p:sp>
            <p:nvSpPr>
              <p:cNvPr id="566" name=""/>
              <p:cNvSpPr/>
              <p:nvPr/>
            </p:nvSpPr>
            <p:spPr>
              <a:xfrm>
                <a:off x="3245040" y="5514840"/>
                <a:ext cx="1009440" cy="879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46440" y="6092280"/>
                <a:ext cx="181080" cy="19332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52920" y="5631840"/>
                <a:ext cx="183960" cy="19188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71760" y="587628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95920" y="587628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390840" y="5631840"/>
                <a:ext cx="725760" cy="63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3619440" y="5832000"/>
                <a:ext cx="265320" cy="231480"/>
                <a:chOff x="3619440" y="5832000"/>
                <a:chExt cx="265320" cy="2314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3619440" y="5832000"/>
                  <a:ext cx="265320" cy="2314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681360" y="5882400"/>
                  <a:ext cx="147600" cy="129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5" name=""/>
            <p:cNvGrpSpPr/>
            <p:nvPr/>
          </p:nvGrpSpPr>
          <p:grpSpPr>
            <a:xfrm>
              <a:off x="7096320" y="5514840"/>
              <a:ext cx="1011240" cy="879120"/>
              <a:chOff x="7096320" y="5514840"/>
              <a:chExt cx="1011240" cy="879120"/>
            </a:xfrm>
          </p:grpSpPr>
          <p:sp>
            <p:nvSpPr>
              <p:cNvPr id="576" name=""/>
              <p:cNvSpPr/>
              <p:nvPr/>
            </p:nvSpPr>
            <p:spPr>
              <a:xfrm>
                <a:off x="7096320" y="5514840"/>
                <a:ext cx="1011240" cy="879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497720" y="6092280"/>
                <a:ext cx="179640" cy="19332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502400" y="5631840"/>
                <a:ext cx="185760" cy="19188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21600" y="5876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47200" y="5876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42120" y="5631840"/>
                <a:ext cx="727200" cy="63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469280" y="5832000"/>
                <a:ext cx="268200" cy="231480"/>
                <a:chOff x="7469280" y="5832000"/>
                <a:chExt cx="268200" cy="2314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469280" y="5832000"/>
                  <a:ext cx="268200" cy="2314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532640" y="5882400"/>
                  <a:ext cx="146160" cy="129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5" name=""/>
          <p:cNvSpPr/>
          <p:nvPr/>
        </p:nvSpPr>
        <p:spPr>
          <a:xfrm>
            <a:off x="1905120" y="3807000"/>
            <a:ext cx="6781680" cy="99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ineering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Design &amp; Analysis (CAD/C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6A7-7133-4AB8-A409-EBCA974C6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installed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564000" y="6494400"/>
            <a:ext cx="207792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-228600"/>
            <a:ext cx="914400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51000"/>
            <a:ext cx="9144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Times New Roman"/>
              </a:rPr>
              <a:t>Application areas of TOP 5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DCF-A81B-4B28-AC76-E9FB1CE107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appl_areas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EBC-6896-46EE-8986-E2D6AB00E4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 supercomputer era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1295280"/>
            <a:ext cx="6781680" cy="510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through: Transputers (198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proces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y, NEC,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multiproces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, Sun, SGI,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ca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PP (Massively Parallel Process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y T3E, Intel Paragon, SGI Origin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DFA-DB26-4C01-A7E3-33E7018902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rch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535200" y="6465960"/>
            <a:ext cx="21067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914400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9144000" cy="887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rchitecture of TOP 5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00 compu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3160" y="5954760"/>
            <a:ext cx="8797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PP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ctorproc.                                          Symmetric multiproc.                             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38240" y="6148440"/>
            <a:ext cx="665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38240" y="6465960"/>
            <a:ext cx="66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18000" y="6148440"/>
            <a:ext cx="665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18000" y="6465960"/>
            <a:ext cx="6652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A88-E419-4E9E-B212-C6154C7AF4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09:50:31Z</dcterms:created>
  <dc:creator>Kacsuk</dc:creator>
  <dc:description/>
  <dc:language>en-US</dc:language>
  <cp:lastModifiedBy>kacsuk</cp:lastModifiedBy>
  <cp:lastPrinted>1999-08-25T13:26:29Z</cp:lastPrinted>
  <dcterms:modified xsi:type="dcterms:W3CDTF">2001-09-20T20:18:24Z</dcterms:modified>
  <cp:revision>88</cp:revision>
  <dc:subject/>
  <dc:title>Nemzetközi Üzleti Főiskola International Business School  Informatikai és Gazdaságmatematikai Tanszék Kacsukné dr. Bruckner Lívia </dc:title>
</cp:coreProperties>
</file>