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3E2-72D3-4A7D-82CB-69174807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Scripts, Gateways and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1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4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5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8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8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9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20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20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1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1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is a scrip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6840"/>
            <a:ext cx="77724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script is a program that can be executed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a web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gram can be a web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call other programs or contact other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a web 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 on the web server on behalf of the web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tend the capabilities of the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 does a script work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s the script, passes the data from the browser to the script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do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termine that the request is really a pro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cate the program and determine if i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missible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tart the script program and ensure that the input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lient will be passed to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read the output from the script and pass it back to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end an error message back to the client if something g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rong with the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lose the network connection when the scipt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files are executable script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982520"/>
            <a:ext cx="77724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er software will execute scripts only according to specific rules, as configured by the system administrator. These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 must be locate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a particular 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st have UNIX execute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can be configured to allow any file with a particular name, such as files ending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024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ing the script run: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Common Gateway Interf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8520" y="1563480"/>
            <a:ext cx="80326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GI is standard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ow scripts are to be called and how data is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ttpd daem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GI standard is actually a suite of standards, on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each operat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ipt executes a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from the browser are passed thorugh standard input and UNIX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assed back through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any possible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servers use NSAPI (Netscape Server Application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platforms use OLE or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User’s view of a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317600"/>
            <a:ext cx="8033040" cy="50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lient user would like to know how many users currently logged on in a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an account on the web server, she can login and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no account on the web server, she can run a script on the server using her web browser and this script will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 on her be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ame of the scrip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should requ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 /scripts/how_busy_are_you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ttpd server would execute the script and return the 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9pm up 21days, 4:35, 5 users, load average: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Perl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1640" y="1336680"/>
            <a:ext cx="8104320" cy="53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!/usr/local/bin/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erl script to execute UNIX ‘uptime’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$UPTIME = ‘usr/ucb/upti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(STDOUT); $| =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make the output unbuffered s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s written immediately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int the MIME type of the data tp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ontent-type: text/plain\n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run the real “uptime” and send the output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(-x $UPTIM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($UPTI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annot find uptime comman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web server’s view of scrip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1880" y="1863360"/>
            <a:ext cx="66322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a new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quest arrives from 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rver pars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other information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he method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se file, clos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to 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1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Wait for a new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880" y="2298240"/>
            <a:ext cx="79898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7:33Z</dcterms:modified>
  <cp:revision>178</cp:revision>
  <dc:subject/>
  <dc:title>Title</dc:title>
</cp:coreProperties>
</file>