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143000" y="266688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CE"/>
                <a:ea typeface="Arial CE"/>
              </a:rPr>
              <a:t>Formal Methods for Life-Critical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icky W. Butler, Sally C. Joh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sa Langley Research C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asznál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3716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nem egy mindent vagy semmit megközelítés, vagyis akkor is hasznos, ha a rendszer kritikus pontjain alkalmazzuk cs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használatával nem garantáljuk a tökéletessé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lvi hib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izikai komponens matematikai modellje nem vesz mindent figyelem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általában a formális verifikációt a költségek miatt a rendszer részeire végzik cs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használt toolba is lehet hi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eveze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3716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zoftverek nagy része élet-kritikus, vagyis a szoftver hibája folytán emberi életek, természeti értékek kerülnek veszély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l.: atomerõmûvek programjai, repülõgépek vezérlése, orvosi mûszerek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ódszerek a szoftverek hibáinak elkerülésé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iba lehetõségek csoportosítá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ndszer hiba egy fizikai komponens hibájábó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ndszer hiba egy tervezési hibábó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izikai Komponens Hi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3716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ól ismert, bejáratott technikák vannak a hiba kezelésé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dund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zavaz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egbízhatóság számítására begyakorlott technik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rkov-lánc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rvezési Hi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oblématikusabb, mint a fizikai komponens hi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árom alap lehetõség tervezési hiba kezelésé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szt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rvezési változatosság vagyis szoftver hibatûrés: N-verziós programozás, Recovery blokk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iba elkerülés: formális specifikáció és verifikáció, újra használható modulok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oblémá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2280" y="1066680"/>
            <a:ext cx="8989920" cy="57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szt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magas megbizhatósági követelmény miatt a tesztelés ideje kezelhetetlenül na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-9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hibavalószinûség eléréséhez, vagyis hogy 1 óra alatt ennyi a hiba valószinûsége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 CE"/>
                <a:ea typeface="Times New Roman CE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óráig kell tesztelni (114,000 é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rvezési változatos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gymástól független csoportok (más eszközzel, …) végzik ugyanazt a feladatot, majd szavazással/maszkolással döntenek a verziók közü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eltételezés: tervezési hibák függetlenek. Ez a feltételezés nem mindig igaz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feltételezés bizonyításának érdekében kezelhetetlen sok ideig kéne tesztelni, hogy a magas megbizhatósági szintet elérjü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a nem tételezzük fel a független hibákat, azaz azok korrelálnak, megintcsak túl sok ideig tartana a teszte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ibamentesen tervezni: Formális Módszerek segítségé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943600"/>
            <a:ext cx="457560" cy="381240"/>
          </a:xfrm>
          <a:custGeom>
            <a:avLst/>
            <a:gdLst/>
            <a:ahLst/>
            <a:rect l="0" t="0" r="r" b="b"/>
            <a:pathLst>
              <a:path w="1271" h="1059">
                <a:moveTo>
                  <a:pt x="0" y="211"/>
                </a:moveTo>
                <a:lnTo>
                  <a:pt x="0" y="847"/>
                </a:lnTo>
                <a:lnTo>
                  <a:pt x="889" y="847"/>
                </a:lnTo>
                <a:lnTo>
                  <a:pt x="889" y="1059"/>
                </a:lnTo>
                <a:lnTo>
                  <a:pt x="1271" y="530"/>
                </a:lnTo>
                <a:lnTo>
                  <a:pt x="889" y="0"/>
                </a:lnTo>
                <a:lnTo>
                  <a:pt x="889" y="211"/>
                </a:lnTo>
                <a:lnTo>
                  <a:pt x="0" y="211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Karakterisztiká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11430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tematikai logika használ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ndszer leírás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ndszer viselkedésének számítására illetve jóslásá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zigorú specifikációja akár a követelményeknek akár az implementációs részletek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tematikai bizonyítása, hogy az implementáció megfelel a tervezett absztrakt tulajdonságok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bizonyításnak érvényesnek kell lennie csak az okoskodás szinktaktikáját nézve, a szemantikától függetlenü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z az állat egy macska.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z az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   egy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   .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z összes macska dorombol.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z összes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Így az az állat dorombol.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Így az az                  .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5181480"/>
            <a:ext cx="381240" cy="228960"/>
          </a:xfrm>
          <a:custGeom>
            <a:avLst/>
            <a:gdLst/>
            <a:ahLst/>
            <a:rect l="0" t="0" r="r" b="b"/>
            <a:pathLst>
              <a:path w="1059" h="636">
                <a:moveTo>
                  <a:pt x="530" y="636"/>
                </a:moveTo>
                <a:lnTo>
                  <a:pt x="1059" y="317"/>
                </a:lnTo>
                <a:lnTo>
                  <a:pt x="530" y="0"/>
                </a:lnTo>
                <a:lnTo>
                  <a:pt x="0" y="317"/>
                </a:lnTo>
                <a:lnTo>
                  <a:pt x="530" y="636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5867280"/>
            <a:ext cx="381240" cy="228960"/>
          </a:xfrm>
          <a:custGeom>
            <a:avLst/>
            <a:gdLst/>
            <a:ahLst/>
            <a:rect l="0" t="0" r="r" b="b"/>
            <a:pathLst>
              <a:path w="1059" h="636">
                <a:moveTo>
                  <a:pt x="530" y="636"/>
                </a:moveTo>
                <a:lnTo>
                  <a:pt x="1059" y="317"/>
                </a:lnTo>
                <a:lnTo>
                  <a:pt x="530" y="0"/>
                </a:lnTo>
                <a:lnTo>
                  <a:pt x="0" y="317"/>
                </a:lnTo>
                <a:lnTo>
                  <a:pt x="530" y="636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5105520"/>
            <a:ext cx="305280" cy="228960"/>
          </a:xfrm>
          <a:custGeom>
            <a:avLst/>
            <a:gdLst/>
            <a:ahLst/>
            <a:rect l="0" t="0" r="r" b="b"/>
            <a:pathLst>
              <a:path w="848" h="636">
                <a:moveTo>
                  <a:pt x="0" y="636"/>
                </a:moveTo>
                <a:lnTo>
                  <a:pt x="848" y="636"/>
                </a:lnTo>
                <a:lnTo>
                  <a:pt x="424" y="0"/>
                </a:lnTo>
                <a:lnTo>
                  <a:pt x="0" y="636"/>
                </a:lnTo>
                <a:close/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5486400"/>
            <a:ext cx="305280" cy="228960"/>
          </a:xfrm>
          <a:custGeom>
            <a:avLst/>
            <a:gdLst/>
            <a:ahLst/>
            <a:rect l="0" t="0" r="r" b="b"/>
            <a:pathLst>
              <a:path w="848" h="636">
                <a:moveTo>
                  <a:pt x="0" y="636"/>
                </a:moveTo>
                <a:lnTo>
                  <a:pt x="848" y="636"/>
                </a:lnTo>
                <a:lnTo>
                  <a:pt x="424" y="0"/>
                </a:lnTo>
                <a:lnTo>
                  <a:pt x="0" y="636"/>
                </a:lnTo>
                <a:close/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548640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9966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57913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9966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28600" y="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Karakterisztiká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3716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logika szabályokat ad érvelések felállítására, melyek igazak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juk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miatt, é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üggetlenek a jelentésüktõl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logika szabályokat ad formulák manipulálására oly módon, hogy csak érvényes konkluziókat származtathatunk a kiindulásból. Ezt a manipulálást hívju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bizonyításnak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világról alkotott feltétele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explicitek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és elkülönültek a származtatási szabályoktó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600" y="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Karakterisztiká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280" y="1066680"/>
            <a:ext cx="8915400" cy="57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két része osztható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ecifikáció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jelöléseket használ a formális logikából, hogy leírju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rendszer körüli világról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eltételeinket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lvárásainkat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melyeket a rendszernek teljesítenie kel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rvet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hogy hogyan teljesítjük az elvárásaink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Verifikáció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a formális logika bizonyítási módszereit alkalmazza, ho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lemezzük a specifikáció konzisztenciáját és komplettségé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izonyítani, hogy az adott feltételek mellett a terv kielégíti az elvárásoka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izonyítani, hogy a részletesebb terv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egvalósítása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az absztraktabb terv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matematiká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edikátum kalkulus (1. rendû logi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iszkrét matema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ambda kalk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094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Módszerek Használatának Mérté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137160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specifikációja a rendszernek vagy egy részé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tematikai logikával, vagy formális szemantikával rendelkezõ specifikációs nyelv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kár az absztrakció több szintjé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helyesség kézi bizonyítá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ebizonyítjuk papirral és ceruzával, hogy egy részletesebb szint logikailag következik egy sokkal absztraktabb szintbõ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ális bizonyítás gépi tétel bizonyító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él-automatikus tétel bizonyítót használunk, hogy bebizonyítsuk, hogy az összes bizonyításunk érvén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inél nagyobb mértékben használunk formális módszereket,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öltségek annál nagyobb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ávorszky Judit</dc:creator>
  <dc:description/>
  <dc:language>en-US</dc:language>
  <cp:lastModifiedBy>Jávorszky Judit</cp:lastModifiedBy>
  <cp:revision>0</cp:revision>
  <dc:subject/>
  <dc:title>Formális Módszerek</dc:title>
</cp:coreProperties>
</file>