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92D-6311-4D06-9E2C-C617E2D3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1BB-B6F4-4346-8F11-C07658E5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601-8A20-4B1D-A3BB-6A244ACF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4F9-907E-4333-B3B2-52431FB9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B45-AA2B-47D0-9DDA-DE896446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34F-254F-4BCA-A9A3-5CC23A46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F27-DD5B-494A-BA87-4138BC6D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3E6-38F3-4128-9B0E-932559A3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53B-108E-4896-9DBB-8065993B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FBC-FB87-4366-9862-6F06EDF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4A3-8F62-499C-9780-5B4CBB20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272-471C-4819-B483-A6B32DAD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3CA3-C323-437D-9BF0-1E207A714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agy rendelkezésre állású számítógép architektúrá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apcsolat a külvilágg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38080" y="1981080"/>
          <a:ext cx="75661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5661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Hibamentes működ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9880" y="2128680"/>
          <a:ext cx="756576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128680"/>
                    <a:ext cx="756576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Csomóponthi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Csomóponthiba hatás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hiba „elrejtése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oftver rétegződ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7920" y="1498680"/>
          <a:ext cx="746136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498680"/>
                    <a:ext cx="746136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élda a rétegződés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7920" y="1498680"/>
          <a:ext cx="746136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498680"/>
                    <a:ext cx="746136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Unixware Reliant H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rivát hálózat kezel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kommunikác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ezérlőinformáció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mponensek monitorozá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inkroniz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lkalmazások kezel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rogrammódosítás nem k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llesztés a rendszerhez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őforrás-függőségi f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57913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13720" y="128520"/>
          <a:ext cx="221616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3720" y="128520"/>
                    <a:ext cx="22161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őforrás-függőségi f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41480" y="1822320"/>
          <a:ext cx="734688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1822320"/>
                    <a:ext cx="734688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Oracle Paralell Ser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981080"/>
          <a:ext cx="75661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5661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813720" y="128520"/>
          <a:ext cx="221616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3720" y="128520"/>
                    <a:ext cx="22161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olgáltatásminősé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42670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ndelkezésre állás: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növ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peciális hardverre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drá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reskedelmi elemekbő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imális többletkölt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57913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2485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7760" y="1460520"/>
          <a:ext cx="655956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460520"/>
                    <a:ext cx="655956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09880" y="4419720"/>
                <a:ext cx="46609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olgáltatá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ó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ó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ss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árhuzamosítás problémá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Adatkonzisztenci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biztos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konkurre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írás és olvas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zárak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kez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gyorsítótá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űköd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ersenyhelyze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old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kerülés, minimalizá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lkalmazások párhuzamosíthatósá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7920" y="2203560"/>
          <a:ext cx="7473960" cy="42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2203560"/>
                    <a:ext cx="74739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felépített rendsz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8880" y="1936800"/>
          <a:ext cx="81597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936800"/>
                    <a:ext cx="81597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37160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ámítógép klasz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ól használ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agy rendelkezésre állás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ltségkímél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namikusan, egyszerűen bővíthet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0" y="4282920"/>
          <a:ext cx="419112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282920"/>
                    <a:ext cx="41911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ltség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1981080"/>
          <a:ext cx="8640720" cy="44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64072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laszter koncepci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Klasz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autonóm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szerverek csoport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gyetle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feldolgozó egységként jelenik m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828800"/>
            <a:ext cx="31244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6992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HA biztosít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öbb számítógé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szkmigr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rivát hálóz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zös disz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tkonfigurálhatósá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81280" y="1752480"/>
          <a:ext cx="535968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752480"/>
                    <a:ext cx="535968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002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ineáris </a:t>
            </a: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skálázhatósá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teljesítmé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sávszéles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 legyen a rendszernek kritikus pont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utomatik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hibadetektá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hibakorrekc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újrakonfigurá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újraindí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236232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ndelkezésre ál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Hardver felépít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2438280"/>
          <a:ext cx="756612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38280"/>
                    <a:ext cx="756612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0" y="1447920"/>
            <a:ext cx="449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(egyszerűsített mode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utonóm szerver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38080" y="1905120"/>
          <a:ext cx="7566120" cy="42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6612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zös diszk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38080" y="1371600"/>
          <a:ext cx="75661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5661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429000" y="54864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rheléselosz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szkmigr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5410080"/>
            <a:ext cx="1905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Szerep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rivát hálóz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22240" y="1447920"/>
          <a:ext cx="7566120" cy="52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447920"/>
                    <a:ext cx="756612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3T08:00:52Z</dcterms:created>
  <dc:creator>Zoli</dc:creator>
  <dc:description/>
  <dc:language>en-US</dc:language>
  <cp:lastModifiedBy>Pataricza András</cp:lastModifiedBy>
  <cp:lastPrinted>1998-11-03T17:57:18Z</cp:lastPrinted>
  <dcterms:modified xsi:type="dcterms:W3CDTF">1999-10-15T08:57:52Z</dcterms:modified>
  <cp:revision>31</cp:revision>
  <dc:subject/>
  <dc:title>Nincs diacím</dc:title>
</cp:coreProperties>
</file>