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936800" y="2092320"/>
            <a:ext cx="5283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dicate logic-based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43280" y="3200400"/>
            <a:ext cx="52578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-based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6720" y="2622600"/>
            <a:ext cx="54547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and internal view of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90880" y="2303640"/>
            <a:ext cx="4962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sting the notion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and objects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6280" y="3133800"/>
            <a:ext cx="63896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ing computational models, languages and architectur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43280" y="2895480"/>
            <a:ext cx="525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247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sequence of the evolution of a computational model and the corresponding languages and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35160" y="2784600"/>
            <a:ext cx="3071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n Neumann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43280" y="3002040"/>
            <a:ext cx="52578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and examples of the von Neumann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43280" y="2330280"/>
            <a:ext cx="52578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flow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3280" y="2925720"/>
            <a:ext cx="52578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of dataflow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43280" y="2610000"/>
            <a:ext cx="52578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icative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43280" y="2849400"/>
            <a:ext cx="52578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interpretation of the applicative model of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52560" y="21337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tion of first and higher-ord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66920" y="2417760"/>
            <a:ext cx="64101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teway 2000 Licensed User</dc:creator>
  <dc:description/>
  <dc:language>en-US</dc:language>
  <cp:lastModifiedBy>Gateway 2000 Licensed User</cp:lastModifiedBy>
  <cp:revision>0</cp:revision>
  <dc:subject/>
  <dc:title>Computational Models</dc:title>
</cp:coreProperties>
</file>